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04B-6C93-4D88-858B-BBB8D126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F83-32E1-48DE-BCC2-48EB1C73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1E5-388F-4417-9852-B1CB9ACD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700-FEF0-476A-BA59-AFD17EBA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F1E3-8A65-4DC0-BA27-040E0960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BA2C-DDB6-4F79-AA10-F1117C0D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2EAC-36EF-4CC4-B12A-2F177E6E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B315-C2AF-49D6-87B5-B38D0DC8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E68B-0445-4F4F-B8DF-21F4047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4D77-7A82-4678-99F9-61F2B962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BD64-8E31-4C87-9105-2C637902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DCB-6915-49EE-808A-1B921178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754E-17CD-4569-BB5D-9C2088B1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054-4830-4C3D-A784-45BBF17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D75C-057D-46DF-914C-018923AB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2453-02E5-4742-BB84-DE1D7274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11D-4B10-4F25-A2A6-65ACB79B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D520-CCD2-422A-826A-DC25B0F1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0F15-36A1-4D6A-8034-18E9C137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4ACF-61B9-4B0E-AD99-101FD4A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1038-B518-4894-927D-18829E84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3E35-B07C-407C-B292-BCAA1BA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24E-9128-41F9-BA80-F2520AA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D2614-CA43-4F10-A703-39E29828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7563-A75E-4938-BD11-3D2DD481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1A03-9813-43DD-928C-7C044642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A70D-73E8-4AEF-B327-A5F88A6E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7D501-0C10-45DE-8231-04D95028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BBEB2-8FC5-458B-BA8F-BC25FA1D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D353-C53E-4F39-85EF-3DE98C1B2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359C-671D-4A27-A60E-E85E8BC0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B25D-F91B-47FA-BA8D-4EF6051A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1940-7B9C-4C5C-90B4-56CECC73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7F8-7FB1-48D2-B07A-4ABB6607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4C2D7-4847-48F0-89A1-A889E4C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603C-A8C0-463E-8599-466EBF9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DF27-1114-4503-A1C0-9D0EE2DC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AC4B5-C1BA-40C7-8AB1-DE2C6C5C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ECCA2-15AA-4FEF-8E2E-6059ED0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328F-B6F8-42E5-8809-335D771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C8C51-84B0-40E8-B902-DFB89E4C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D782-C5C7-4E48-92FF-AF95769D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8F87-A398-4CE3-9A45-755B476B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550E2-B126-4A35-9C84-99733A17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43E-415C-4A52-8178-994F9011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41E1-8FAD-4CCE-91B5-A54FCCD6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0B95-2668-4AD2-BE84-E5F07BBF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3C27D-DD96-4ECB-830D-2A91A915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C17E-0976-4955-9522-5B98272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A4F9-DD31-426C-A512-32376B89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0218F-93B4-4259-9E2C-EC9D86E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09DD-BB2D-49AD-AA12-81CBD73C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86A9-0FEA-4BC1-8453-9C303B4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03A1-E2ED-4967-8145-B6DF114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4E5D-AF37-4A4E-A858-46851E52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CA8-DE8E-4B9B-BFD6-98EADD5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9239A-E341-4AF3-8074-F89840DE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5EC4B-D9EE-434E-9796-4E34EC34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B4640-F7B4-4257-BF4A-E5450F5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0F65-CFE8-4967-8432-16E523E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9816D-D5AC-4038-A7CA-88EF89F4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3AC7C-E775-4BAD-86E6-91BB0813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EFEA5-0C8A-49BB-8870-548583CB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A862-1E14-45FC-BA96-1C3719D0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68961-2D16-4AB1-B1CD-04FF94C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8CB42-064B-4A52-9ECC-0C53372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98E-DCEA-466B-8E52-210A873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AE65-A6C1-4363-A94A-9E9F63E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6C34C-7CFE-4386-B9DC-0BF6725C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0CA66-EFBE-4638-8366-061DA75C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943C-1AFD-44C7-A075-AE577C8F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53123-4F68-419E-82D0-6879ED4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09FB-8CCD-45ED-91D0-A05AD150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9879B-B201-49AA-8FC1-AD9967E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2B6C-EC0D-4665-98F0-D3B5143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D9975-CEB2-44F4-8D19-6B756A97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542FD-DD29-4D63-B366-FEBEDB7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F22-1CC1-4284-BCD4-658CAB94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24B18-9F21-4837-9975-A8D1698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27067-4D67-4AA7-9834-28ED940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2A5F-F404-4216-9D95-FC8F675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CBFB7-5431-4847-9EDF-BF733563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2A398-5F40-4110-83D3-4472F334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228-7F0D-4BF2-9219-4BCF9BC5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418E-3A53-4069-A472-223D1FFB77D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5B5E-62CF-45BF-813D-037CF68CA51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2136-4BE6-408F-B309-11FCD766C13D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829F-7EBA-421A-96C5-DCA96F66D1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6CA-B4C9-43F6-A71B-DB38847E7BC8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84C7-88DA-4FBB-80D7-768C37BCA5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5891-6900-4867-8E01-8728C07B291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8D0-DA75-4796-9031-6A1F128B17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73AA-270C-4744-B0A9-822B9E36EDE7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509D-5943-4549-8982-FB013152F3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109-0F85-4F6A-840D-674659E7019B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435E-DCD0-4F91-B1F8-2447C30564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3963-9CD0-4CC5-B26E-4ECD9FBCA6A1}" type="datetime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7262-F99E-4BD6-9EDD-2DD31C065EC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2;&#1054;&#1044;&#1045;&#1051;&#1068;.docx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162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1600"/>
            </a:b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пыт развития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 в Угличском муниципальном районе Ярославской област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3809880" y="426672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ронина Татьяна Михайл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директор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агрова Наталия Владимировна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, заместитель директора ГУ ЯО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981080" y="228600"/>
            <a:ext cx="61722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Номер слайда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79D3-CE57-4310-A56E-61FE0C4855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8960" y="213372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: Воронина Татьяна Михайл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: Багрова Наталия Владимировн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, факс: 8(48532)2-02-36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-ugl.edu.yar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8601-D34F-4C9D-8C1A-82BFB986DC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1294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Этапы истории: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015 год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828440"/>
            <a:ext cx="7499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 ЯО «Угличский детский дом» – региональная инновационная площадка проек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служб медиации в образовательных организациях Ярославской области»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департамента образования Ярославской области № 217/01-03 от 12.03.2015г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BBE-7DD4-4B9B-A0D1-E42EDECEE12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ая служба примирения Угличского МР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23880" y="2514600"/>
            <a:ext cx="71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ициирование создания и содействие в деятельности Служб примирения в Угличском муниципальном районе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2438280" y="228600"/>
            <a:ext cx="54864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998-6A83-4A4F-9EE2-D5C0229D1B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492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одель Территориальной службы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Содержимое 5" descr=""/>
          <p:cNvPicPr/>
          <p:nvPr/>
        </p:nvPicPr>
        <p:blipFill>
          <a:blip r:embed="rId1"/>
          <a:srcRect l="37663" t="43815" r="36530" b="22674"/>
          <a:stretch/>
        </p:blipFill>
        <p:spPr>
          <a:xfrm>
            <a:off x="2743200" y="2590920"/>
            <a:ext cx="4876920" cy="28954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6"/>
          <p:cNvSpPr/>
          <p:nvPr/>
        </p:nvSpPr>
        <p:spPr>
          <a:xfrm>
            <a:off x="2743200" y="2590920"/>
            <a:ext cx="4876920" cy="2895480"/>
          </a:xfrm>
          <a:prstGeom prst="rect">
            <a:avLst/>
          </a:prstGeom>
          <a:noFill/>
          <a:ln w="2844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Стрелка вправо 7"/>
          <p:cNvSpPr/>
          <p:nvPr/>
        </p:nvSpPr>
        <p:spPr>
          <a:xfrm>
            <a:off x="7010280" y="6095880"/>
            <a:ext cx="1828800" cy="533520"/>
          </a:xfrm>
          <a:prstGeom prst="rightArrow">
            <a:avLst>
              <a:gd name="adj1" fmla="val 50000"/>
              <a:gd name="adj2" fmla="val 49989"/>
            </a:avLst>
          </a:prstGeom>
          <a:noFill/>
          <a:ln w="25560">
            <a:solidFill>
              <a:srgbClr val="4b3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2"/>
              </a:rPr>
              <a:t>Модель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Номер слайда 8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67BB-C88D-4D4B-B5F4-A4C9BE959E3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еханизм реализации модели 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66320" y="2361960"/>
            <a:ext cx="786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бильная группа при ТКДНиЗП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сстановительная работа со случаями, информация о которых поступает в комиссию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тнерстве с представителями субъектов профилактики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урегулировании конфликтов в образовательных учреждениях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A689-CA4F-4CE0-BBE5-14895213CC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45920" y="13712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а примирения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У ЯО «Угличский детский дом»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71600" y="3200040"/>
            <a:ext cx="7562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конфликтных ситуаций, возникающих между субъектами воспитательного процесса в Угличском детском доме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5554-745A-4657-9D87-7344D8F3A0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ужбы примирения в ОО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23520" y="1828440"/>
            <a:ext cx="741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, возникающих в образовательных отношениях учреждений Угличского муниципального района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деятельности Служб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восстановительных програм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о школьным сообществом;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оддерживающей среды для участников службы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E441-C80D-4924-82DF-0CD7D81187B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олонтерские группы медиаторов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95280" y="2514600"/>
            <a:ext cx="7639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урегулирование конфликтных ситуаций между субъектами образовательных и воспитательных отношений на территории Угличского муниципального район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волонтерских групп входят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ы ГОУ СПО ЯО Угличского индустриально-педагогического колледж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из числа заинтересованной общественност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59E9-7F01-4E51-80CC-230D6B7CE79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тоги деятельности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Территориальной службы примирения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143000" y="2370240"/>
          <a:ext cx="7772400" cy="4487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уктурное подразделение Служ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зультаты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cca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ая группа при ТКДНиЗ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восстановительных программ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жба примирения ГУ ЯО «Угличский детский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восстановительные программы, примирение сторон во всех случа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ая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рганизационных совещан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обучающих семинар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пыта развития Территориальной службы примирения на разных уровня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на сайт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dec9"/>
                    </a:solidFill>
                  </a:tcPr>
                </a:tc>
              </a:tr>
            </a:tbl>
          </a:graphicData>
        </a:graphic>
      </p:graphicFrame>
      <p:sp>
        <p:nvSpPr>
          <p:cNvPr id="354" name="Прямоугольник 4"/>
          <p:cNvSpPr/>
          <p:nvPr/>
        </p:nvSpPr>
        <p:spPr>
          <a:xfrm>
            <a:off x="2209680" y="228600"/>
            <a:ext cx="5715000" cy="6426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учреждение Ярослав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Угличский детский дом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Номер слайда 6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16F-A4A4-4BAC-AC47-05FCFE7C9F2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1T11:29:28Z</dcterms:created>
  <dc:creator>User</dc:creator>
  <dc:description/>
  <dc:language>en-US</dc:language>
  <cp:lastModifiedBy>Ольга Владимировна Чиркун</cp:lastModifiedBy>
  <dcterms:modified xsi:type="dcterms:W3CDTF">2016-11-09T10:26:26Z</dcterms:modified>
  <cp:revision>93</cp:revision>
  <dc:subject/>
  <dc:title>Опыт развития  Территориальной службы примирения в Угличском муниципальном районе Ярославской области</dc:title>
</cp:coreProperties>
</file>