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D967-EA31-4278-8FF1-E9A8680D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6D21-A9BD-467C-961F-A487D50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B1FD-E6BE-4F20-9990-9E93449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F3C4-8CB0-4A17-A2F7-A2E66376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BF0-1FB0-410B-AA3B-AF3FD806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092-6D9A-4D6F-A972-A93BBD7B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74A-AC7C-4200-A519-B2B855B0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ACEE-A6FD-499F-AE36-02EDF3C3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A740-5856-4F6C-BE57-E363F8D0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D54-51FA-49A0-8567-9CA6EB3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36B7-98D7-43AE-9E05-2742DB5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8681-A252-4524-819F-2A406B8A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A95D-4C88-47F4-9018-E14A6545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0654-8848-4AA8-A337-EA32350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195B-A964-415F-A3CE-F1DACD0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E51-C91C-40BF-8951-C8524FD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212F-FE96-4B26-97E7-BA2C90DB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8CC7-8414-47D9-B3C6-F612A487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D58A-8761-41EA-AD27-891E818A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54BB-B5BE-4206-9229-BE33ED43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199C-9C4D-45AC-9016-C42E35A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1750-0512-4C04-B197-A6FFD60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76E3-A0B9-4C06-9278-9059F747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C253-4E0A-49CF-9BD0-6B74644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27A-7537-42BC-9F45-1776387296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4A41-9AC1-4909-89F4-E81F7BD37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2900"/>
                </a:solidFill>
                <a:latin typeface="Arial"/>
              </a:rPr>
              <a:t>Воспитание семейных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20.01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азарова Инна Григорьевна, заведующий кафедрой общей педагогики и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http://cs620728.vk.me/v620728597/2694/UkFEvQNSolc.jpg"/>
          <p:cNvPicPr/>
          <p:nvPr/>
        </p:nvPicPr>
        <p:blipFill>
          <a:blip r:embed="rId1"/>
          <a:stretch/>
        </p:blipFill>
        <p:spPr>
          <a:xfrm>
            <a:off x="2843280" y="333360"/>
            <a:ext cx="3047760" cy="20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чи курсов для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а и потребности, повышение мотивации учиться роди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развитию ключевых компетенций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а обобщенно-позитивных образов семьи, отца, матери, родного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развитию навыков родительского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чувства Родины через изучение истории своего рода, родного края, сво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801800" y="1197000"/>
          <a:ext cx="5540400" cy="5675400"/>
        </p:xfrm>
        <a:graphic>
          <a:graphicData uri="http://schemas.openxmlformats.org/drawingml/2006/table">
            <a:tbl>
              <a:tblPr/>
              <a:tblGrid>
                <a:gridCol w="5540400"/>
              </a:tblGrid>
              <a:tr h="600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й псих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укла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пра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2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емейного воспит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семьи, история ро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4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здорового образа жизни и содержательного досу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формы взаимодействия  семьи и образовательной организ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ейный бюдж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Успехов! Приглашаем к сотрудничеств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2"/>
          <a:stretch/>
        </p:blipFill>
        <p:spPr>
          <a:xfrm>
            <a:off x="468360" y="1481040"/>
            <a:ext cx="8207280" cy="46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нализ социальной ситу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d4e"/>
                </a:solidFill>
                <a:latin typeface="Arial"/>
              </a:rPr>
              <a:t>Изменился вектор семейных цен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чезло почита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к истории своего рода и сво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ел разрыв связи между поко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ья, её уклад и традиции,  для большинства молодых людей перестали быть ц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телей сформировалась потребительская позиция по отношению к государству, а по отношению к своему ребенку – безответ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ГОС и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бщественный 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ое закрепление роли родителей в жизни 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и принятие локальных актов ОО, обеспечивающих государственно – общественный характер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в совместную творческую деятельность, направленную на создание нравственного уклада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родителей в решении задач, поставленных Стандар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менение родительской ро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ици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ш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ы собственным де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деятельност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торы социальных прак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дачи О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ое закрепление роли родителей(договор, соглашение, локальные а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провождение и просвещение(форум на сайте О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оциального заказа родителей к содержанию и реализации части, формируемой участниками ОП(анкетирование, диагностика, опрос, переговорная площадка, фокус-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влечение родителей(законных представителей) в процессе реализации образовательного процесса в 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чить быть роди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количества раз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ультурного уровня взрослого и детск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словий для самостоятельного решения семьей своих социальны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государственно-обществен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ая оценка качества образователь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вернуть» родителей лицом к  ОО, совместно искать решения возникающи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едпосылки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d4e"/>
                </a:solidFill>
                <a:latin typeface="Arial"/>
              </a:rPr>
              <a:t>Педагогическое просвещение родителей позв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отно выстроить детско-родительски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адить психологический климат в родительском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ться к таким традиционным семейным ценностям, как любовь, верность, забота, честь, достоинство, ответственность, почитание старших, знание и уважение своей  родосл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саморазвития и совершенствования в выполнении главнейшей социальной функции – функции семьянина и р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ормирование позитивной родительской поз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одительская пози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отношений родителя к себе, к своему ребенку, к семье, к своему роду,  к своей малой и большой Родине, к учителю, к образовательной организации, к образованию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урсы для родителей ориентируют 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41300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позитивных детско-родитель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 споров и конфликтных ситуаций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у семейного неблагополучия и социального сиро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правовой культуры в области семей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повышение экономической грамотности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тветственной и позитивной родительской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аганду семейных традиций и ценностей российско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9:01:42Z</dcterms:created>
  <dc:creator>Hope</dc:creator>
  <dc:description/>
  <dc:language>en-US</dc:language>
  <cp:lastModifiedBy>Инна Назарова</cp:lastModifiedBy>
  <dcterms:modified xsi:type="dcterms:W3CDTF">2016-01-19T18:40:05Z</dcterms:modified>
  <cp:revision>93</cp:revision>
  <dc:subject/>
  <dc:title>   Управление образования Администрации РМР   МОУ Центр психолого-медико-социального сопровождения детей</dc:title>
</cp:coreProperties>
</file>