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EDB-B6D8-4D00-A23A-E84FB124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32BF-F91F-444C-9566-238EBDF7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4B4-275D-44CF-97E5-C0E13E0B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4E5E-66F3-4170-A641-5849AB7B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312-1E00-43B0-A301-4D9B843B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7F0-A295-4921-8F3E-D49911FC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3C3-5173-4D2E-B102-94932E15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6BB5-937C-4FB7-ADB2-8E6D9FC6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802-37C8-40DB-8949-F40FD041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6496-8382-4203-B3B0-6B70CD1E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270-851A-4E7A-846E-C2D81805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6BCA-268F-441F-A927-00BA4582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D3C3-08B3-4B51-AC11-15DED6E592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М.В. Ломоносов – великий учёный и челове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848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ачальная школ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X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е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ДАЧИ НАМ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овательн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едметны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здают словесный портрет М.В. Ломоносова как человека и учё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зывают этапы жизни М.В. Ломоно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зывают открытия, сделанные учёным в разных областях нау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овательн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Метапредметные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находят необходимую информацию в различных информационных источника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контролируют собственные действия в соответствии с алгоритмом построения тек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оценивают себя и своих одноклассников по заданным критерия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высказывают собственные суждения и обосновывают и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работают в группе, выполняя порученную роль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ичност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-наличие потребности к саморазвитию  на примере жизни великого учёного М.В. Ломоно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овательн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навыка составления словесного портрета посредством поиска информации в различных источни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1285920" y="1428840"/>
            <a:ext cx="614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лавная идея реализации содерж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чем основан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ана на интересе детей, вызванном просмотром филь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со-бытий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Составляем словесный портрет  М.В. Ломоносо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я учебной деятельности на уро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8000" y="836640"/>
          <a:ext cx="8856720" cy="7670880"/>
        </p:xfrm>
        <a:graphic>
          <a:graphicData uri="http://schemas.openxmlformats.org/drawingml/2006/table">
            <a:tbl>
              <a:tblPr/>
              <a:tblGrid>
                <a:gridCol w="1727280"/>
                <a:gridCol w="5113080"/>
                <a:gridCol w="2016360"/>
              </a:tblGrid>
              <a:tr h="64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собы организации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идак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рмирование потре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 фрагмента документального фильма о М.В. Ломонос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о герое  филь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окументальный фильм «М.В. Ломоносов. Путь в наук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7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ормирование образа желаемого результ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новка уточняющего вопроса «Как можно представить полученные знания, что может быть продуктом нашей деятельности в конце урока?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суждение в полилоге  образа желаемого результа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тив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о том, где могут пригодиться полученные зн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елеполаг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туативная  бесе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вместное  составление плана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7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полнение дейст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бота в группах с разными источниками информации. Составляют рассказ по предложенному план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ебник, энциклопедии, научно-познавательная 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нализ результ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мооценка и взаимооценка выполненной работы группы по совместно выработанным критерия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со-бытийност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8568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ые  методы организации учебной деятельности соответствуют требованиям деятельностного подхо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ые методы соответствуют  со-бытийному подход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грамотность проекта со-бытия: проект разработан в соответствии с основными этапами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 проекта со-бытия: при реализации  со-бытия был создан продукт совместной деятельности «Словесный портрет М.В. Ломоносов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выводы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ыла чётко организована деятельность   детей по созданию совместного продукт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ащиеся сумели сформулировать цель собственной  деятельности, наметили пути её достижени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мели распределить роли при работе в группах, оценить результаты  деятельности  группы и презентовать полученный продук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нее проработан оказался этап планирования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2T16:26:22Z</dcterms:created>
  <dc:creator>Ольга Вячеславовна Тихомирова</dc:creator>
  <dc:description/>
  <dc:language>en-US</dc:language>
  <cp:lastModifiedBy>Windows User</cp:lastModifiedBy>
  <dcterms:modified xsi:type="dcterms:W3CDTF">2016-03-28T17:01:38Z</dcterms:modified>
  <cp:revision>26</cp:revision>
  <dc:subject/>
  <dc:title>«Играем сказку»</dc:title>
</cp:coreProperties>
</file>