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82DD-8A4B-4091-AD9E-11106C5FB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6359-4EE2-47AC-8C68-07DD8EDF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802A-A62F-4B29-A9C3-E0743E68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B89E-6744-41BF-90BA-3EAF1F8BA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A4A3-FB05-4DAB-9C51-19664D0B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90D7-9BB5-4217-8EBD-02D0307F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ACF2-49BA-497C-8B3B-6C5CF83A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7E4E-0A9A-422A-A2C9-EA2E70EB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EE33-336B-4C48-82E6-E84A524B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E17D-E53B-41D0-95F8-DBDBDFAD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2DEA-1A5C-4E83-84C9-11AFC160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A9A1-02F0-4E9E-B7A8-EF40E16D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BBB6-C3E7-4325-9B8A-88BB04D5AD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83;&#1080;&#1095;&#1085;&#1086;&#1089;&#1090;&#1085;&#1099;&#1077;%20&#1088;&#1077;&#1079;&#1091;&#1083;&#1100;&#1090;&#1072;&#1090;&#1099;.doc" TargetMode="External"/><Relationship Id="rId2" Type="http://schemas.openxmlformats.org/officeDocument/2006/relationships/hyperlink" Target="file:///&#1084;&#1077;&#1090;&#1072;&#1087;&#1088;&#1077;&#1076;&#1084;&#1077;&#1090;&#1085;&#1099;&#1077;%20&#1088;&#1077;&#1079;&#1091;&#1083;&#1100;&#1090;&#1072;&#1090;&#1099;.doc" TargetMode="External"/><Relationship Id="rId3" Type="http://schemas.openxmlformats.org/officeDocument/2006/relationships/hyperlink" Target="file:///&#1087;&#1088;&#1077;&#1076;&#1084;&#1077;&#1090;&#1085;&#1099;&#1077;%20&#1088;&#1077;&#1079;&#1091;&#1083;&#1100;&#1090;&#1072;&#1090;&#1099;.doc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дставление рабочих материалов по итогам КПК детей с ОВ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териалы подготовили: Аксенова Дарья Валерьевна, заместитель директора по ВР, педагог — психолог, МОУ Лучинская СШ ЯМ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ухалова Людмила Владимировна, учитель русского языка и литературы, МОУ Лучинская СШ ЯМР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ылова Светлана Юрьев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учитель начальных классов, МОУ Большесельская СОШ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нько Марина Александровна, учитель  началь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лассов, заместитель директора по УВР, средняя школа № 44 г. Ярослав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6048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я учебной дея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95280" y="765000"/>
          <a:ext cx="8424720" cy="5646960"/>
        </p:xfrm>
        <a:graphic>
          <a:graphicData uri="http://schemas.openxmlformats.org/drawingml/2006/table">
            <a:tbl>
              <a:tblPr/>
              <a:tblGrid>
                <a:gridCol w="1368360"/>
                <a:gridCol w="3240000"/>
                <a:gridCol w="3816360"/>
              </a:tblGrid>
              <a:tr h="648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апы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оды и приемы для  детей с норм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оды и приемы для  детей с ЗП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ирование потреб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мотр видеофильм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седа «Зачем нужно знать ПДД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щение к личному опыту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 желаемого результ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седа «Как мы можем помочь малышам научиться переходить проезжую часть». Согласование образца, выбор наглядного материала для составления памят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седа «Как мы можем помочь малышам научиться переходить проезжую часть». Показ конкретного образца, выдача наглядного материала для изготовления памят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т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тивизация личного опыта, создание ситуации успеха через принятие необходимости создания памятки для дошкольников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тивизация личного опыта, создание ситуации успеха через оказание учителем помощи  в  создании памятки для дошкольник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еполаг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очняющий вопрос учителя, приводящий к четкой совместной формулировке. Фиксация цел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ксация цели ребенком с помощью прикрепления карточе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н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тавление совместного плана, фиксац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ксация ребенком плана на доске с помощью прикрепления карточе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 в группах по выбору дорожных знаков, необходимых для пешеходов. Фронтальная работа с моделью светофора. Оформление и представление памятк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 в конкретной группе с выданным материалом (знаками). Участие в оформлении и представлении памят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 результ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беседе повторяем цель и определяем степень достигнутости. Подчеркивание личного вклада каждого в образование. Самоанализ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черкивание личной значимости ребенка на конкретном уроке. Самооценка по критериям, данным учителе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1403280" y="2492280"/>
            <a:ext cx="53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Желаем удач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дполагаемые результаты обучения детей с ОВ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684360" y="2133720"/>
            <a:ext cx="56880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Личност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Метапредмет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3"/>
              </a:rPr>
              <a:t>Предмет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ематическое планирование рабочей программы по предмету (окружающий мир, начальная школа 21 века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95280" y="1557360"/>
          <a:ext cx="8280360" cy="5102280"/>
        </p:xfrm>
        <a:graphic>
          <a:graphicData uri="http://schemas.openxmlformats.org/drawingml/2006/table">
            <a:tbl>
              <a:tblPr/>
              <a:tblGrid>
                <a:gridCol w="1655640"/>
                <a:gridCol w="1657440"/>
                <a:gridCol w="1655640"/>
                <a:gridCol w="1656000"/>
                <a:gridCol w="1655640"/>
              </a:tblGrid>
              <a:tr h="4222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ъем (час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ы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ч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обучения в класс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на обучение со специ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ие. Этот удивительный ми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 - школь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с дефектологом или логопед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7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прир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+2+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, тьютор, логоп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ь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 люд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пед, тью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ша страна – Россия. Родной кра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1+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ьютор, психолог, логоп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е здоровь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культуры, психоло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и другие лю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, логоп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мер поурочного  планир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573120"/>
          <a:ext cx="8435880" cy="6026040"/>
        </p:xfrm>
        <a:graphic>
          <a:graphicData uri="http://schemas.openxmlformats.org/drawingml/2006/table">
            <a:tbl>
              <a:tblPr/>
              <a:tblGrid>
                <a:gridCol w="1687680"/>
                <a:gridCol w="1685880"/>
                <a:gridCol w="1687320"/>
                <a:gridCol w="1687680"/>
                <a:gridCol w="1687320"/>
              </a:tblGrid>
              <a:tr h="111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зовательные результ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укт учеб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ользуемые методы и при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дак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06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а го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зывает времена года, осенние месяц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пределяет последовательность времен года, различает и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с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нает правила поведения в ученическом коллектив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меет представление об учебном сообществ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предме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оставляет коллаж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ланирует учебную деятель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ективный творческий проект – коллаж «Золотая осень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с привлечением личного опыта «Как мы можем украсить школу к осеннему балу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е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ик, дневник наблюдений, журналы, книги, стихи об осен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549360"/>
          <a:ext cx="8229600" cy="5973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97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ила поведения на дорог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ме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правильно переходит проезжую часть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знает значение сигналов светофор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выполняет ПД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чнос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знает одно из правил безопасной жизн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имеет представление о личной ответственности за свои поступ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тапредме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составляет памятку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имеет представление о знаково–символических средствах представлениях информации (дорожные знак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мятка в картинках по ПДД для воспитанников детского сад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седа «Зачем нужно соблюдать правила поведения на дороге», «Кто может не знать правил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глядный материал (картинки для памятк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монстрация видеофрагмен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хождение интерактивного тес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бники, ИКТ, индивидуальный раздаточный материал (светофор, знаки, зебра и т.д.), учебный фильм, игра по П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404640"/>
          <a:ext cx="8229600" cy="56883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688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фессии люд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ме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знают названия профессий работников школ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различают особенности деятельности людей разных професс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чнос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понимают важность каждого человека в обществ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тапредме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составляет схему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сравнивает и обобщает  знания о профессия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хема «Люди каких профессий работают в школ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блюд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скурсия по школ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монстрация видеофрагмен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лечение жизненного опы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дактическая игр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КТ, «скелет» схемы, наглядность (картинк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ект инклюзивного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611280" y="1700280"/>
            <a:ext cx="770580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Тема урока из рабочей программ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равила поведения на доро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УМК: Начальная школа 21 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-ый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едполагаемые результа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95280" y="1557360"/>
          <a:ext cx="8353440" cy="4922640"/>
        </p:xfrm>
        <a:graphic>
          <a:graphicData uri="http://schemas.openxmlformats.org/drawingml/2006/table">
            <a:tbl>
              <a:tblPr/>
              <a:tblGrid>
                <a:gridCol w="4176720"/>
                <a:gridCol w="4176720"/>
              </a:tblGrid>
              <a:tr h="779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и с нормой разв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и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446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чностны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ает правило безопасной жизни – дорожные знаки, необходимые для безопасного пребывания на улице. Имеет представление об ответственном поведении на дорог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знает среди предложенных дорожные знаки, необходимые для безопасного пребывания на улице. Имеет представление об ответственном поведении на дорог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апредметны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тавляет памятку. Имеет представление о знаково – символических средствах представления информации – знает дорожные знаки, регулирующие поведение пешеходов на дорог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азывает помощь в составлении памятки (выстригает, раскрашивает, приклеивает). Знакомится со знаково – символическими средствами представления информации –дорожными знак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ны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94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ает дорожные знаки, необходимые для безопасного пребывания на улице, переходит проезжую часть в соответствии с правилами дорожного движ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воение правил поведения пешехода на дороге посредством создания памятки – рисунка «Правила поведения на дороге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3T07:23:05Z</dcterms:created>
  <dc:creator>student</dc:creator>
  <dc:description/>
  <dc:language>en-US</dc:language>
  <cp:lastModifiedBy>О.Г. Воронина</cp:lastModifiedBy>
  <dcterms:modified xsi:type="dcterms:W3CDTF">2016-04-25T10:09:23Z</dcterms:modified>
  <cp:revision>12</cp:revision>
  <dc:subject/>
  <dc:title>Представление рабочих материалов по итогам КПК детей с ОВЗ</dc:title>
</cp:coreProperties>
</file>