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C5EF9-7C0D-4367-975A-0209E12CE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0DF70-4839-49A3-85CB-BA3D6D7AE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F856A-6632-4204-B64C-ED104CDAC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68673-3241-4301-8FEC-CEDF70D8C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1AC86-04DB-405A-B308-91DDB3E03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33A65-F1B5-4CC3-8763-CCA47F630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1A711-E106-4374-B804-10B85D7AC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1D65F-0D43-4750-A88E-BF2A299F0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BA614-B2E3-4043-9614-2407C8A31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34450-E66D-4569-8F9C-907CE496E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FA1CF-5158-43F0-879D-219FEF2AF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C8CB6-614A-47C5-9136-4FBBA0B44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FE4B0-DF4B-40D6-861B-6DDE5ECCD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C4C45-161E-4048-A842-76528BB34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BF049-0487-4410-9AB7-663CE7273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CF529-52F2-4F95-A391-7AE644E21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0A3EE-9E1F-4017-BA0B-5C4235569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E152E-92EC-4118-A6BA-DDA748AF1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31507-9E4F-4DB4-AEB3-152AFB076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69192-A4D9-4625-A176-911DEF456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4AEBA-3726-4161-891C-CC27ABED2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B2F6B-C70E-460B-B937-DDD2FE2F1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329DC-860A-4957-B993-E1EC565FD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B57FF-2E9C-4C01-BC3E-598F23AF5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65011-D992-479D-A4CC-686A9EE0027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95C71-4E84-48CC-BAE1-23B31828FDD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87280" y="1628280"/>
            <a:ext cx="7056720" cy="187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6666"/>
                </a:solidFill>
                <a:latin typeface="Arial"/>
              </a:rPr>
              <a:t>Как люди узнали о магните</a:t>
            </a:r>
            <a:endParaRPr b="0" lang="en-US" sz="5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324000" y="4149720"/>
            <a:ext cx="5472000" cy="19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Дементьев Михаил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4В класс СОШ №1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г. Гаврилов Ям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31"/>
          <p:cNvSpPr/>
          <p:nvPr/>
        </p:nvSpPr>
        <p:spPr>
          <a:xfrm>
            <a:off x="1660680" y="722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87280" y="692280"/>
            <a:ext cx="7632720" cy="102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95280" y="1773000"/>
            <a:ext cx="83534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5" name="Picture 36" descr=""/>
          <p:cNvPicPr/>
          <p:nvPr/>
        </p:nvPicPr>
        <p:blipFill>
          <a:blip r:embed="rId1"/>
          <a:stretch/>
        </p:blipFill>
        <p:spPr>
          <a:xfrm>
            <a:off x="2556000" y="1125360"/>
            <a:ext cx="4786200" cy="51166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37" descr=""/>
          <p:cNvPicPr/>
          <p:nvPr/>
        </p:nvPicPr>
        <p:blipFill>
          <a:blip r:embed="rId2"/>
          <a:stretch/>
        </p:blipFill>
        <p:spPr>
          <a:xfrm>
            <a:off x="2484360" y="3500280"/>
            <a:ext cx="1870200" cy="13258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38" descr=""/>
          <p:cNvPicPr/>
          <p:nvPr/>
        </p:nvPicPr>
        <p:blipFill>
          <a:blip r:embed="rId3"/>
          <a:stretch/>
        </p:blipFill>
        <p:spPr>
          <a:xfrm>
            <a:off x="611280" y="3789360"/>
            <a:ext cx="1869840" cy="13255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39" descr=""/>
          <p:cNvPicPr/>
          <p:nvPr/>
        </p:nvPicPr>
        <p:blipFill>
          <a:blip r:embed="rId4"/>
          <a:stretch/>
        </p:blipFill>
        <p:spPr>
          <a:xfrm>
            <a:off x="6372360" y="4221000"/>
            <a:ext cx="1869840" cy="13258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40" descr=""/>
          <p:cNvPicPr/>
          <p:nvPr/>
        </p:nvPicPr>
        <p:blipFill>
          <a:blip r:embed="rId5"/>
          <a:stretch/>
        </p:blipFill>
        <p:spPr>
          <a:xfrm>
            <a:off x="1403280" y="2421000"/>
            <a:ext cx="1870200" cy="13255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41" descr=""/>
          <p:cNvPicPr/>
          <p:nvPr/>
        </p:nvPicPr>
        <p:blipFill>
          <a:blip r:embed="rId6"/>
          <a:stretch/>
        </p:blipFill>
        <p:spPr>
          <a:xfrm>
            <a:off x="6443640" y="2852640"/>
            <a:ext cx="1870200" cy="13255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42" descr=""/>
          <p:cNvPicPr/>
          <p:nvPr/>
        </p:nvPicPr>
        <p:blipFill>
          <a:blip r:embed="rId7"/>
          <a:stretch/>
        </p:blipFill>
        <p:spPr>
          <a:xfrm>
            <a:off x="2340000" y="620640"/>
            <a:ext cx="1870200" cy="13255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path" presetID="49">
                                  <p:stCondLst>
                                    <p:cond delay="3000"/>
                                  </p:stCondLst>
                                  <p:childTnLst>
                                    <p:animMotion origin="layout" path="M 0 0 L 0.25 0.33302 E">
                                      <p:cBhvr>
                                        <p:cTn id="6" dur="5000" fill="hold"/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" dur="50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" dur="50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2"/>
          <p:cNvSpPr/>
          <p:nvPr/>
        </p:nvSpPr>
        <p:spPr>
          <a:xfrm>
            <a:off x="1660680" y="722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58560" y="620640"/>
            <a:ext cx="7489800" cy="102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95280" y="1773000"/>
            <a:ext cx="83534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" name="Picture 5" descr=""/>
          <p:cNvPicPr/>
          <p:nvPr/>
        </p:nvPicPr>
        <p:blipFill>
          <a:blip r:embed="rId1"/>
          <a:stretch/>
        </p:blipFill>
        <p:spPr>
          <a:xfrm>
            <a:off x="1908000" y="907920"/>
            <a:ext cx="4859640" cy="57103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2"/>
          <p:cNvSpPr/>
          <p:nvPr/>
        </p:nvSpPr>
        <p:spPr>
          <a:xfrm>
            <a:off x="1660680" y="722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32000" y="313920"/>
            <a:ext cx="7488000" cy="131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90560" y="1052280"/>
            <a:ext cx="83534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9" name="Picture 5" descr=""/>
          <p:cNvPicPr/>
          <p:nvPr/>
        </p:nvPicPr>
        <p:blipFill>
          <a:blip r:embed="rId1"/>
          <a:stretch/>
        </p:blipFill>
        <p:spPr>
          <a:xfrm>
            <a:off x="900000" y="1484280"/>
            <a:ext cx="7848720" cy="44719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2" name="Picture 5" descr=""/>
          <p:cNvPicPr/>
          <p:nvPr/>
        </p:nvPicPr>
        <p:blipFill>
          <a:blip r:embed="rId1"/>
          <a:stretch/>
        </p:blipFill>
        <p:spPr>
          <a:xfrm>
            <a:off x="1332000" y="404640"/>
            <a:ext cx="7408800" cy="56343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WordArt 3"/>
          <p:cNvSpPr txBox="1"/>
          <p:nvPr/>
        </p:nvSpPr>
        <p:spPr>
          <a:xfrm>
            <a:off x="611280" y="3141720"/>
            <a:ext cx="4802040" cy="799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6666"/>
                    </a:gs>
                    <a:gs pos="100000">
                      <a:srgbClr val="006666"/>
                    </a:gs>
                  </a:gsLst>
                  <a:lin ang="0"/>
                </a:gradFill>
                <a:effectLst>
                  <a:outerShdw dist="107932" dir="2700000" blurRad="0" rotWithShape="0">
                    <a:srgbClr val="b2b2b2">
                      <a:alpha val="50000"/>
                    </a:srgbClr>
                  </a:outerShdw>
                </a:effectLst>
                <a:latin typeface="Verdana"/>
              </a:rPr>
              <a:t>Спасибо!</a:t>
            </a:r>
            <a:endParaRPr b="1" lang="en-US" sz="54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6666"/>
                  </a:gs>
                  <a:gs pos="100000">
                    <a:srgbClr val="006666"/>
                  </a:gs>
                </a:gsLst>
                <a:lin ang="0"/>
              </a:gradFill>
              <a:effectLst>
                <a:outerShdw dist="107932" dir="2700000" blurRad="0" rotWithShape="0">
                  <a:srgbClr val="b2b2b2">
                    <a:alpha val="50000"/>
                  </a:srgbClr>
                </a:outerShdw>
              </a:effectLst>
              <a:latin typeface="Verdana"/>
              <a:ea typeface="Verdana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24T16:53:28Z</dcterms:created>
  <dc:creator>Галина</dc:creator>
  <dc:description/>
  <dc:language>en-US</dc:language>
  <cp:lastModifiedBy>Grand</cp:lastModifiedBy>
  <dcterms:modified xsi:type="dcterms:W3CDTF">2013-10-27T14:32:07Z</dcterms:modified>
  <cp:revision>5</cp:revision>
  <dc:subject/>
  <dc:title>Как люди узнали о магните</dc:title>
</cp:coreProperties>
</file>