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3C7-6262-442F-B923-D6D1B0B4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8A3-FAFD-4D6B-ADA2-0D8C5F7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3C2-0EC6-4696-8A6F-DA7FD1E8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131-03E7-43E9-8C69-851256E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083-801E-4D44-A055-6A8BC213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9FC-4BB7-4E52-8954-E848718C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680-4D3B-4F83-A1DF-7029624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253-89A4-4CFF-8BFC-044E2996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6ED-807F-4EFD-A823-1022264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E77-2B43-478C-818E-8B0D938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839-AB26-4B5B-B7A6-C47FB33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BC6-6B51-4278-8949-C508C7A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3C51-706B-4C21-ADDB-BA34A89817F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80;&#1096;&#1072;%20&#1044;&#1077;&#1084;&#1077;&#1085;&#1090;&#1100;&#1077;&#1074;.%20&#1052;&#1072;&#1075;&#1085;&#1080;&#1090;.ppt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Рисунок 11" descr="head2.jpg"/>
          <p:cNvPicPr/>
          <p:nvPr/>
        </p:nvPicPr>
        <p:blipFill>
          <a:blip r:embed="rId1"/>
          <a:stretch/>
        </p:blipFill>
        <p:spPr>
          <a:xfrm>
            <a:off x="900000" y="115920"/>
            <a:ext cx="7396200" cy="151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s://encrypted-tbn0.gstatic.com/images?q=tbn:ANd9GcSmSr161omg6cpR-OSCcSpeThsRGO_6AJdxca9DJ2-DO_P-J8yM"/>
          <p:cNvPicPr/>
          <p:nvPr/>
        </p:nvPicPr>
        <p:blipFill>
          <a:blip r:embed="rId2"/>
          <a:stretch/>
        </p:blipFill>
        <p:spPr>
          <a:xfrm>
            <a:off x="2916360" y="1916280"/>
            <a:ext cx="268128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Изготовление игрушки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«Рыболов»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для малыш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bewitchit.com/wp-content/uploads/2012/10/magiya-magni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877000"/>
            <a:ext cx="532080" cy="4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l136.ru/sites/default/files/79908.jpg"/>
          <p:cNvPicPr/>
          <p:nvPr/>
        </p:nvPicPr>
        <p:blipFill>
          <a:blip r:embed="rId3"/>
          <a:stretch/>
        </p:blipFill>
        <p:spPr>
          <a:xfrm>
            <a:off x="4067280" y="3213000"/>
            <a:ext cx="470700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660680" y="722160"/>
            <a:ext cx="5143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74840" y="1125360"/>
            <a:ext cx="647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за работу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9:29:53Z</dcterms:modified>
  <cp:revision>35</cp:revision>
  <dc:subject/>
  <dc:title>Как люди узнали о магните</dc:title>
</cp:coreProperties>
</file>