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219200"/>
            <a:ext cx="853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213372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213372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21920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421920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421920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219200"/>
            <a:ext cx="853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219200"/>
            <a:ext cx="853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213372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213372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21920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421920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4219200"/>
            <a:ext cx="2747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421920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2133720"/>
            <a:ext cx="41648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219200"/>
            <a:ext cx="853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228600"/>
            <a:ext cx="0" cy="60958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20196" r="0" b="5770"/>
          <a:stretch/>
        </p:blipFill>
        <p:spPr>
          <a:xfrm>
            <a:off x="1066680" y="0"/>
            <a:ext cx="754380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20196" r="0" b="5770"/>
          <a:stretch/>
        </p:blipFill>
        <p:spPr>
          <a:xfrm>
            <a:off x="1066680" y="0"/>
            <a:ext cx="7543800" cy="566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28600"/>
            <a:ext cx="0" cy="60958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едагогические измерения результатов освоения ОПОП выпускниками УНПО Ярославской 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ньшикова Людмила Александров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ециалист отдела организации итоговой аттестации и мониторинга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12193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Цель измерений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зависимая оценка качества подготовки выпускников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нструментар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ля педагогических измерений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ные КИМ по професси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ОСТАВ КИ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305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итериально-ориентированный гетерогенный тес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я на выполнение практических квалификационных работ по каждой профессии ОК, относящейся к данной профессии НП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40968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066680"/>
          <a:ext cx="8382240" cy="52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3822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4784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066680"/>
          <a:ext cx="830592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3059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0968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143000"/>
          <a:ext cx="80773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8077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 ФГО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части требований к результатам освоения ОПОП ФГОС ориентирован на присвоение выпускнику квалификации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ше средней квалификации для данной професс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Оценка качества подготовки обучающихся (выпускников) производится в двух направления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ценка уровня освоения дисциплин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ценка компетенций обучающих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рядок разработки КИ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Установить уровни освоения ОПОП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Определить контролируемые элементы содержания ОПОП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Разработать КИМ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- тест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- задания на выполнение практических квалификационных работ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Unicode MS"/>
              </a:rPr>
              <a:t>4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Произвести внешнюю экспертизу КИМ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7</cp:lastModifiedBy>
  <dcterms:modified xsi:type="dcterms:W3CDTF">2011-11-30T13:19:1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