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2EB-94D8-49A3-B465-EBE8AD58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6347-AFA2-42CF-B3EB-EC938068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19DE-1EFD-499E-AE77-F5E66147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6905-B688-4ADC-896C-C2978140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2128-F907-47F3-98AC-6F05FBDD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159F-68FD-4B32-BC24-5BBC40AE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1242-056F-45EE-8BE8-C83B50CE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6297-7F7D-49BD-9E7F-B2B363F3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57C3-DEA9-4F45-8B9F-16840673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2426-1433-4B4F-A71E-1DD5134A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06C1-6F3F-4FFB-9199-07B46A71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79F6-9856-4AAB-8709-AFA87755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C488-0FDC-4F87-9A0C-DDAC8C6D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8D61-68D1-4A95-8F61-760218B8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ACF3-4980-4FEB-B0CA-500D3D8C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F1D1-4647-4F42-AD01-5A9CD736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05AB-64B7-40C4-825F-7EAA2E15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D3F-B00E-4EF3-B836-C85F09FC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9210-9B4D-42DF-9A22-3B633BC3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960-E1F8-438B-ADBD-EACD8B16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3F24-79E8-43D8-860B-1DF13364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7B1-8FEC-426B-B6FE-75E98C3D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956E-A4A3-45EC-A663-CF8864DE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7BC5-5DD6-4052-9981-CDC567FA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B8B9-6121-4E1F-9E71-788C7FE3B1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158A-BC42-4C79-8040-BAE20CE4CD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Scan1.PDF" TargetMode="External"/><Relationship Id="rId3" Type="http://schemas.openxmlformats.org/officeDocument/2006/relationships/image" Target="../media/image4.png"/><Relationship Id="rId4" Type="http://schemas.openxmlformats.org/officeDocument/2006/relationships/hyperlink" Target="file:///&#1055;&#1086;&#1103;&#1089;&#1085;&#1080;&#1090;&#1077;&#1083;&#1100;&#1085;&#1072;&#1103;%20&#1079;&#1072;&#1087;&#1080;&#1089;&#1082;&#1072;%20&#1082;%20&#1054;&#1055;&#1054;&#1055;.doc" TargetMode="External"/><Relationship Id="rId5" Type="http://schemas.openxmlformats.org/officeDocument/2006/relationships/image" Target="../media/image4.png"/><Relationship Id="rId6" Type="http://schemas.openxmlformats.org/officeDocument/2006/relationships/hyperlink" Target="file:///&#1056;&#1059;&#1055;%20&#1052;&#1040;&#1057;&#1058;&#1045;&#1056;%20&#1062;&#1048;%2020.05.2011.xls" TargetMode="External"/><Relationship Id="rId7" Type="http://schemas.openxmlformats.org/officeDocument/2006/relationships/image" Target="../media/image4.png"/><Relationship Id="rId8" Type="http://schemas.openxmlformats.org/officeDocument/2006/relationships/hyperlink" Target="file:///&#1056;&#1077;&#1082;&#1086;&#1084;&#1077;&#1085;&#1076;&#1072;&#1094;&#1080;&#1080;-&#1052;&#1054;&#1053;-2007.doc" TargetMode="External"/><Relationship Id="rId9" Type="http://schemas.openxmlformats.org/officeDocument/2006/relationships/image" Target="../media/image4.png"/><Relationship Id="rId10" Type="http://schemas.openxmlformats.org/officeDocument/2006/relationships/hyperlink" Target="file:///&#1053;&#1086;&#1074;&#1099;&#1077;%20&#1088;&#1077;&#1082;&#1086;&#1084;&#1077;&#1085;&#1076;&#1072;&#1094;&#1080;&#1080;%20&#1060;&#1048;&#1056;&#1054;%20&#1087;&#1086;%20&#1054;&#1044;.doc" TargetMode="External"/><Relationship Id="rId11" Type="http://schemas.openxmlformats.org/officeDocument/2006/relationships/image" Target="../media/image4.png"/><Relationship Id="rId12" Type="http://schemas.openxmlformats.org/officeDocument/2006/relationships/hyperlink" Target="file:///&#1056;&#1072;&#1089;&#1095;&#1077;&#1090;%20&#1095;&#1072;&#1089;&#1086;&#1074;.xls" TargetMode="External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hyperlink" Target="file:///&#1041;&#1102;&#1076;&#1078;&#1077;&#1090;%20&#1074;&#1088;&#1077;&#1084;&#1077;&#1085;&#1080;.doc" TargetMode="External"/><Relationship Id="rId16" Type="http://schemas.openxmlformats.org/officeDocument/2006/relationships/image" Target="../media/image4.png"/><Relationship Id="rId17" Type="http://schemas.openxmlformats.org/officeDocument/2006/relationships/hyperlink" Target="file:///&#1055;&#1077;&#1088;&#1077;&#1095;&#1077;&#1085;&#1100;%20&#1082;&#1072;&#1073;&#1080;&#1085;&#1077;&#1090;&#1086;&#1074;.doc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55;&#1088;&#1086;&#1075;&#1088;&#1072;&#1084;&#1084;&#1072;%20%20&#1054;&#1089;&#1085;&#1086;&#1074;&#1099;%20&#1080;&#1085;&#1092;&#1086;&#1088;&#1084;&#1072;&#1094;&#1080;&#1086;&#1085;&#1085;&#1099;&#1093;%20&#1090;&#1077;&#1093;&#1085;&#1086;&#1083;&#1086;&#1075;&#1080;&#1081;.doc" TargetMode="External"/><Relationship Id="rId3" Type="http://schemas.openxmlformats.org/officeDocument/2006/relationships/image" Target="../media/image1.png"/><Relationship Id="rId4" Type="http://schemas.openxmlformats.org/officeDocument/2006/relationships/hyperlink" Target="file:///&#1055;&#1086;&#1091;&#1088;&#1086;&#1095;&#1085;&#1086;&#1077;%20&#1087;&#1083;&#1072;&#1085;&#1080;&#1088;&#1086;&#1074;&#1072;&#1085;&#1080;&#1077;%20&#1087;&#1086;%20&#1054;&#1048;&#1058;.doc" TargetMode="External"/><Relationship Id="rId5" Type="http://schemas.openxmlformats.org/officeDocument/2006/relationships/image" Target="../media/image1.png"/><Relationship Id="rId6" Type="http://schemas.openxmlformats.org/officeDocument/2006/relationships/hyperlink" Target="file:///&#1055;&#1088;&#1086;&#1075;&#1088;&#1072;&#1084;&#1084;&#1072;%20&#1055;&#1052;1%20&#1042;&#1074;&#1086;&#1076;%20&#1080;%20&#1086;&#1073;&#1088;&#1072;&#1073;&#1086;&#1090;&#1082;&#1072;%20&#1062;&#1048;.doc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тодическое обеспечение ОПОП в соответствии с требованиями ФГОС НП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10920" y="4941720"/>
            <a:ext cx="7848360" cy="16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С.Новиков - заместитель директора по УП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У НПО ЯО ПЛ №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Ярослав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ОП ФГОС НП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Титульный лист ОП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Пояснительная записка к ОП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Учебный пл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8"/>
              </a:rPr>
              <a:t>(рекомендации МОН от 29.05.2007г.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0"/>
              </a:rPr>
              <a:t>(рекомендации ФИРО№ 1 от 03 февраля 2011 г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2"/>
              </a:rPr>
              <a:t>(профили НП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фик учебного проце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5"/>
              </a:rPr>
              <a:t>Сводные данные по бюджету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6d1ec"/>
                </a:solidFill>
                <a:uFillTx/>
                <a:latin typeface="Arial"/>
                <a:hlinkClick r:id="rId17"/>
              </a:rPr>
              <a:t>Перечень кабинетов, мастерских и пр. помещ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ОП ФГОС НП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Программы учебных дисциплин (ОД, ОП, ФК, БЖД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(в том числе поурочное планиров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Программы профессиональных моду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в том числе поурочное планиров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цедура и содержание И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одическое сопровождение ФГОС НП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 по ОД и О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 по модул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стоятельная работа обучающих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риант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риант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ормативно-правовое и учебно-методическое обеспечение образовательного процесса в условиях введения нового ФГОС НПО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8:56:14Z</dcterms:created>
  <dc:creator>Admin</dc:creator>
  <dc:description/>
  <dc:language>en-US</dc:language>
  <cp:lastModifiedBy>Admin</cp:lastModifiedBy>
  <dcterms:modified xsi:type="dcterms:W3CDTF">2011-11-30T12:15:24Z</dcterms:modified>
  <cp:revision>9</cp:revision>
  <dc:subject/>
  <dc:title>Учебно-методическое обеспечение ОПОП в соответствии с требованиями ФГОС НПО</dc:title>
</cp:coreProperties>
</file>