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1696-A6A0-48AE-B4A2-A71D85319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3341-05BF-4440-B162-442B2508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B98C-A64D-4F69-B152-8784B134B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E94D-EB4B-457A-8B91-FC0A995F7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3F9B-5A6C-40EA-A8F7-B1A82269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C649-E658-441E-91BD-9712A8C9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8CC4-1AFA-4704-A03C-237D2F1E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3DF2-54A6-45A2-ABBD-D7F79032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51B6-5CF4-43E7-B338-66FCA960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C24E-4054-4BFB-AE18-812E7639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2BFF-A246-4686-8DA5-641D4111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C132-7EEB-4208-A451-7292AE90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6EBF-440F-4038-83BE-A1D424D5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6745-62F2-4A67-A078-52053B6E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C44F-3AE0-441D-A9F1-BC15BF3C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6CE3-AB87-4BDB-B25D-2F588A2B7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A392-869F-4833-960D-4919869B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AB879-4ECF-4B35-82CF-CAF7E9011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F33A6-1153-42C8-B6BD-138CFBF6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3153C-5122-4E34-8A2A-B8FC5E8D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8B1D0-9B7B-4A1B-AAC2-1C1BF167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F7C30-00CB-4CE7-A4B1-58457771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B08C-195C-4F9A-B254-B77212DB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20BF6-F89C-484A-8265-27F8E61C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B6A41-C56D-48EA-9041-75AE3F53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60575-8F95-4EC5-86E0-ABD7E281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25249-7B91-4CA6-B918-2A8EE0B6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B8B3C-6A44-4ED6-969D-97201A87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84EE8-73E5-4972-93A6-63A57ECC6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D8726-A2D9-41EE-B46C-8A3BD8646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7ECBB-D827-4E56-B383-6795607F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AE0FE-D719-476E-9868-5A8FA6AF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E4A0B-3F10-490C-B8FD-A092C04F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B988-9B5C-4690-80F8-7647ACA2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B3A85-8CBE-4013-841E-994E607C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4DC15-EAAE-4F65-9E9D-C96F9577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66B61-7F27-41AE-BAA2-F19B1539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87062-13DA-4D24-B363-E359F7D4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5E492-5BB6-41E6-8956-28B9086B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90487-31C6-45F0-95D4-8876947F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543FE-3CF4-44BC-B50C-B48BFA0A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976D4-505B-42A4-B4FD-F221BAED9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F57ED-544C-4B45-B05F-F6BF264C8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A8FE-CFBA-4310-95D7-18F89B66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1AE7-CA6D-4521-9013-6D871E17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634B-2B84-4F10-9BBD-5AFD34A7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0E7C-E071-4D6D-87A4-F567441C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B497-683B-400E-9760-3F66F353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9AA1-ACB2-4BB0-939B-854C2FC258C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21ED-8B6D-4208-B844-22B3272CD58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8C42-36D2-4CDF-9E1D-D808A4C37C1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DEA6-9C25-49C5-88E3-18FAD68FD31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87;&#1088;&#1086;&#1075;&#1088;&#1072;&#1084;&#1084;&#1084;&#1072;%20&#1087;&#1086;%20&#1087;&#1088;&#1072;&#1082;&#1090;&#1080;&#1082;&#1077;%20&#1055;&#1053;&#1050;%20&#1087;&#1086;%20&#1060;&#1043;&#1054;&#1057;.doc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5" descr=""/>
          <p:cNvPicPr/>
          <p:nvPr/>
        </p:nvPicPr>
        <p:blipFill>
          <a:blip r:embed="rId2"/>
          <a:stretch/>
        </p:blipFill>
        <p:spPr>
          <a:xfrm>
            <a:off x="378000" y="1859040"/>
            <a:ext cx="8461080" cy="42177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85480" y="5428800"/>
            <a:ext cx="8643960" cy="1428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Власова Светлана Александровна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заведующая профессиональной практикой студентов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500040" y="92880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У СПО ЯО Ростовский педагогический коллед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Документы, регламентирующие порядок организации и проведения практик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кон РФ «Об образовании»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ГОС СПО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чие учебные планы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ложение об учебной и производственной практике студентов (курсантов), осваивающих ОПОП СПО, утвержденное приказом Минобрнауки от 26 ноября 2009г. №673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комендации по профессиональной практике студентов по специальностям СПО (Минобразование России, 03.03.2003 г.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Виды профессиональной практики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28760" y="2142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учебная практика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производственная практика (практика по профилю специальности и преддипломная практика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114264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Методологические подходы 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к организации профессиональной практики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3286080"/>
            <a:ext cx="8229600" cy="30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ятельностный подход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истемный подход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ультурологический подход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петентностный подход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Принципы организации профессиональной практик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28760" y="2071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следовательнос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емственность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инамичность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лифункциональнос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ерспективнос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нтегративнос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вобода выбора и ответственность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заимосвязь теоретического обучения и практик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трудничество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блемность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Структура рабочей программы практик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ПАСПОРТ РАБОЧЕЙ ПРОГРАММЫ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РЕЗУЛЬТАТЫ ПРОХОЖДЕНИЯ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СТРУКТУРА И ПРИМЕРНОЕ СОДЕРЖАНИЕ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УСЛОВИЯ РЕАЛИЗАЦИИ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КОНТРОЛЬ И ОЦЕНКА РЕЗУЛЬТАТОВ ОСВОЕНИЯ ПРАКТИК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1" i="1" lang="en-US" sz="3000" spc="-1" strike="noStrike">
                <a:solidFill>
                  <a:srgbClr val="04617b"/>
                </a:solidFill>
                <a:latin typeface="Calibri"/>
              </a:rPr>
              <a:t>КОНТРОЛЬ И ОЦЕНКА РЕЗУЛЬТАТОВ ОСВОЕНИЯ</a:t>
            </a:r>
            <a:br>
              <a:rPr sz="3000"/>
            </a:br>
            <a:r>
              <a:rPr b="1" i="1" lang="en-US" sz="3000" spc="-1" strike="noStrike">
                <a:solidFill>
                  <a:srgbClr val="04617b"/>
                </a:solidFill>
                <a:latin typeface="Calibri"/>
              </a:rPr>
              <a:t> ПРОФЕССИОНАЛЬНОЙ ДЕЯТЕЛЬНОСТИ 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42920" y="1714680"/>
          <a:ext cx="8786880" cy="4876560"/>
        </p:xfrm>
        <a:graphic>
          <a:graphicData uri="http://schemas.openxmlformats.org/drawingml/2006/table">
            <a:tbl>
              <a:tblPr/>
              <a:tblGrid>
                <a:gridCol w="612720"/>
                <a:gridCol w="2070000"/>
                <a:gridCol w="2616480"/>
                <a:gridCol w="34876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Код П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Наименование результата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ПК и показатели сформирован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Формы и методы контроля и оцен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ПК 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Определять цели и задачи, планировать у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.Информационны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 умение 1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2. Проектировочны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 умение 1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проверка конспектов уроков на педагогической практик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защита, подобранных форм и методов обучения младших школь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ПК 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Проводить у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Организаторски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 умение 1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2. Коммуникатив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 умение 1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 наблюдение и анализ проведения уроков в ходе педагогической прак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.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.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..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.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ПК 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Анализировать у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. Анализ и самоанализ деятельност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умение 1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умение 2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 экспертная оценка представленного анализ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Подсистемы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профессиональной практики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28760" y="2285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организация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методическое обеспечение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материально-техническое обеспечение практики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базы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отчетная документация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контроль работы субъектов и объектов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человеческий фактор профессиональной практи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Базовый набор контрольно-измерительных параметр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28760" y="2928960"/>
          <a:ext cx="8229600" cy="3044880"/>
        </p:xfrm>
        <a:graphic>
          <a:graphicData uri="http://schemas.openxmlformats.org/drawingml/2006/table">
            <a:tbl>
              <a:tblPr/>
              <a:tblGrid>
                <a:gridCol w="542880"/>
                <a:gridCol w="6072120"/>
                <a:gridCol w="161460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№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5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Контролируемые элемент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Оценка эксперт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381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ендарно-тематический план практик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75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ческие рекомендации по проведению профессиональной практик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75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чень индивидуальных заданий на практику и т.п...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214" name="Rectangle 1"/>
          <p:cNvSpPr/>
          <p:nvPr/>
        </p:nvSpPr>
        <p:spPr>
          <a:xfrm>
            <a:off x="428760" y="186084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ое обеспечение практик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т № _______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О 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07:18:29Z</dcterms:created>
  <dc:creator>1</dc:creator>
  <dc:description/>
  <dc:language>en-US</dc:language>
  <cp:lastModifiedBy>ASUS</cp:lastModifiedBy>
  <dcterms:modified xsi:type="dcterms:W3CDTF">2011-12-01T10:20:20Z</dcterms:modified>
  <cp:revision>49</cp:revision>
  <dc:subject/>
  <dc:title>СОВЕРШЕНСТВОВАНИЕ КАЧЕСТВА ПОДГОТОВКИ СПЕЦИАЛИСТОВ  В ПРОЦЕССЕ ОРГАНИЗАЦИИ ПРОФЕССИОНАЛЬНОЙ ПРАКТИКИ</dc:title>
</cp:coreProperties>
</file>