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DF4-7C47-4A60-B716-836A7B5E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EA9-E31D-436D-834D-02B790A1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A48-889D-47F2-A3D1-CBFE6BB3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33D-9BC6-4B9D-AFD3-A28F08A4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B53D-EC95-4006-B0D7-947FD7C4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D66F-503F-4B6D-B5EB-231C2C73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1B16-B2CF-4DFA-94DB-AA70745B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7B87-26D3-4F76-8C00-DD0E569E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EFA1-4238-4252-8CB4-7FE586BD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273C-34DE-4FE9-939C-4C26F364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7C28-0F53-4BCB-9222-B5F5CA29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04F-6F28-4FDA-B3D1-D86256B2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167E-6FBC-4F63-BB5B-EE2CAA1A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2574-D23A-42B5-8A66-E156EB01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00C2-D598-4C86-B61E-0B21A678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8BF1-3A92-4635-9B3E-FCAA7CEB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C7B9-B710-4A7C-AAD6-C4FB04EA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4EC-7F35-4234-A146-1B215CCF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9BBE-EDF9-494E-A45E-A2DFCFA5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9CD-12A4-4912-8320-1ADD7DFC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A6A-1CCF-4BCF-9845-99A0BD77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2918-3008-4100-810D-F887B6BC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2DE-AB91-49A9-AD32-CB1E6200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776-5BB8-4BED-A195-B59EA25A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3B39-CA68-4725-BA7D-756053550F4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1B9A-5709-4439-9341-2853EC28E7C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ПЕДАГОГИЧЕСКИЙ ИНСТРУМЕНТАРИЙ </a:t>
            </a:r>
            <a:br>
              <a:rPr sz="3000"/>
            </a:b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ФОРМИРОВАНИЯ И ДИАГНОСТИКИ ОБЩИХ КОМПЕТЕНЦИЙ: опыт и перспективы работы лицея 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304812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Зуева Марина Леонов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заместитель директора 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ГОУ НПО ЯО ПЛ №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к.п.н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648320" y="5638680"/>
            <a:ext cx="449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ГОУ НПО ЯО профессиональный лицей № 7 20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DA1C15-9E2D-4FD0-BC19-DC59846301DD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55"/>
          <p:cNvSpPr/>
          <p:nvPr/>
        </p:nvSpPr>
        <p:spPr>
          <a:xfrm>
            <a:off x="1066680" y="2514600"/>
            <a:ext cx="7315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 = 40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иагностирование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Шкала</a:t>
            </a:r>
            <a:r>
              <a:rPr b="0" lang="ru-RU" sz="24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ангова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4191120" y="3429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0 – нет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 – скорее нет, чем д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 – не знаю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 – скорее да, чем нет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 – 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B10182-332E-40D3-BC51-81BF01AC5AE8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55"/>
          <p:cNvSpPr/>
          <p:nvPr/>
        </p:nvSpPr>
        <p:spPr>
          <a:xfrm>
            <a:off x="914400" y="22096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обенности процедур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варительный инструктаж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зависимость экспер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утствие ограниченности по времен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ксперты при повторной диагностике те ж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иодичность – не чаще 1 раза в год, период наблюд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D33F60-75A4-4A4F-95A5-09D985146772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55"/>
          <p:cNvSpPr/>
          <p:nvPr/>
        </p:nvSpPr>
        <p:spPr>
          <a:xfrm>
            <a:off x="914400" y="2438280"/>
            <a:ext cx="72388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нализ собранных данных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дные таблиц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тистический критерий однород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ный продук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93BA45-F3C0-4131-8639-FBE7593BA5BC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838080" y="1665360"/>
          <a:ext cx="7077240" cy="51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65360"/>
                    <a:ext cx="70772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AutoShape 6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523880" y="25909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иагностическая карта учащего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990720" y="4343400"/>
            <a:ext cx="76197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снову положено соотнесение типа педагогического процесса и образовательного результата (В.В.Юдин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85800" y="228600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ровни компетентности по В.В.Юдин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ормаль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ормальное применение известных способов действий: методик, технологий, способов, алгоритмов (иногда по прямому на них указанию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ехнологи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осознанные выбор и  применение  способов действ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ворческая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осознанные выбор, применение и адаптация способов действий в нестандартных ситуация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убъект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действия основанные на возможности самореал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2590920"/>
            <a:ext cx="7620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етализация ОК ФГОС НПО по уровня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когнитивном и поведенческом аспекта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ценностно-смысловом, мотивационном и эмоционально-волевом аспектах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7432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леживание эффективности педагогической системы О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нение статистических критериев для сравнения входных, промежуточных и итоговых результатов в формировании 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Педагогические средства (педагогический инструментарий) 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совокупность компонентов, позволяющих управлять педагогическим процессом, воздействовать на образовательный результа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ры: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ехнологи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методика, содержание дисциплины, методы, приемы обучения, формы организации познавательной деятельности, средства обучения (в узком смысле), задача, упражнение, пример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1760" y="2286000"/>
            <a:ext cx="7692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Основание для выбора инструментария: направленность на активную субъектную деятельность учащихся, комплекснос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ехнолог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блемного обучения Е.Л.Мельниково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РКМЧП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ектна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арной работы и работы в малых группа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грова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егральная технология В.В.Гузее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Прием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боты с понятиями, таблицами, задачам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нципы выбора и использования педагогических средств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компетентностной направлен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систем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 реализации педагогического инструментар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инцип вариативности и сопряжен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3428640"/>
            <a:ext cx="7693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аблица эффективности выбранных педагогических средст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нструирование комплекса педагогических средств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одной технологией в основ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одновременным использованием нескольки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последовательным использованием нескольки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последовательным и одновременным использованием нескольки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заимодействие технолог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ханизм реализации комплекса педагогических средств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Дополнительный курс «Учись учиться» в 1 семестре в рамках выбранных технолог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Проведение внеаудиторных мероприятий в рамках технолог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Системная реализация технологий в рамках ОД, СД, ПМ, внеаудиторной работ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КА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рамках ПМ, ЭК, Г(И)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ОД, СД, внеаудиторных мероприятия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F3438D-4A39-4FF1-9558-0F8C2832B550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55"/>
          <p:cNvSpPr/>
          <p:nvPr/>
        </p:nvSpPr>
        <p:spPr>
          <a:xfrm>
            <a:off x="1066680" y="2438280"/>
            <a:ext cx="7543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тод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кспертной оцен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Цель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оценка надпрофессиональных компетенц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едмет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деятельность учащихс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ксперт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мастера и преподаватели группы (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наблюд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уев</cp:lastModifiedBy>
  <dcterms:modified xsi:type="dcterms:W3CDTF">2011-11-30T18:34:5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