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F9F-819E-4169-B007-122AC61E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C7C-9C27-4960-94BC-B26A416C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F8B-47D2-464B-AAFD-BFFD490F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1D9-FDDB-4B7F-8F34-14DAC591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06B-DD2D-4C58-B634-E5636D46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BFB0-2033-465A-824A-358FC36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873C-DE7B-44A1-A0D2-2C0758D0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2F86-B3B7-4374-A48D-504A74A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029-DFFC-43FF-9851-1F5CC74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6A1-3209-4122-A589-6F672B71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F15A-F229-4270-8724-96EFEEA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B14-6428-4954-8A17-0C459AA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520-E7F2-4B5A-A854-AED4C99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F1A-5F31-4DDC-940B-02DE0DC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75A-6D1F-44C3-8617-038D9E53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CE3A-105E-463A-95B6-D09405B3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EA49-6DB6-4EAC-9436-29C46BF1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A0542-5261-4DE3-9FBA-EC5BDD0B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4D70A-7235-4F58-9E1A-992B8FED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32EFF-A5DA-4DF8-9869-1408C7E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9CB5D-A0CA-4FB5-9286-4581BE25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F6EA3-92AA-47A0-B26E-42AB586E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EF9-2658-42C8-BCC5-48BEF35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3797E-1246-44A6-B64C-FE670ABF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D7EB7-5971-455B-A162-604239F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F229F-F9CF-4ED0-A4F0-B72466E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283CE-9BE9-413E-B067-E7A7602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CFCA8-9752-4CEE-9710-C8C52E4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B63B7-3815-4DFC-AC6D-97CAF377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293F2-3C48-4936-B01F-539FEFEE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DF33-8AB4-458F-A41F-1AA579A0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DF1E-7A07-4346-8E52-D0B49DA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8FD2-47A2-4BE5-BCA7-B5186EF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0F6-3317-4FD2-8100-E4BF8B46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D7B8-2977-40C8-BFCB-5EE3BF8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99D3-4E27-412F-8199-0EA2FCD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1352-7DDB-43D1-9900-9040E33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93EA-C244-4376-9D6B-AB71773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1E4C-D5CF-406F-8472-A6B71D8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6678-CB77-4F07-817A-A7E100C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D169-DDE5-46E2-829A-8307A9E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7230-4587-4F93-9E72-19718E27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F74C-D383-4477-A9C6-BD70325A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DAE8F-9A83-4309-9255-2BBDA5F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A18-2934-41DF-9D58-04B5478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1E533-BAA1-441C-9F60-12CD9A2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7FFEC-FA64-4A5D-AB52-BD8392A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C5242-12F5-47F0-9BF8-679C511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E8212-1D9E-4894-B931-3E23A6E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9E147-D910-4D0F-8FE8-9B9BC25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E762A-98BD-4A2A-9E45-AB315F0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0E88E-2657-4B2B-8A9A-22E78F1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14410-739C-44F4-B9D3-6435D3C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C2C19-BE89-4EB5-BF10-A253712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5D09E-FC5E-4336-A7A6-1BDBC483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B12-D7CD-4CED-A38C-D0BE39DE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B8D00-D93E-4EA9-A198-F4858658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2826D-4638-4AB0-BB97-5A5108F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BF5DF-CC34-4771-A838-63F2FB6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02C90-8B0A-4C29-A72E-9005DD7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56AA9-AC34-4AF4-BEC5-D74ED290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271CD-009E-4914-8F50-4BC92E6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D3477-C99F-4969-BC53-1ADC301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46251-7C37-44D6-A7FE-8D4903D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DB563-2928-4EDD-8FE5-34A4941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C180E-37FD-45B4-8F99-FE31A84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38F-FEF1-47A4-9C72-8034A81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19559-3649-4327-917A-5AE0E681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08818-E8E7-4512-B978-8EE9E116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09F4A-EF70-4130-8FE4-CF399D59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85580-B795-4DB8-B2E1-2C5AFC57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D4AF0-4351-4619-BFAC-2A2DEE3B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5475F-F834-4FC9-8430-F27EB6D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E8EE3-C997-440A-9CA0-2F3617E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DD08F-4C91-41A0-BD16-43B82BB0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C2FF5-B7A0-4B0C-A9E6-D286D952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037E0-B45D-4302-BB39-C801AFB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633-1123-4892-86EE-51184EC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A382D-0BBC-48C6-AF5C-F434D87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59A0F-373D-41A5-BF80-DD3105C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1FE24-6B09-4E16-AD83-D25E35F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FFC64-FCC1-4A2D-B875-5F25C0DF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BBB59-1401-4F20-AD8A-C41DEE80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7AD-AF54-44D3-8CDD-B639EBA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D7F-403B-4B98-97F9-956744700B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F5D-8BC6-4D09-AE13-DD2C20CF38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D1A-ECE2-430D-BCF3-8203CCFBA2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469-7585-4B6E-8C58-517E7C5BF86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D824-997F-4272-BCBD-BC345CDB16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9947-3E19-4C32-8B52-07E4FAC2C5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AF10-DCA1-4BE8-86D6-08529A7BB19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8;&#1054;&#1052;%20&#1052;&#1072;&#1083;&#1086;&#1074;&#1086;&#1081;%20&#1070;&#1083;&#1080;.doc" TargetMode="External"/><Relationship Id="rId2" Type="http://schemas.openxmlformats.org/officeDocument/2006/relationships/hyperlink" Target="file:///&#1048;&#1054;&#1052;%20&#1052;&#1072;&#1083;&#1086;&#1074;&#1086;&#1081;%20&#1070;&#1083;&#1080;.doc" TargetMode="External"/><Relationship Id="rId3" Type="http://schemas.openxmlformats.org/officeDocument/2006/relationships/hyperlink" Target="file:///&#1048;&#1054;&#1052;%20&#1052;&#1072;&#1083;&#1086;&#1074;&#1086;&#1081;%20&#1070;&#1083;&#1080;.doc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571680"/>
            <a:ext cx="482436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5a160b"/>
                </a:solidFill>
                <a:latin typeface="Century Schoolbook"/>
              </a:rPr>
              <a:t>ИНДИВИДУАЛЬНАЯ ОБРАЗОВАТЕЛЬНАЯ ДЕЯТЕЛЬНОСТЬ УЧАЩИХСЯ СТАРШИХ КЛАССОВ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4500360"/>
            <a:ext cx="61722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Century Schoolbook"/>
              </a:rPr>
              <a:t>Автор – классный руководитель 11 класса Махаева Любовь Борис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IMG_9087"/>
          <p:cNvPicPr/>
          <p:nvPr/>
        </p:nvPicPr>
        <p:blipFill>
          <a:blip r:embed="rId1"/>
          <a:srcRect l="3643" t="9709" r="0" b="0"/>
          <a:stretch/>
        </p:blipFill>
        <p:spPr>
          <a:xfrm>
            <a:off x="5000760" y="714240"/>
            <a:ext cx="3781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СПАСИБО </a:t>
            </a:r>
            <a:br>
              <a:rPr sz="4800"/>
            </a:b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ИАГНОСТИЧЕСКАЯ 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Учет интересов и склонностей обучающего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сильных и слабых сторон лич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учебных достижений и возможност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Готовность к профессиональному самоопределени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пределение заказа родител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0000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ФУНКЦИЯ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ГНОЗИРОВАНИЯ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И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3"/>
          <p:cNvSpPr/>
          <p:nvPr/>
        </p:nvSpPr>
        <p:spPr>
          <a:xfrm>
            <a:off x="285840" y="285840"/>
            <a:ext cx="3429000" cy="17143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Определение последовательности сроков и средств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"/>
          <p:cNvSpPr/>
          <p:nvPr/>
        </p:nvSpPr>
        <p:spPr>
          <a:xfrm>
            <a:off x="285840" y="2286000"/>
            <a:ext cx="3714840" cy="17146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ставление программ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5"/>
          <p:cNvSpPr/>
          <p:nvPr/>
        </p:nvSpPr>
        <p:spPr>
          <a:xfrm>
            <a:off x="500040" y="4429080"/>
            <a:ext cx="3500640" cy="20001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Выбор предметов дл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5357880" y="285840"/>
            <a:ext cx="2928960" cy="1428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образовательный маршр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357880" y="2357280"/>
            <a:ext cx="2857320" cy="1500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ндивидуаль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29160" y="4500720"/>
            <a:ext cx="2714760" cy="15001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верх 9"/>
          <p:cNvSpPr/>
          <p:nvPr/>
        </p:nvSpPr>
        <p:spPr>
          <a:xfrm>
            <a:off x="2071800" y="3857760"/>
            <a:ext cx="412560" cy="64296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верх 10"/>
          <p:cNvSpPr/>
          <p:nvPr/>
        </p:nvSpPr>
        <p:spPr>
          <a:xfrm>
            <a:off x="2000160" y="1928880"/>
            <a:ext cx="412920" cy="6429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трелка вправо 11"/>
          <p:cNvSpPr/>
          <p:nvPr/>
        </p:nvSpPr>
        <p:spPr>
          <a:xfrm>
            <a:off x="3571920" y="642960"/>
            <a:ext cx="1928880" cy="6984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13"/>
          <p:cNvSpPr/>
          <p:nvPr/>
        </p:nvSpPr>
        <p:spPr>
          <a:xfrm>
            <a:off x="3500280" y="4929120"/>
            <a:ext cx="214344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право 14"/>
          <p:cNvSpPr/>
          <p:nvPr/>
        </p:nvSpPr>
        <p:spPr>
          <a:xfrm>
            <a:off x="3500280" y="2786040"/>
            <a:ext cx="2071800" cy="62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7758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ИНДИВИДУАЛЬНЫЙ ОБРАЗОВАТЕЛЬНЫЙ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 маршрут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3"/>
              </a:rPr>
              <a:t> ОБУЧАЮЩЕГОСЯ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6211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РОДИТЕЛИ -</a:t>
            </a: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УЧАСТНИКИ ПРОГРАМ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будущей профессии, учебного заведения(ВУЗ, СУЗ, П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 рынком профессий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предметов, требующих углуб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уровнем возможностей и уровнем обученности по каждому предмету, с рекомендациями для успешности достижения ц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нсультирование по составлению индивидуаль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РАЗВИВАЮЩАЯ ФУНКЦ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Оказывать помощь и поддержку ученику 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физ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сих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циально-личностн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духовно-нравственн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трудов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IMG_7916"/>
          <p:cNvPicPr/>
          <p:nvPr/>
        </p:nvPicPr>
        <p:blipFill>
          <a:blip r:embed="rId1"/>
          <a:stretch/>
        </p:blipFill>
        <p:spPr>
          <a:xfrm>
            <a:off x="755640" y="1413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Arial"/>
              </a:rPr>
              <a:t>Победители конкурсов и олимпи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КООРДИНАЦИОННАЯ</a:t>
            </a:r>
            <a:r>
              <a:rPr b="0" lang="en-US" sz="4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Классный руководитель организует встречи с учителями-предметниками, психологом школы, социальными партнёрами, специалистами в системе дополнительного образования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7:35:57Z</dcterms:created>
  <dc:creator>UserN</dc:creator>
  <dc:description/>
  <dc:language>en-US</dc:language>
  <cp:lastModifiedBy>usv</cp:lastModifiedBy>
  <dcterms:modified xsi:type="dcterms:W3CDTF">2010-09-01T07:28:34Z</dcterms:modified>
  <cp:revision>16</cp:revision>
  <dc:subject/>
  <dc:title>         Роль классного руководителя  в психолого-педагогическом сопровождении учащихся старших  классов  </dc:title>
</cp:coreProperties>
</file>