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A5A-411F-4DA9-99EC-06B2AC48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AF3-43D5-40E1-8C4D-745A7F3D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559-DB65-4E44-AF3D-88976030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1FC-140A-402B-9EC4-A30B6D2D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0EC-79E0-4798-A7F7-FF212E61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A60-D591-45E0-9FE7-FBE58355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17D-1BB2-416A-951F-0B496EC1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3A4-1F64-4B84-85A3-D0BDCF05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85A-D4EF-4D58-BF2E-EBA1423F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2A1-7D94-46A5-9F52-2FA2D56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3AF-9CE3-4A51-9496-A858DAD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F83-E93F-44E8-AFB1-7540EDB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F439-4E36-4F12-B5F2-3C3AA8E6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86;&#1078;&#1077;&#1085;&#1080;&#1077;%20&#1086;%20&#1090;&#1074;&#1086;&#1088;&#1095;&#1077;&#1089;&#1082;&#1086;&#1081;%20&#1075;&#1088;&#1091;&#1087;&#1087;&#1077;-&#1086;&#1088;&#1080;&#1075;&#1080;&#1085;&#1072;&#1083;.doc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457200"/>
            <a:ext cx="838224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04920"/>
            <a:ext cx="2971800" cy="5410080"/>
          </a:xfrm>
          <a:prstGeom prst="downArrow">
            <a:avLst>
              <a:gd name="adj1" fmla="val 50000"/>
              <a:gd name="adj2" fmla="val 455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33520"/>
            <a:ext cx="16002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33520"/>
            <a:ext cx="1600200" cy="5331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1371600"/>
            <a:ext cx="220968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971800"/>
            <a:ext cx="13716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1371600"/>
            <a:ext cx="2057400" cy="11430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743200"/>
            <a:ext cx="182880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Гидросф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9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680" y="4572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Выбор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3400" y="152388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Формировани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648320"/>
            <a:ext cx="6324480" cy="16002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ый банк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3760" y="28954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Выбор темы/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200" y="464832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572000"/>
            <a:ext cx="533412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иное  учебно-тематическое 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технологические карты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атический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371600"/>
          <a:ext cx="8382240" cy="2208240"/>
        </p:xfrm>
        <a:graphic>
          <a:graphicData uri="http://schemas.openxmlformats.org/drawingml/2006/table">
            <a:tbl>
              <a:tblPr/>
              <a:tblGrid>
                <a:gridCol w="1067040"/>
                <a:gridCol w="990360"/>
                <a:gridCol w="1828800"/>
                <a:gridCol w="1752840"/>
                <a:gridCol w="1523880"/>
                <a:gridCol w="121932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име-дийные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-льное храни-лищ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-риа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685440" y="38098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ка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7520" y="487692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я «Гидросф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дель расчета эффект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научность, наглядность, доступность 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____________________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затра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временные, физические, материальные, …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планы уроков, дидактический материал и т.п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219320"/>
            <a:ext cx="1828800" cy="8380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819520"/>
            <a:ext cx="1828800" cy="9903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е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4648320"/>
            <a:ext cx="1828800" cy="9144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057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304920"/>
          <a:ext cx="8534160" cy="627516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2181240"/>
                <a:gridCol w="1323720"/>
              </a:tblGrid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р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о-тех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метод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-цио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56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о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ов – 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 ИСО (36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 для будущего    (67 чел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тнерство в образовании (10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«Современные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образо-вательные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стоянно действующие семин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спользование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униципальный проект по СОТ (9 шко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 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Ц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 комп.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оектора, принтер-сканер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утбу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лючение к Интер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кол-ва компьютер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о проект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овременные образовательные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, коллекция цифровых образовательных ресурс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меро-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676520" y="38862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5400" y="1771560"/>
          <a:ext cx="73072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771560"/>
                    <a:ext cx="730728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457200"/>
          <a:ext cx="838224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rcRect l="46875" t="63543" r="25003" b="29168"/>
          <a:stretch/>
        </p:blipFill>
        <p:spPr>
          <a:xfrm>
            <a:off x="3505320" y="1676520"/>
            <a:ext cx="2743200" cy="39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15328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838080"/>
            <a:ext cx="8305920" cy="49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286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0040" y="1177920"/>
            <a:ext cx="8082720" cy="5055480"/>
            <a:chOff x="680040" y="1177920"/>
            <a:chExt cx="8082720" cy="5055480"/>
          </a:xfrm>
        </p:grpSpPr>
        <p:sp>
          <p:nvSpPr>
            <p:cNvPr id="64" name=""/>
            <p:cNvSpPr/>
            <p:nvPr/>
          </p:nvSpPr>
          <p:spPr>
            <a:xfrm>
              <a:off x="3674160" y="2675520"/>
              <a:ext cx="229464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ектное об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в т.ч. на основе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l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7760" y="2301480"/>
              <a:ext cx="109800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ба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67640" y="267552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КЧМ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040" y="276948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зновозрастное об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77680" y="4172760"/>
              <a:ext cx="229464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даре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2520" y="496440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улак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1080" y="5671080"/>
              <a:ext cx="2293200" cy="562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ёрн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9080" y="464184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липп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0320" y="351828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68480" y="145872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обякин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73680" y="136548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рмаков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78440" y="1177920"/>
              <a:ext cx="2294640" cy="5612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7680" y="3423960"/>
              <a:ext cx="2294640" cy="563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армановская 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971240" y="1926720"/>
              <a:ext cx="720" cy="74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4920" y="1645920"/>
              <a:ext cx="897480" cy="1029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5760" y="1739520"/>
              <a:ext cx="897120" cy="936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76440" y="1739520"/>
              <a:ext cx="720" cy="564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76920" y="1739520"/>
              <a:ext cx="1080" cy="564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378080" y="1645920"/>
              <a:ext cx="399240" cy="1123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76840" y="3237480"/>
              <a:ext cx="189720" cy="237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8880" y="3237480"/>
              <a:ext cx="498960" cy="10508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79360" y="3237480"/>
              <a:ext cx="698400" cy="1892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0200" y="3237480"/>
              <a:ext cx="942840" cy="2652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763080" y="3237480"/>
              <a:ext cx="11016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896640" y="3237480"/>
              <a:ext cx="375840" cy="105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929040" y="3237480"/>
              <a:ext cx="642600" cy="187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569560" y="1977840"/>
              <a:ext cx="1488960" cy="697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469120" y="3237120"/>
              <a:ext cx="39924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66800" y="3143520"/>
              <a:ext cx="399240" cy="468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65120" y="3143520"/>
              <a:ext cx="720" cy="1529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72080" y="3237480"/>
              <a:ext cx="1196640" cy="1684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5120" y="2019960"/>
              <a:ext cx="0" cy="655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996360" y="3237480"/>
              <a:ext cx="675000" cy="263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73920" y="1645920"/>
              <a:ext cx="3592440" cy="1029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хема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4240" y="5638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4680" y="5791320"/>
            <a:ext cx="36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- - банк методических разрабо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79600" y="716040"/>
            <a:ext cx="423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9080" y="1771200"/>
            <a:ext cx="75376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еализовано 15 проектов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здана брошюра с опытом работы Бармановской школ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азработаны учебно-тематические планы и конспекты урок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ыпуск диска «Образование в Любимском районе: опыт и перспективы развития»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№ 53 от 11.08.200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523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атегическ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шение эффекти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ия ИКТ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809880"/>
            <a:ext cx="8915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нкретн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ирование информационн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зовательных ресурсов для уч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ографии и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 работы на 2008, 2009 г.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143000"/>
          <a:ext cx="8305920" cy="4876920"/>
        </p:xfrm>
        <a:graphic>
          <a:graphicData uri="http://schemas.openxmlformats.org/drawingml/2006/table">
            <a:tbl>
              <a:tblPr/>
              <a:tblGrid>
                <a:gridCol w="3505320"/>
                <a:gridCol w="48006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е результат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 творческих групп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Положение</a:t>
                      </a:r>
                      <a:r>
                        <a:rPr b="0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о творческой групп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дание рабочей группы, консультация научных руководител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Учебно-тематический пл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 карта урока:</a:t>
                      </a: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физика, географ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Модель расчета эффектив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ы-практикумы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предметам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рагменты урок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ет докумен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ный и областной конкурс учебных проек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е проекты (муниципальный банк данных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ута С.А.</cp:lastModifiedBy>
  <dcterms:modified xsi:type="dcterms:W3CDTF">2010-08-23T05:55:12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