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CBC-2E20-4908-8F76-255EB296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FF0-E711-44D3-A253-9919E6C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59E-CC96-4263-8DEF-87FB39EC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ADA-1A0C-4AFE-8BF4-C77E1075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030F-3FBC-49BF-8920-BCBFAC35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D7F-2F4E-4AF0-A24D-1BE0309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1067-319F-46EF-8EDF-9B4D184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22D6-B65F-4AA4-84CA-541E772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7FF-D88E-40C2-862D-BBC8BED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C27E-0ADE-497D-B06A-8A2A6E9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70F-7ACD-4825-A76A-860B0D3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520-B159-44D8-A8F3-442F4B1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8221-0AEA-49B5-977E-BE621EE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DDCB-5CE4-4798-8D8D-A49BD39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F1A-7BE0-4C20-8010-CC99788A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F18-F83D-47B3-8633-4FDC3B6C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98F4-5072-4B56-B38D-B8C4289E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FD9-F4AE-4D76-8DE5-6BF580F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678-9DAD-410C-BAB6-C5058449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1D9-BA1D-43A1-B19B-1905E91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4DF-6BC1-4E53-BCE1-CF71AC8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F28-E6CE-4554-9F51-5D19F4F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031-76C2-4926-A728-3C3ABD6B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57D-DBF5-48F7-9179-52CCE5B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C42-7764-4604-9D2C-1DBCBE0ED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ADC-39D1-4BBE-9D1E-5393A34DB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дагогическая технология «Школа социализаци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«Афишировани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вешивание произведений работ учащихся (текстов, рисунков, схем, проектов) в классе и ознакомление с ними. Представление результатов работы групп. Постановка вопросов друг другу по поводу выполненных задан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«Разры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осознание участников Мастерской неполноты или несоответствия своего прежнего знания новому. Фиксация внимания участников на возникших познавательных противоречиях. Организация работы учащихся в группах с источниками информации, позволяющими разрешить возникшие противо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«Рефлексия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ициация и активизация рефлексии учащихся по поводу индивидуальной и совмест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 по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Ерёмина Т.Я. Мастерские по литературе. 10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Ерёмина Т.Я. Мастерские по литературе. 11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разрушительный процесс, который происходит в душе главной героини по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понятия : «лейтмотив», «натуральная школа», «контра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наружить ряд сюжетных параллелей в драме А.Н.Островского «Гроза» и в повести Н.С.Лескова «Леди Макбет Мценского уезда» и на основе их сравнить характеры двух героин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ратить внимание на своеобразие развязки сю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казать актуальность п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формировать готовность к социальному взаимо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вивать устную речь, творчески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чить представлять и цивилизованно отстаивать свою точку зрения и мнение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пособствовать умению анализировать нестандартные ситуации и соотносить их с устремлениям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метить актуальность повести (отказ от новорождённого младенца; превращение свободы, не знающей нравственных ограничений, в свою противополож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крыть нравственную непросветвлённость чувства Катерины Измайловой, толкающего её на страшные пре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по повести Н.С.Лескова «Леди Макбет Мценского у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ишневская И. Великое инакомыслие. // Комсомольская правда. - 16 февраля 199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Лебедев Ю.В.Николай Семёнович Лесков // Литература в школе. – 2000. -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ярова И.В. В поисках идеала (Творчество Н.С.Лескова). Л.,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амбрина Н.С.Лесков. «Леди Макбет Мценского уезда».10 класс. // Литература в школе. – 2008. -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Чередникова М.П. Открытие Лескова // Литература в школе.  1991. – №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ория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мастерская» появилось в отечественной педагогике в начале 90-х годов 20 в. как термин французской группы «Новое образование». У истоков этой системы обучения стояли знаменитые психологи  Поль Ланжеван, Анри Валлон, Жан Пиаж. Слово это обозначает новый тип занятия, основанный на гуманистической филосо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технологию называют не «французскими», а  «петербургскими педагогическими мастерск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ределение и цели Мастерско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кая - педагогическая технология, которая по своей специфике основывается на тех целях, использует те средства образования и воспитания, которые стратегией модернизации образования отмечаются как важней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: ученик должен действовать автономно и рефлексивно; использовать различные средства интерактивно; входить в социально-гетерогенные группы и функционировать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евая ориентация заключается в том, чтобы предоставить обучающимся средства, позволяющие им личностно саморазвиваться, осознавать самих себя и свое место в мире, понимать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ипы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стро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 само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обенност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текстом на мастерских позволяет школьный анализ произведения представить как лично и общественно (для группы или класса) значим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терская включает в себя ряд заданий для учащихся, которые способствуют определенному движению в предметном плане. Внутри каждого задания школьники свободны в выборе способов выполнения. Позиция учителя состоит в консультировании учащихся, помощи им в организации учебной работы и осмыслении осваиваемых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«Индукция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эмоционального настроя, включение чувств ученика, создание личного отношения к предмету обсужде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«Самоконструкция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ндивидуальное создание гипотезы, решения, текста, рисунка,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0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«Социоконстру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учащихся в групп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«Социал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ъявление созданного продукта всем участникам, соединение индивидуаль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27:42Z</dcterms:created>
  <dc:creator>777</dc:creator>
  <dc:description/>
  <dc:language>en-US</dc:language>
  <cp:lastModifiedBy>777</cp:lastModifiedBy>
  <dcterms:modified xsi:type="dcterms:W3CDTF">2010-08-24T05:18:38Z</dcterms:modified>
  <cp:revision>11</cp:revision>
  <dc:subject/>
  <dc:title>Технология «Школа социализации»</dc:title>
</cp:coreProperties>
</file>