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476-C8EC-48F9-8BC2-EBA35396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0BA-CACD-49C4-8521-EE2135F8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B9D-A98F-4967-92CC-F73EB229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9BC-659D-4706-A5E3-EDE7ECCF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F7E7-777A-4037-B5AF-366EA078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884-5B4F-429C-8931-75A990B6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0113-A00C-428E-A07C-D3055D95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57C5-BCD9-43DB-9C7E-90141BA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82F-B09E-4306-9BB2-1589964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59AF-01DD-4292-BADE-4104C6E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8E77-09EA-4F95-96BC-90948F6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759-9E06-4737-B205-9872815B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96CC-E877-4698-B5B1-A65E4DD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24E-DACA-4E04-B9D6-FB032D6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6514-D7D5-4F1C-8CC1-D3E77CCB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99B2-66FC-41EC-8A77-F7631832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9ED-7FB1-4EE2-A3FE-BBC55C9C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9D5-4143-4B4B-AEA5-812446DB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0BE-B774-48A2-B896-D4D71A0F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A88-AFF9-41CF-8510-40E5D4A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F22-8FF5-4EA3-A3F9-3FE3987B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C03-13FB-4099-AF84-6001193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E01-7814-48CB-B82A-17FD035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EAD-8AAF-4369-A784-9B6990C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E94E-0E69-477C-B0B8-DC1B2390A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921D-9521-41F9-AD72-EE6D578D8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0280"/>
            <a:ext cx="914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259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Мастерская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по повести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Н.С. Лескова </a:t>
            </a:r>
            <a:br>
              <a:rPr sz="4200"/>
            </a:b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«Леди Макбет Мценского уезда»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ahoma"/>
              </a:rPr>
              <a:t>Драма любви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помните предпосланный повести эпигра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ём, по-вашему, его смыс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а нет жертвам, и они не впро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больше их, тем более трев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.Шекспир «Макб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1229-88b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Воспоминание Н.С. Лесков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е становилось временами  невыносимо жутко, волос поднимался дыбом, я застывал при малейшем шорохе, который производил сам движением ноги или поворотом шеи. Это были тяжёлые минуты, которых мне не забыть никогда. С тех пор избегаю описания таких ужа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авните поведение Катерины Львовны и Серге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Зиновия Измайлова (главы 7- 8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мальчика Феди Лямина (главы 9-11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допросах (глава 12 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торге (главы 13-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9734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35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5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чему повесть заканчивается ещё одним преступлением Катерины Измайлов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Задание 6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общего и чем отличаются Катерина Измайло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Катерина Кабано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Художник русской душ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был спасателем – всегда рядом с Достоевским и Толстым, чуть, правда, в стороне (то как бы отставая от них, то забегая вперёд), неоценённый и непризнанный до конца дней, поскольку на тяжкой дороге любви мешал ему  собственный темперамент: во всём «аффектация и пересол», торопливость и горячность самовыражения, во всём и всему – противоборство. На небосводе же русской литературы одинокая звезда его, наверное, ближе всего сошлась к звезде А.Н.Остро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Бас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Творческая судьба повест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32 г. – композитор Д.Шостакович создал на материале повести оперу «Катерина Измай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1 г. – польский режиссёр А.Вайда снял фильм «Сибирская леди Макб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6 г. – режиссёр М.Шапиро снял фильм-оперу с Г.Вишневской в главной пар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79 г. – постановка А.Гончарова в Московском театре им. Вл. Маяковского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89 г. – режиссёр Р.Балаян создал фильм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4 г. – режиссёр В.Тодоровский снял фильм «Подмосковные вечера», в котором история страсти Катерины Измайловой была перенесена в наш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952560"/>
                <a:tab algn="l" pos="1136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исьменно ответить на один из вопро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276720"/>
            <a:ext cx="7238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Преступница или жер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ина Измай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Можно ли оправдать     преступление, совершё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-за люб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cc"/>
                </a:solidFill>
                <a:latin typeface="Tahoma"/>
              </a:rPr>
              <a:t>Хроника жизни Н.С. Лескова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52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Родился 4 февраля 1831 г. в с.Горохове, Орловской губернии. Отец был заседателем Орловской уголовной палат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 1847-1849 гг. служил в Орловской палате уголовного суд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 1849 по 1856 г. занимал различные должности в Киевской казённой палат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57 г. – поступление на службу в хозяйственно-коммерческую компанию. «Изъездил всю Россию в самых разнообразных направлениях», «собрал «большое обилие впечатлений и запас бытовых сведений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61 г. – переезд в Петербург. Публикация первых рассказов, в основе которых лежат реальные событи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95 г. – кончи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eskov_1" descr=""/>
          <p:cNvPicPr/>
          <p:nvPr/>
        </p:nvPicPr>
        <p:blipFill>
          <a:blip r:embed="rId2"/>
          <a:stretch/>
        </p:blipFill>
        <p:spPr>
          <a:xfrm>
            <a:off x="203040" y="2057400"/>
            <a:ext cx="3530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История создания повести 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«Леди Макбет Мценского уезда»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568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а в 1864 г. в Киеве в начале творческого пути Н.С.Лескова. Впервые напечатана в 1865 году в журнале «Эпоха», издаваемом братьями Ф. и М. Достоевскими, под названием «Леди Макбет нашего уезда». Имеет подзаголовок – «очерк». Писатель всегда настаивал на особом значении для его творчества факта, реального происшествия, от которого могло бы оттолкнуться воображение: «Я всегда люблю основывать дело на живом событии, а не на вымысл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ть жизни ты подашь пример кровав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на тебе такой же даст у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Ты в кубок яду льёшь, а справед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односит этот яд к твоим губ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У. Шекспир «Макб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Цели и задачи Мастерской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ть русскую драму, созревшую на почве косного, неподвижного б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ть крестный путь лесковской герои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сложность, неоднозначность народной души, непостижимость поведения простого человека с точки зрения раз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судьбы Катерины Кабановой и Катерины Измайло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ься в том, что за любым преступлением неизбежно следует нака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чем ассоциируется у вас жизнь Катерины Львов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упеческом «тереме»? (глава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_15-ledi_makb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2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зарождается любов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изображено автором захватившее героиню чувство? (глава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8-03-12T09:10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