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1.wmf" ContentType="image/x-wmf"/>
  <Override PartName="/ppt/media/image19.png" ContentType="image/png"/>
  <Override PartName="/ppt/media/image1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42B2-54BB-4EB3-AF55-FC741935E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61E3-907F-4150-BFFE-24F18549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4588-2535-4C7B-B686-65150B8EB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13B0-77DE-47EC-AC6F-8BCEF98A0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E9F0-59A3-4D77-AE58-D95DD1361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5C09-ACBB-40FA-B993-E2C2653E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1769-213C-413D-9949-30AF3A35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7837-9462-4A40-BE74-23C68659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C8EF-483B-4621-B047-CEA968BF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1A59-436B-4AE0-B5F1-D2DEC9D9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4516-7F9F-4F5A-BB6F-8E203C24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6169-2583-4DD5-AE2D-07E8DC93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AB46-429E-4FA2-AF5F-5B84A684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8CF6-DEB3-4AF8-8A64-55545683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4A3E-DDB4-405A-9B1B-418A75C2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B793-FE72-4B06-8A3F-A2DF7DD62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E456-0BE6-45D5-940E-979E621F4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FCB4-A2D6-478D-B52C-74A7BDF1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15A8-BBF9-4AC6-B8E3-4B4476A1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6CBD-BED9-4F1A-BF59-ECC59F11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9B32-6165-40F7-8109-0B5E8355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F789-DC16-49EA-876C-9939434F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A1A4-6701-4365-BD35-BB304EDE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E0A9-29EE-4442-B6C1-8798C2C1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1029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1030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1031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1032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1033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34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035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036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037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038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039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040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041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042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043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1044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1045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1046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1047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1048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1049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1050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1051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1052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1053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1054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1055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1056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1057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1058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1059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1060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1061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1062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1063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1064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1065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1066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1067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1068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1069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1070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1071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1072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1073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74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1075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1076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1077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1078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1079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1080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1081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1082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1083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1084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1085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1086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1087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1088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A1CD-43B6-4B63-AF47-AC4CA637A17A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DC86-BA17-4282-9DBB-8236D75C8A09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Verdana"/>
              </a:rPr>
              <a:t>Тема программы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110440" cy="14734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2774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онтаж РЭА и приборов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едней сложност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Picture 8" descr="phone_1120"/>
          <p:cNvPicPr/>
          <p:nvPr/>
        </p:nvPicPr>
        <p:blipFill>
          <a:blip r:embed="rId2"/>
          <a:stretch/>
        </p:blipFill>
        <p:spPr>
          <a:xfrm>
            <a:off x="0" y="3645000"/>
            <a:ext cx="2736720" cy="2736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bekas"/>
          <p:cNvPicPr/>
          <p:nvPr/>
        </p:nvPicPr>
        <p:blipFill>
          <a:blip r:embed="rId3"/>
          <a:stretch/>
        </p:blipFill>
        <p:spPr>
          <a:xfrm>
            <a:off x="3132000" y="407664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duet2"/>
          <p:cNvPicPr/>
          <p:nvPr/>
        </p:nvPicPr>
        <p:blipFill>
          <a:blip r:embed="rId4"/>
          <a:stretch/>
        </p:blipFill>
        <p:spPr>
          <a:xfrm>
            <a:off x="6516720" y="3573360"/>
            <a:ext cx="214308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0" y="189000"/>
          <a:ext cx="9180360" cy="6654600"/>
        </p:xfrm>
        <a:graphic>
          <a:graphicData uri="http://schemas.openxmlformats.org/drawingml/2006/table">
            <a:tbl>
              <a:tblPr/>
              <a:tblGrid>
                <a:gridCol w="849240"/>
                <a:gridCol w="4443480"/>
                <a:gridCol w="1673280"/>
                <a:gridCol w="2214360"/>
              </a:tblGrid>
              <a:tr h="85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.Выводы элементов обрезать вручную бокорезами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нтажна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При работе с полупроводниковыми приборами пользоваться антиэлектростатическим браслетом для защиты элементов от статического электричества. Сопротивление  между антиэлектростатическим браслетом и корпусом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1мегоом 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+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10%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 пайке полупроводниковых приборов использовать паяльник мощностью не более 25 Вт напряжением 36В, заземление жала паяльника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больше или равно 5 О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0" y="189000"/>
          <a:ext cx="9180360" cy="6381720"/>
        </p:xfrm>
        <a:graphic>
          <a:graphicData uri="http://schemas.openxmlformats.org/drawingml/2006/table">
            <a:tbl>
              <a:tblPr/>
              <a:tblGrid>
                <a:gridCol w="849240"/>
                <a:gridCol w="4443480"/>
                <a:gridCol w="1673280"/>
                <a:gridCol w="2214360"/>
              </a:tblGrid>
              <a:tr h="125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При пайке не допускать попадания припоя на корпус ЭРЭ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Наносить флюс, на поверхность подлежащую пайке, без каплеобразования, не допускается затекания флюса в негерметичный подстроечный резистор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, разъёмы, колодки, тактовую кнопку. Запрещается использовать активный флюс, паять, избегая излишнего перегрев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0" y="189000"/>
          <a:ext cx="9180360" cy="5796000"/>
        </p:xfrm>
        <a:graphic>
          <a:graphicData uri="http://schemas.openxmlformats.org/drawingml/2006/table">
            <a:tbl>
              <a:tblPr/>
              <a:tblGrid>
                <a:gridCol w="849240"/>
                <a:gridCol w="4443480"/>
                <a:gridCol w="1673280"/>
                <a:gridCol w="2214360"/>
              </a:tblGrid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омывка и уклад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Протереть поверхность платы, деталей, пайки, элементы от загрязнений тампоном из миткаля, смоченным в спирте (спирто –бензиновая смесь 1: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Исключить затекание промывочной жидкости во внутрь негерметичных приборов, узл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ные материал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пирт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–бензиновая смесь 1: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Митк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-36360" y="115920"/>
          <a:ext cx="9180360" cy="7711920"/>
        </p:xfrm>
        <a:graphic>
          <a:graphicData uri="http://schemas.openxmlformats.org/drawingml/2006/table">
            <a:tbl>
              <a:tblPr/>
              <a:tblGrid>
                <a:gridCol w="849240"/>
                <a:gridCol w="4443480"/>
                <a:gridCol w="1672920"/>
                <a:gridCol w="221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нтроль монтаж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Проверить качество монтажа на соответствие схемы электрической и перечня элемент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Проверить качество пайки. Пайка монтажных соединений должна быть скелетной, обеспечивать надёжность электрического контакта и необходимою механическую прочность. Поверхность галтелей припоя по всему периметру паяного шва должна быть вогнутой, непрерывной, гладкой, глянцевой без тёмных пятен и посторонних включений. Высота паяных соединений над печатной платой не должна превышать 2 мм. для всех электрорадиоэлементов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-36360" y="115920"/>
          <a:ext cx="9180360" cy="7102440"/>
        </p:xfrm>
        <a:graphic>
          <a:graphicData uri="http://schemas.openxmlformats.org/drawingml/2006/table">
            <a:tbl>
              <a:tblPr/>
              <a:tblGrid>
                <a:gridCol w="849240"/>
                <a:gridCol w="4443480"/>
                <a:gridCol w="1672920"/>
                <a:gridCol w="2214720"/>
              </a:tblGrid>
              <a:tr h="710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 Зазоры между токонесущими элементами и корпусом должны быть не менее 1,0 м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 Маркировка деталей должна быть чёткой и ясно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Пайки должны быть чистыми, ровными без раковин и подтёк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.Выводы радиоэлементов не должны лежать на острых кромках детале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.Детали не должны иметь вмятин, царапин и других повреждений лакокрасочного покрыт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.Не допускается наличие брызг припоя и посторонних предметов на деталях и элементов монтаж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Щуп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19116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Проверка домашнего задания №2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116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0033cc"/>
                </a:solidFill>
                <a:latin typeface="Verdana"/>
              </a:rPr>
              <a:t>Составить эскиз с вариантами формовки радиоэлемент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76312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Verdana"/>
              </a:rPr>
              <a:t>Примеры монтажа радиоэлементов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1219320" y="2286000"/>
            <a:ext cx="61722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838080" y="990720"/>
            <a:ext cx="678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анзисто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Picture 19" descr=""/>
          <p:cNvPicPr/>
          <p:nvPr/>
        </p:nvPicPr>
        <p:blipFill>
          <a:blip r:embed="rId2"/>
          <a:stretch/>
        </p:blipFill>
        <p:spPr>
          <a:xfrm>
            <a:off x="304920" y="2743200"/>
            <a:ext cx="80229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1905120" y="12952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1447920" y="380880"/>
            <a:ext cx="60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анзисто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7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0233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762120" y="11430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2286000" y="457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оды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6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84872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3"/>
          <p:cNvSpPr/>
          <p:nvPr/>
        </p:nvSpPr>
        <p:spPr>
          <a:xfrm>
            <a:off x="0" y="914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209680" y="13716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3659400" y="380880"/>
            <a:ext cx="13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оды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6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830592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Verdana"/>
              </a:rPr>
              <a:t>Тема урока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11280" y="1125000"/>
            <a:ext cx="7772400" cy="2057400"/>
          </a:xfrm>
          <a:prstGeom prst="rect">
            <a:avLst/>
          </a:prstGeom>
          <a:gradFill rotWithShape="0">
            <a:gsLst>
              <a:gs pos="0">
                <a:srgbClr val="184776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омплексные работы по теме «Монтаж РЭА и приборов средней сложности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2052" descr="Video1"/>
          <p:cNvPicPr/>
          <p:nvPr/>
        </p:nvPicPr>
        <p:blipFill>
          <a:blip r:embed="rId1"/>
          <a:stretch/>
        </p:blipFill>
        <p:spPr>
          <a:xfrm>
            <a:off x="0" y="3500280"/>
            <a:ext cx="3889440" cy="2918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053" descr="r_002"/>
          <p:cNvPicPr/>
          <p:nvPr/>
        </p:nvPicPr>
        <p:blipFill>
          <a:blip r:embed="rId2"/>
          <a:stretch/>
        </p:blipFill>
        <p:spPr>
          <a:xfrm>
            <a:off x="5076720" y="3860640"/>
            <a:ext cx="329112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533520" y="990720"/>
            <a:ext cx="632448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5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денсатор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5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314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"/>
          <p:cNvSpPr/>
          <p:nvPr/>
        </p:nvSpPr>
        <p:spPr>
          <a:xfrm>
            <a:off x="457200" y="11430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380880" y="1905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4, МТ, МЛТ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144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6019920" y="1905120"/>
            <a:ext cx="129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3-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6019920" y="1295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1828800" y="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исто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14" descr=""/>
          <p:cNvPicPr/>
          <p:nvPr/>
        </p:nvPicPr>
        <p:blipFill>
          <a:blip r:embed="rId1"/>
          <a:stretch/>
        </p:blipFill>
        <p:spPr>
          <a:xfrm>
            <a:off x="1143000" y="2895480"/>
            <a:ext cx="2914560" cy="32799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5" descr=""/>
          <p:cNvPicPr/>
          <p:nvPr/>
        </p:nvPicPr>
        <p:blipFill>
          <a:blip r:embed="rId2"/>
          <a:stretch/>
        </p:blipFill>
        <p:spPr>
          <a:xfrm>
            <a:off x="4876920" y="2819520"/>
            <a:ext cx="332568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9440" y="1843560"/>
            <a:ext cx="9034560" cy="210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Что произойдет если радиоэлементы не правильно установить?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660240"/>
            <a:ext cx="5724360" cy="61977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ccff33"/>
              </a:gs>
              <a:gs pos="100000">
                <a:srgbClr val="99cc00"/>
              </a:gs>
            </a:gsLst>
            <a:lin ang="2700000"/>
          </a:gradFill>
          <a:ln w="9360">
            <a:solidFill>
              <a:srgbClr val="ff0000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Имейте в виду, что на поиск ошибочно установленного элемента потребуется много времени при последующей </a:t>
            </a:r>
            <a:br>
              <a:rPr sz="4000"/>
            </a:b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наладке электронного усройства.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2"/>
          <a:stretch/>
        </p:blipFill>
        <p:spPr>
          <a:xfrm>
            <a:off x="5796000" y="1916280"/>
            <a:ext cx="31813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2132640"/>
            <a:ext cx="9034560" cy="210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Давайте повторим требования к пайке. </a:t>
            </a:r>
            <a:br>
              <a:rPr sz="4400"/>
            </a:b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Какая должна быть пайка?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1955880"/>
            <a:ext cx="9144000" cy="27813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Verdana"/>
              </a:rPr>
              <a:t>Недопустим перегрев ножек электрорадиоэлементов и контактных площадок печатной платы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66" name="Picture 3" descr="сканирование0055"/>
          <p:cNvPicPr/>
          <p:nvPr/>
        </p:nvPicPr>
        <p:blipFill>
          <a:blip r:embed="rId1"/>
          <a:stretch/>
        </p:blipFill>
        <p:spPr>
          <a:xfrm>
            <a:off x="2590920" y="4930920"/>
            <a:ext cx="388620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834120"/>
            <a:ext cx="9144000" cy="47840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Verdana"/>
              </a:rPr>
              <a:t>Признаком качественной пайки является равномерно растекшийся припой, который при застывании приобретает гладкую блестящую поверхность без пор и острых выпуклостей.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684000"/>
            <a:ext cx="7772400" cy="344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Запомните!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Verdana"/>
              </a:rPr>
              <a:t>Качество пайки не зависит от количества залитого припоя.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1658880"/>
            <a:ext cx="9036000" cy="27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Запомните!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Verdana"/>
              </a:rPr>
              <a:t>Признаком плохой пайки</a:t>
            </a: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Verdana"/>
              </a:rPr>
              <a:t>является матовая шероховатая поверхность.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759600"/>
            <a:ext cx="7772400" cy="478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Запрещается!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Verdana"/>
              </a:rPr>
              <a:t>При монтаже радиоэлектронной аппаратуры и приборов пользоваться флюсом с содержанием кислоты.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Verdana"/>
              </a:rPr>
              <a:t>Цель урока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9144000" cy="3456000"/>
          </a:xfrm>
          <a:prstGeom prst="rect">
            <a:avLst/>
          </a:prstGeom>
          <a:solidFill>
            <a:srgbClr val="ccff33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Verdana"/>
              </a:rPr>
              <a:t>1.Выполнить монтаж электронного устройства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Verdana"/>
              </a:rPr>
              <a:t>2.Проверить качество монтажа электронного устройств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1233360"/>
            <a:ext cx="7772400" cy="27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a0000"/>
                </a:solidFill>
                <a:latin typeface="Verdana"/>
              </a:rPr>
              <a:t>Повторим.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Verdana"/>
              </a:rPr>
              <a:t>Если пайка будет некачественной, то какие могут быть последствия?</a:t>
            </a: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859320"/>
            <a:ext cx="9034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Техника безопасности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Пользоваться исправным инструментом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Работать в спец. одежд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роверить исправность оборудования,  приборов и соблюдать правила работы  с ним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457200" y="0"/>
            <a:ext cx="80010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РТА ВЗАИМОКОНТРОЛЯ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:___________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ил: _____________                                                                      Проверил:_______________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5" name="Group 107"/>
          <p:cNvGrpSpPr/>
          <p:nvPr/>
        </p:nvGrpSpPr>
        <p:grpSpPr>
          <a:xfrm>
            <a:off x="685800" y="1066680"/>
            <a:ext cx="7314840" cy="5410440"/>
            <a:chOff x="685800" y="1066680"/>
            <a:chExt cx="7314840" cy="5410440"/>
          </a:xfrm>
        </p:grpSpPr>
        <p:grpSp>
          <p:nvGrpSpPr>
            <p:cNvPr id="276" name="Group 105"/>
            <p:cNvGrpSpPr/>
            <p:nvPr/>
          </p:nvGrpSpPr>
          <p:grpSpPr>
            <a:xfrm>
              <a:off x="691560" y="1069560"/>
              <a:ext cx="7302600" cy="5404680"/>
              <a:chOff x="691560" y="1069560"/>
              <a:chExt cx="7302600" cy="5404680"/>
            </a:xfrm>
          </p:grpSpPr>
          <p:grpSp>
            <p:nvGrpSpPr>
              <p:cNvPr id="277" name="Group 38"/>
              <p:cNvGrpSpPr/>
              <p:nvPr/>
            </p:nvGrpSpPr>
            <p:grpSpPr>
              <a:xfrm>
                <a:off x="691560" y="1069560"/>
                <a:ext cx="649800" cy="429120"/>
                <a:chOff x="691560" y="1069560"/>
                <a:chExt cx="649800" cy="429120"/>
              </a:xfrm>
            </p:grpSpPr>
            <p:sp>
              <p:nvSpPr>
                <p:cNvPr id="278" name="Rectangle 3"/>
                <p:cNvSpPr/>
                <p:nvPr/>
              </p:nvSpPr>
              <p:spPr>
                <a:xfrm>
                  <a:off x="777240" y="1069560"/>
                  <a:ext cx="4780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№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9" name="Rectangle 37"/>
                <p:cNvSpPr/>
                <p:nvPr/>
              </p:nvSpPr>
              <p:spPr>
                <a:xfrm>
                  <a:off x="691560" y="1069560"/>
                  <a:ext cx="649800" cy="42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0" name="Group 40"/>
              <p:cNvGrpSpPr/>
              <p:nvPr/>
            </p:nvGrpSpPr>
            <p:grpSpPr>
              <a:xfrm>
                <a:off x="1341720" y="1069560"/>
                <a:ext cx="4088520" cy="429120"/>
                <a:chOff x="1341720" y="1069560"/>
                <a:chExt cx="4088520" cy="429120"/>
              </a:xfrm>
            </p:grpSpPr>
            <p:sp>
              <p:nvSpPr>
                <p:cNvPr id="281" name="Rectangle 4"/>
                <p:cNvSpPr/>
                <p:nvPr/>
              </p:nvSpPr>
              <p:spPr>
                <a:xfrm>
                  <a:off x="1427040" y="1069560"/>
                  <a:ext cx="39171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Наименование  критериев оценки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2" name="Rectangle 39"/>
                <p:cNvSpPr/>
                <p:nvPr/>
              </p:nvSpPr>
              <p:spPr>
                <a:xfrm>
                  <a:off x="1341720" y="1069560"/>
                  <a:ext cx="4088520" cy="42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3" name="Group 42"/>
              <p:cNvGrpSpPr/>
              <p:nvPr/>
            </p:nvGrpSpPr>
            <p:grpSpPr>
              <a:xfrm>
                <a:off x="5430600" y="1069560"/>
                <a:ext cx="2563560" cy="429120"/>
                <a:chOff x="5430600" y="1069560"/>
                <a:chExt cx="2563560" cy="429120"/>
              </a:xfrm>
            </p:grpSpPr>
            <p:sp>
              <p:nvSpPr>
                <p:cNvPr id="284" name="Rectangle 5"/>
                <p:cNvSpPr/>
                <p:nvPr/>
              </p:nvSpPr>
              <p:spPr>
                <a:xfrm>
                  <a:off x="5516280" y="1069560"/>
                  <a:ext cx="23918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Баллы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5" name="Rectangle 41"/>
                <p:cNvSpPr/>
                <p:nvPr/>
              </p:nvSpPr>
              <p:spPr>
                <a:xfrm>
                  <a:off x="5430600" y="1069560"/>
                  <a:ext cx="2563560" cy="42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6" name="Group 44"/>
              <p:cNvGrpSpPr/>
              <p:nvPr/>
            </p:nvGrpSpPr>
            <p:grpSpPr>
              <a:xfrm>
                <a:off x="691560" y="1498680"/>
                <a:ext cx="649800" cy="526680"/>
                <a:chOff x="691560" y="1498680"/>
                <a:chExt cx="649800" cy="526680"/>
              </a:xfrm>
            </p:grpSpPr>
            <p:sp>
              <p:nvSpPr>
                <p:cNvPr id="287" name="Rectangle 6"/>
                <p:cNvSpPr/>
                <p:nvPr/>
              </p:nvSpPr>
              <p:spPr>
                <a:xfrm>
                  <a:off x="777240" y="1498680"/>
                  <a:ext cx="47808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8" name="Rectangle 43"/>
                <p:cNvSpPr/>
                <p:nvPr/>
              </p:nvSpPr>
              <p:spPr>
                <a:xfrm>
                  <a:off x="691560" y="1498680"/>
                  <a:ext cx="64980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9" name="Group 46"/>
              <p:cNvGrpSpPr/>
              <p:nvPr/>
            </p:nvGrpSpPr>
            <p:grpSpPr>
              <a:xfrm>
                <a:off x="1341720" y="1498680"/>
                <a:ext cx="4088520" cy="526680"/>
                <a:chOff x="1341720" y="1498680"/>
                <a:chExt cx="4088520" cy="526680"/>
              </a:xfrm>
            </p:grpSpPr>
            <p:sp>
              <p:nvSpPr>
                <p:cNvPr id="290" name="Rectangle 7"/>
                <p:cNvSpPr/>
                <p:nvPr/>
              </p:nvSpPr>
              <p:spPr>
                <a:xfrm>
                  <a:off x="1427040" y="1498680"/>
                  <a:ext cx="391716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Блестящая гладкая поверхность пайки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1 качественная пайка – 1 балл)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1" name="Rectangle 45"/>
                <p:cNvSpPr/>
                <p:nvPr/>
              </p:nvSpPr>
              <p:spPr>
                <a:xfrm>
                  <a:off x="1341720" y="1498680"/>
                  <a:ext cx="408852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92" name="Group 48"/>
              <p:cNvGrpSpPr/>
              <p:nvPr/>
            </p:nvGrpSpPr>
            <p:grpSpPr>
              <a:xfrm>
                <a:off x="5430600" y="1498680"/>
                <a:ext cx="2563560" cy="526680"/>
                <a:chOff x="5430600" y="1498680"/>
                <a:chExt cx="2563560" cy="526680"/>
              </a:xfrm>
            </p:grpSpPr>
            <p:sp>
              <p:nvSpPr>
                <p:cNvPr id="293" name="Rectangle 8"/>
                <p:cNvSpPr/>
                <p:nvPr/>
              </p:nvSpPr>
              <p:spPr>
                <a:xfrm>
                  <a:off x="5516280" y="1498680"/>
                  <a:ext cx="239184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4" name="Rectangle 47"/>
                <p:cNvSpPr/>
                <p:nvPr/>
              </p:nvSpPr>
              <p:spPr>
                <a:xfrm>
                  <a:off x="5430600" y="1498680"/>
                  <a:ext cx="256356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95" name="Group 50"/>
              <p:cNvGrpSpPr/>
              <p:nvPr/>
            </p:nvGrpSpPr>
            <p:grpSpPr>
              <a:xfrm>
                <a:off x="691560" y="2025360"/>
                <a:ext cx="649800" cy="526680"/>
                <a:chOff x="691560" y="2025360"/>
                <a:chExt cx="649800" cy="526680"/>
              </a:xfrm>
            </p:grpSpPr>
            <p:sp>
              <p:nvSpPr>
                <p:cNvPr id="296" name="Rectangle 9"/>
                <p:cNvSpPr/>
                <p:nvPr/>
              </p:nvSpPr>
              <p:spPr>
                <a:xfrm>
                  <a:off x="777240" y="2025360"/>
                  <a:ext cx="47808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7" name="Rectangle 49"/>
                <p:cNvSpPr/>
                <p:nvPr/>
              </p:nvSpPr>
              <p:spPr>
                <a:xfrm>
                  <a:off x="691560" y="2025360"/>
                  <a:ext cx="64980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98" name="Group 52"/>
              <p:cNvGrpSpPr/>
              <p:nvPr/>
            </p:nvGrpSpPr>
            <p:grpSpPr>
              <a:xfrm>
                <a:off x="1341720" y="2025360"/>
                <a:ext cx="4088520" cy="526680"/>
                <a:chOff x="1341720" y="2025360"/>
                <a:chExt cx="4088520" cy="526680"/>
              </a:xfrm>
            </p:grpSpPr>
            <p:sp>
              <p:nvSpPr>
                <p:cNvPr id="299" name="Rectangle 10"/>
                <p:cNvSpPr/>
                <p:nvPr/>
              </p:nvSpPr>
              <p:spPr>
                <a:xfrm>
                  <a:off x="1427040" y="2025360"/>
                  <a:ext cx="391716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«Скелетная» пайка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1 качественная пайка – 1 балл)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0" name="Rectangle 51"/>
                <p:cNvSpPr/>
                <p:nvPr/>
              </p:nvSpPr>
              <p:spPr>
                <a:xfrm>
                  <a:off x="1341720" y="2025360"/>
                  <a:ext cx="408852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01" name="Group 54"/>
              <p:cNvGrpSpPr/>
              <p:nvPr/>
            </p:nvGrpSpPr>
            <p:grpSpPr>
              <a:xfrm>
                <a:off x="5430600" y="2025360"/>
                <a:ext cx="2563560" cy="526680"/>
                <a:chOff x="5430600" y="2025360"/>
                <a:chExt cx="2563560" cy="526680"/>
              </a:xfrm>
            </p:grpSpPr>
            <p:sp>
              <p:nvSpPr>
                <p:cNvPr id="302" name="Rectangle 11"/>
                <p:cNvSpPr/>
                <p:nvPr/>
              </p:nvSpPr>
              <p:spPr>
                <a:xfrm>
                  <a:off x="5516280" y="2025360"/>
                  <a:ext cx="239184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3" name="Rectangle 53"/>
                <p:cNvSpPr/>
                <p:nvPr/>
              </p:nvSpPr>
              <p:spPr>
                <a:xfrm>
                  <a:off x="5430600" y="2025360"/>
                  <a:ext cx="256356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04" name="Group 56"/>
              <p:cNvGrpSpPr/>
              <p:nvPr/>
            </p:nvGrpSpPr>
            <p:grpSpPr>
              <a:xfrm>
                <a:off x="691560" y="2552400"/>
                <a:ext cx="649800" cy="526680"/>
                <a:chOff x="691560" y="2552400"/>
                <a:chExt cx="649800" cy="526680"/>
              </a:xfrm>
            </p:grpSpPr>
            <p:sp>
              <p:nvSpPr>
                <p:cNvPr id="305" name="Rectangle 12"/>
                <p:cNvSpPr/>
                <p:nvPr/>
              </p:nvSpPr>
              <p:spPr>
                <a:xfrm>
                  <a:off x="777240" y="2552400"/>
                  <a:ext cx="47808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6" name="Rectangle 55"/>
                <p:cNvSpPr/>
                <p:nvPr/>
              </p:nvSpPr>
              <p:spPr>
                <a:xfrm>
                  <a:off x="691560" y="2552400"/>
                  <a:ext cx="64980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07" name="Group 58"/>
              <p:cNvGrpSpPr/>
              <p:nvPr/>
            </p:nvGrpSpPr>
            <p:grpSpPr>
              <a:xfrm>
                <a:off x="1341720" y="2552400"/>
                <a:ext cx="4088520" cy="526680"/>
                <a:chOff x="1341720" y="2552400"/>
                <a:chExt cx="4088520" cy="526680"/>
              </a:xfrm>
            </p:grpSpPr>
            <p:sp>
              <p:nvSpPr>
                <p:cNvPr id="308" name="Rectangle 13"/>
                <p:cNvSpPr/>
                <p:nvPr/>
              </p:nvSpPr>
              <p:spPr>
                <a:xfrm>
                  <a:off x="1427040" y="2552400"/>
                  <a:ext cx="391716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Правильная формовка и лужение выводов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5 баллов)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9" name="Rectangle 57"/>
                <p:cNvSpPr/>
                <p:nvPr/>
              </p:nvSpPr>
              <p:spPr>
                <a:xfrm>
                  <a:off x="1341720" y="2552400"/>
                  <a:ext cx="408852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10" name="Group 60"/>
              <p:cNvGrpSpPr/>
              <p:nvPr/>
            </p:nvGrpSpPr>
            <p:grpSpPr>
              <a:xfrm>
                <a:off x="5430600" y="2552400"/>
                <a:ext cx="2563560" cy="526680"/>
                <a:chOff x="5430600" y="2552400"/>
                <a:chExt cx="2563560" cy="526680"/>
              </a:xfrm>
            </p:grpSpPr>
            <p:sp>
              <p:nvSpPr>
                <p:cNvPr id="311" name="Rectangle 14"/>
                <p:cNvSpPr/>
                <p:nvPr/>
              </p:nvSpPr>
              <p:spPr>
                <a:xfrm>
                  <a:off x="5516280" y="2552400"/>
                  <a:ext cx="239184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2" name="Rectangle 59"/>
                <p:cNvSpPr/>
                <p:nvPr/>
              </p:nvSpPr>
              <p:spPr>
                <a:xfrm>
                  <a:off x="5430600" y="2552400"/>
                  <a:ext cx="256356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13" name="Group 62"/>
              <p:cNvGrpSpPr/>
              <p:nvPr/>
            </p:nvGrpSpPr>
            <p:grpSpPr>
              <a:xfrm>
                <a:off x="691560" y="3079080"/>
                <a:ext cx="649800" cy="526680"/>
                <a:chOff x="691560" y="3079080"/>
                <a:chExt cx="649800" cy="526680"/>
              </a:xfrm>
            </p:grpSpPr>
            <p:sp>
              <p:nvSpPr>
                <p:cNvPr id="314" name="Rectangle 15"/>
                <p:cNvSpPr/>
                <p:nvPr/>
              </p:nvSpPr>
              <p:spPr>
                <a:xfrm>
                  <a:off x="777240" y="3079080"/>
                  <a:ext cx="47808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5" name="Rectangle 61"/>
                <p:cNvSpPr/>
                <p:nvPr/>
              </p:nvSpPr>
              <p:spPr>
                <a:xfrm>
                  <a:off x="691560" y="3079080"/>
                  <a:ext cx="64980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16" name="Group 64"/>
              <p:cNvGrpSpPr/>
              <p:nvPr/>
            </p:nvGrpSpPr>
            <p:grpSpPr>
              <a:xfrm>
                <a:off x="1341720" y="3079080"/>
                <a:ext cx="4088520" cy="526680"/>
                <a:chOff x="1341720" y="3079080"/>
                <a:chExt cx="4088520" cy="526680"/>
              </a:xfrm>
            </p:grpSpPr>
            <p:sp>
              <p:nvSpPr>
                <p:cNvPr id="317" name="Rectangle 16"/>
                <p:cNvSpPr/>
                <p:nvPr/>
              </p:nvSpPr>
              <p:spPr>
                <a:xfrm>
                  <a:off x="1427040" y="3079080"/>
                  <a:ext cx="391716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Состояние печатных проводников (отслоение дорожек)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(5 баллов)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8" name="Rectangle 63"/>
                <p:cNvSpPr/>
                <p:nvPr/>
              </p:nvSpPr>
              <p:spPr>
                <a:xfrm>
                  <a:off x="1341720" y="3079080"/>
                  <a:ext cx="408852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19" name="Group 66"/>
              <p:cNvGrpSpPr/>
              <p:nvPr/>
            </p:nvGrpSpPr>
            <p:grpSpPr>
              <a:xfrm>
                <a:off x="5430600" y="3079080"/>
                <a:ext cx="2563560" cy="526680"/>
                <a:chOff x="5430600" y="3079080"/>
                <a:chExt cx="2563560" cy="526680"/>
              </a:xfrm>
            </p:grpSpPr>
            <p:sp>
              <p:nvSpPr>
                <p:cNvPr id="320" name="Rectangle 17"/>
                <p:cNvSpPr/>
                <p:nvPr/>
              </p:nvSpPr>
              <p:spPr>
                <a:xfrm>
                  <a:off x="5516280" y="3079080"/>
                  <a:ext cx="239184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1" name="Rectangle 65"/>
                <p:cNvSpPr/>
                <p:nvPr/>
              </p:nvSpPr>
              <p:spPr>
                <a:xfrm>
                  <a:off x="5430600" y="3079080"/>
                  <a:ext cx="256356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22" name="Group 68"/>
              <p:cNvGrpSpPr/>
              <p:nvPr/>
            </p:nvGrpSpPr>
            <p:grpSpPr>
              <a:xfrm>
                <a:off x="691560" y="3605760"/>
                <a:ext cx="649800" cy="526680"/>
                <a:chOff x="691560" y="3605760"/>
                <a:chExt cx="649800" cy="526680"/>
              </a:xfrm>
            </p:grpSpPr>
            <p:sp>
              <p:nvSpPr>
                <p:cNvPr id="323" name="Rectangle 18"/>
                <p:cNvSpPr/>
                <p:nvPr/>
              </p:nvSpPr>
              <p:spPr>
                <a:xfrm>
                  <a:off x="777240" y="3605760"/>
                  <a:ext cx="47808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4" name="Rectangle 67"/>
                <p:cNvSpPr/>
                <p:nvPr/>
              </p:nvSpPr>
              <p:spPr>
                <a:xfrm>
                  <a:off x="691560" y="3605760"/>
                  <a:ext cx="64980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25" name="Group 70"/>
              <p:cNvGrpSpPr/>
              <p:nvPr/>
            </p:nvGrpSpPr>
            <p:grpSpPr>
              <a:xfrm>
                <a:off x="1341720" y="3605760"/>
                <a:ext cx="4088520" cy="526680"/>
                <a:chOff x="1341720" y="3605760"/>
                <a:chExt cx="4088520" cy="526680"/>
              </a:xfrm>
            </p:grpSpPr>
            <p:sp>
              <p:nvSpPr>
                <p:cNvPr id="326" name="Rectangle 19"/>
                <p:cNvSpPr/>
                <p:nvPr/>
              </p:nvSpPr>
              <p:spPr>
                <a:xfrm>
                  <a:off x="1427040" y="3605760"/>
                  <a:ext cx="391716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Укладка монтажа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(5 баллов)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Промывка паек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(5 баллов)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000000"/>
                      </a:solidFill>
                      <a:latin typeface="Times New Roman"/>
                    </a:rPr>
                    <a:t>Проверка соответствия схеме монтажной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7" name="Rectangle 69"/>
                <p:cNvSpPr/>
                <p:nvPr/>
              </p:nvSpPr>
              <p:spPr>
                <a:xfrm>
                  <a:off x="1341720" y="3605760"/>
                  <a:ext cx="408852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28" name="Group 72"/>
              <p:cNvGrpSpPr/>
              <p:nvPr/>
            </p:nvGrpSpPr>
            <p:grpSpPr>
              <a:xfrm>
                <a:off x="5430600" y="3605760"/>
                <a:ext cx="2563560" cy="526680"/>
                <a:chOff x="5430600" y="3605760"/>
                <a:chExt cx="2563560" cy="526680"/>
              </a:xfrm>
            </p:grpSpPr>
            <p:sp>
              <p:nvSpPr>
                <p:cNvPr id="329" name="Rectangle 20"/>
                <p:cNvSpPr/>
                <p:nvPr/>
              </p:nvSpPr>
              <p:spPr>
                <a:xfrm>
                  <a:off x="5516280" y="3605760"/>
                  <a:ext cx="239184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0" name="Rectangle 71"/>
                <p:cNvSpPr/>
                <p:nvPr/>
              </p:nvSpPr>
              <p:spPr>
                <a:xfrm>
                  <a:off x="5430600" y="3605760"/>
                  <a:ext cx="256356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31" name="Group 74"/>
              <p:cNvGrpSpPr/>
              <p:nvPr/>
            </p:nvGrpSpPr>
            <p:grpSpPr>
              <a:xfrm>
                <a:off x="691560" y="4132440"/>
                <a:ext cx="649800" cy="526680"/>
                <a:chOff x="691560" y="4132440"/>
                <a:chExt cx="649800" cy="526680"/>
              </a:xfrm>
            </p:grpSpPr>
            <p:sp>
              <p:nvSpPr>
                <p:cNvPr id="332" name="Rectangle 21"/>
                <p:cNvSpPr/>
                <p:nvPr/>
              </p:nvSpPr>
              <p:spPr>
                <a:xfrm>
                  <a:off x="777240" y="4132440"/>
                  <a:ext cx="47808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3" name="Rectangle 73"/>
                <p:cNvSpPr/>
                <p:nvPr/>
              </p:nvSpPr>
              <p:spPr>
                <a:xfrm>
                  <a:off x="691560" y="4132440"/>
                  <a:ext cx="64980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34" name="Group 76"/>
              <p:cNvGrpSpPr/>
              <p:nvPr/>
            </p:nvGrpSpPr>
            <p:grpSpPr>
              <a:xfrm>
                <a:off x="1341720" y="4132440"/>
                <a:ext cx="4088520" cy="526680"/>
                <a:chOff x="1341720" y="4132440"/>
                <a:chExt cx="4088520" cy="526680"/>
              </a:xfrm>
            </p:grpSpPr>
            <p:sp>
              <p:nvSpPr>
                <p:cNvPr id="335" name="Rectangle 22"/>
                <p:cNvSpPr/>
                <p:nvPr/>
              </p:nvSpPr>
              <p:spPr>
                <a:xfrm>
                  <a:off x="1427040" y="4132440"/>
                  <a:ext cx="391716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6" name="Rectangle 75"/>
                <p:cNvSpPr/>
                <p:nvPr/>
              </p:nvSpPr>
              <p:spPr>
                <a:xfrm>
                  <a:off x="1341720" y="4132440"/>
                  <a:ext cx="408852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37" name="Group 78"/>
              <p:cNvGrpSpPr/>
              <p:nvPr/>
            </p:nvGrpSpPr>
            <p:grpSpPr>
              <a:xfrm>
                <a:off x="5430600" y="4132440"/>
                <a:ext cx="2563560" cy="526680"/>
                <a:chOff x="5430600" y="4132440"/>
                <a:chExt cx="2563560" cy="526680"/>
              </a:xfrm>
            </p:grpSpPr>
            <p:sp>
              <p:nvSpPr>
                <p:cNvPr id="338" name="Rectangle 23"/>
                <p:cNvSpPr/>
                <p:nvPr/>
              </p:nvSpPr>
              <p:spPr>
                <a:xfrm>
                  <a:off x="5516280" y="4132440"/>
                  <a:ext cx="239184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9" name="Rectangle 77"/>
                <p:cNvSpPr/>
                <p:nvPr/>
              </p:nvSpPr>
              <p:spPr>
                <a:xfrm>
                  <a:off x="5430600" y="4132440"/>
                  <a:ext cx="256356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40" name="Group 80"/>
              <p:cNvGrpSpPr/>
              <p:nvPr/>
            </p:nvGrpSpPr>
            <p:grpSpPr>
              <a:xfrm>
                <a:off x="691560" y="4659480"/>
                <a:ext cx="649800" cy="526680"/>
                <a:chOff x="691560" y="4659480"/>
                <a:chExt cx="649800" cy="526680"/>
              </a:xfrm>
            </p:grpSpPr>
            <p:sp>
              <p:nvSpPr>
                <p:cNvPr id="341" name="Rectangle 24"/>
                <p:cNvSpPr/>
                <p:nvPr/>
              </p:nvSpPr>
              <p:spPr>
                <a:xfrm>
                  <a:off x="777240" y="4659480"/>
                  <a:ext cx="47808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2" name="Rectangle 79"/>
                <p:cNvSpPr/>
                <p:nvPr/>
              </p:nvSpPr>
              <p:spPr>
                <a:xfrm>
                  <a:off x="691560" y="4659480"/>
                  <a:ext cx="64980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43" name="Group 82"/>
              <p:cNvGrpSpPr/>
              <p:nvPr/>
            </p:nvGrpSpPr>
            <p:grpSpPr>
              <a:xfrm>
                <a:off x="1341720" y="4659480"/>
                <a:ext cx="4088520" cy="526680"/>
                <a:chOff x="1341720" y="4659480"/>
                <a:chExt cx="4088520" cy="526680"/>
              </a:xfrm>
            </p:grpSpPr>
            <p:sp>
              <p:nvSpPr>
                <p:cNvPr id="344" name="Rectangle 25"/>
                <p:cNvSpPr/>
                <p:nvPr/>
              </p:nvSpPr>
              <p:spPr>
                <a:xfrm>
                  <a:off x="1427040" y="4659480"/>
                  <a:ext cx="391716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5" name="Rectangle 81"/>
                <p:cNvSpPr/>
                <p:nvPr/>
              </p:nvSpPr>
              <p:spPr>
                <a:xfrm>
                  <a:off x="1341720" y="4659480"/>
                  <a:ext cx="408852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46" name="Group 84"/>
              <p:cNvGrpSpPr/>
              <p:nvPr/>
            </p:nvGrpSpPr>
            <p:grpSpPr>
              <a:xfrm>
                <a:off x="5430600" y="4659480"/>
                <a:ext cx="2563560" cy="526680"/>
                <a:chOff x="5430600" y="4659480"/>
                <a:chExt cx="2563560" cy="526680"/>
              </a:xfrm>
            </p:grpSpPr>
            <p:sp>
              <p:nvSpPr>
                <p:cNvPr id="347" name="Rectangle 26"/>
                <p:cNvSpPr/>
                <p:nvPr/>
              </p:nvSpPr>
              <p:spPr>
                <a:xfrm>
                  <a:off x="5516280" y="4659480"/>
                  <a:ext cx="239184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8" name="Rectangle 83"/>
                <p:cNvSpPr/>
                <p:nvPr/>
              </p:nvSpPr>
              <p:spPr>
                <a:xfrm>
                  <a:off x="5430600" y="4659480"/>
                  <a:ext cx="256356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49" name="Group 86"/>
              <p:cNvGrpSpPr/>
              <p:nvPr/>
            </p:nvGrpSpPr>
            <p:grpSpPr>
              <a:xfrm>
                <a:off x="691560" y="5186160"/>
                <a:ext cx="637560" cy="526680"/>
                <a:chOff x="691560" y="5186160"/>
                <a:chExt cx="637560" cy="526680"/>
              </a:xfrm>
            </p:grpSpPr>
            <p:sp>
              <p:nvSpPr>
                <p:cNvPr id="350" name="Rectangle 27"/>
                <p:cNvSpPr/>
                <p:nvPr/>
              </p:nvSpPr>
              <p:spPr>
                <a:xfrm>
                  <a:off x="777240" y="5186160"/>
                  <a:ext cx="46584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1" name="Rectangle 85"/>
                <p:cNvSpPr/>
                <p:nvPr/>
              </p:nvSpPr>
              <p:spPr>
                <a:xfrm>
                  <a:off x="691560" y="5186160"/>
                  <a:ext cx="63756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52" name="Group 88"/>
              <p:cNvGrpSpPr/>
              <p:nvPr/>
            </p:nvGrpSpPr>
            <p:grpSpPr>
              <a:xfrm>
                <a:off x="1329480" y="5186160"/>
                <a:ext cx="4100760" cy="526680"/>
                <a:chOff x="1329480" y="5186160"/>
                <a:chExt cx="4100760" cy="526680"/>
              </a:xfrm>
            </p:grpSpPr>
            <p:sp>
              <p:nvSpPr>
                <p:cNvPr id="353" name="Rectangle 28"/>
                <p:cNvSpPr/>
                <p:nvPr/>
              </p:nvSpPr>
              <p:spPr>
                <a:xfrm>
                  <a:off x="1415160" y="5186160"/>
                  <a:ext cx="392904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4" name="Rectangle 87"/>
                <p:cNvSpPr/>
                <p:nvPr/>
              </p:nvSpPr>
              <p:spPr>
                <a:xfrm>
                  <a:off x="1329480" y="5186160"/>
                  <a:ext cx="410076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55" name="Group 90"/>
              <p:cNvGrpSpPr/>
              <p:nvPr/>
            </p:nvGrpSpPr>
            <p:grpSpPr>
              <a:xfrm>
                <a:off x="5430600" y="5186160"/>
                <a:ext cx="2563560" cy="526680"/>
                <a:chOff x="5430600" y="5186160"/>
                <a:chExt cx="2563560" cy="526680"/>
              </a:xfrm>
            </p:grpSpPr>
            <p:sp>
              <p:nvSpPr>
                <p:cNvPr id="356" name="Rectangle 29"/>
                <p:cNvSpPr/>
                <p:nvPr/>
              </p:nvSpPr>
              <p:spPr>
                <a:xfrm>
                  <a:off x="5516280" y="5186160"/>
                  <a:ext cx="239184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7" name="Rectangle 89"/>
                <p:cNvSpPr/>
                <p:nvPr/>
              </p:nvSpPr>
              <p:spPr>
                <a:xfrm>
                  <a:off x="5430600" y="5186160"/>
                  <a:ext cx="256356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58" name="Group 92"/>
              <p:cNvGrpSpPr/>
              <p:nvPr/>
            </p:nvGrpSpPr>
            <p:grpSpPr>
              <a:xfrm>
                <a:off x="691560" y="5712840"/>
                <a:ext cx="637560" cy="760680"/>
                <a:chOff x="691560" y="5712840"/>
                <a:chExt cx="637560" cy="760680"/>
              </a:xfrm>
            </p:grpSpPr>
            <p:sp>
              <p:nvSpPr>
                <p:cNvPr id="359" name="Rectangle 30"/>
                <p:cNvSpPr/>
                <p:nvPr/>
              </p:nvSpPr>
              <p:spPr>
                <a:xfrm>
                  <a:off x="777240" y="5712840"/>
                  <a:ext cx="465840" cy="76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0" name="Rectangle 91"/>
                <p:cNvSpPr/>
                <p:nvPr/>
              </p:nvSpPr>
              <p:spPr>
                <a:xfrm>
                  <a:off x="691560" y="5712840"/>
                  <a:ext cx="637560" cy="76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61" name="Group 94"/>
              <p:cNvGrpSpPr/>
              <p:nvPr/>
            </p:nvGrpSpPr>
            <p:grpSpPr>
              <a:xfrm>
                <a:off x="1329480" y="5712840"/>
                <a:ext cx="4100760" cy="760680"/>
                <a:chOff x="1329480" y="5712840"/>
                <a:chExt cx="4100760" cy="760680"/>
              </a:xfrm>
            </p:grpSpPr>
            <p:sp>
              <p:nvSpPr>
                <p:cNvPr id="362" name="Rectangle 31"/>
                <p:cNvSpPr/>
                <p:nvPr/>
              </p:nvSpPr>
              <p:spPr>
                <a:xfrm>
                  <a:off x="1415160" y="5712840"/>
                  <a:ext cx="3929040" cy="76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3" name="Rectangle 93"/>
                <p:cNvSpPr/>
                <p:nvPr/>
              </p:nvSpPr>
              <p:spPr>
                <a:xfrm>
                  <a:off x="1329480" y="5712840"/>
                  <a:ext cx="4100760" cy="76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64" name="Group 96"/>
              <p:cNvGrpSpPr/>
              <p:nvPr/>
            </p:nvGrpSpPr>
            <p:grpSpPr>
              <a:xfrm>
                <a:off x="5430600" y="5712840"/>
                <a:ext cx="2563560" cy="760680"/>
                <a:chOff x="5430600" y="5712840"/>
                <a:chExt cx="2563560" cy="760680"/>
              </a:xfrm>
            </p:grpSpPr>
            <p:sp>
              <p:nvSpPr>
                <p:cNvPr id="365" name="Rectangle 32"/>
                <p:cNvSpPr/>
                <p:nvPr/>
              </p:nvSpPr>
              <p:spPr>
                <a:xfrm>
                  <a:off x="5516280" y="5712840"/>
                  <a:ext cx="2391840" cy="76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6" name="Rectangle 95"/>
                <p:cNvSpPr/>
                <p:nvPr/>
              </p:nvSpPr>
              <p:spPr>
                <a:xfrm>
                  <a:off x="5430600" y="5712840"/>
                  <a:ext cx="2563560" cy="76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67" name="Group 98"/>
              <p:cNvGrpSpPr/>
              <p:nvPr/>
            </p:nvGrpSpPr>
            <p:grpSpPr>
              <a:xfrm>
                <a:off x="691560" y="6473880"/>
                <a:ext cx="637560" cy="360"/>
                <a:chOff x="691560" y="6473880"/>
                <a:chExt cx="637560" cy="360"/>
              </a:xfrm>
            </p:grpSpPr>
            <p:sp>
              <p:nvSpPr>
                <p:cNvPr id="368" name="Rectangle 33"/>
                <p:cNvSpPr/>
                <p:nvPr/>
              </p:nvSpPr>
              <p:spPr>
                <a:xfrm>
                  <a:off x="691560" y="6473880"/>
                  <a:ext cx="637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9" name="Rectangle 97"/>
                <p:cNvSpPr/>
                <p:nvPr/>
              </p:nvSpPr>
              <p:spPr>
                <a:xfrm>
                  <a:off x="691560" y="6473880"/>
                  <a:ext cx="63756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70" name="Group 100"/>
              <p:cNvGrpSpPr/>
              <p:nvPr/>
            </p:nvGrpSpPr>
            <p:grpSpPr>
              <a:xfrm>
                <a:off x="1329480" y="6473880"/>
                <a:ext cx="11520" cy="360"/>
                <a:chOff x="1329480" y="6473880"/>
                <a:chExt cx="11520" cy="360"/>
              </a:xfrm>
            </p:grpSpPr>
            <p:sp>
              <p:nvSpPr>
                <p:cNvPr id="371" name="Rectangle 34"/>
                <p:cNvSpPr/>
                <p:nvPr/>
              </p:nvSpPr>
              <p:spPr>
                <a:xfrm>
                  <a:off x="1329480" y="6473880"/>
                  <a:ext cx="11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72" name="Rectangle 99"/>
                <p:cNvSpPr/>
                <p:nvPr/>
              </p:nvSpPr>
              <p:spPr>
                <a:xfrm>
                  <a:off x="1329480" y="6473880"/>
                  <a:ext cx="1152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73" name="Group 102"/>
              <p:cNvGrpSpPr/>
              <p:nvPr/>
            </p:nvGrpSpPr>
            <p:grpSpPr>
              <a:xfrm>
                <a:off x="1341720" y="6473880"/>
                <a:ext cx="4088520" cy="360"/>
                <a:chOff x="1341720" y="6473880"/>
                <a:chExt cx="4088520" cy="360"/>
              </a:xfrm>
            </p:grpSpPr>
            <p:sp>
              <p:nvSpPr>
                <p:cNvPr id="374" name="Rectangle 35"/>
                <p:cNvSpPr/>
                <p:nvPr/>
              </p:nvSpPr>
              <p:spPr>
                <a:xfrm>
                  <a:off x="1341720" y="6473880"/>
                  <a:ext cx="4088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75" name="Rectangle 101"/>
                <p:cNvSpPr/>
                <p:nvPr/>
              </p:nvSpPr>
              <p:spPr>
                <a:xfrm>
                  <a:off x="1341720" y="6473880"/>
                  <a:ext cx="408852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76" name="Group 104"/>
              <p:cNvGrpSpPr/>
              <p:nvPr/>
            </p:nvGrpSpPr>
            <p:grpSpPr>
              <a:xfrm>
                <a:off x="5430600" y="6473880"/>
                <a:ext cx="2563560" cy="360"/>
                <a:chOff x="5430600" y="6473880"/>
                <a:chExt cx="2563560" cy="360"/>
              </a:xfrm>
            </p:grpSpPr>
            <p:sp>
              <p:nvSpPr>
                <p:cNvPr id="377" name="Rectangle 36"/>
                <p:cNvSpPr/>
                <p:nvPr/>
              </p:nvSpPr>
              <p:spPr>
                <a:xfrm>
                  <a:off x="5430600" y="6473880"/>
                  <a:ext cx="2563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78" name="Rectangle 103"/>
                <p:cNvSpPr/>
                <p:nvPr/>
              </p:nvSpPr>
              <p:spPr>
                <a:xfrm>
                  <a:off x="5430600" y="6473880"/>
                  <a:ext cx="256356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379" name="Rectangle 106"/>
            <p:cNvSpPr/>
            <p:nvPr/>
          </p:nvSpPr>
          <p:spPr>
            <a:xfrm>
              <a:off x="685800" y="1066680"/>
              <a:ext cx="7314840" cy="54104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80" name="Rectangle 108"/>
          <p:cNvSpPr/>
          <p:nvPr/>
        </p:nvSpPr>
        <p:spPr>
          <a:xfrm>
            <a:off x="571680" y="6286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:__________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1295280" y="380880"/>
            <a:ext cx="6782040" cy="39344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ценку «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 необходимо набрать от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0 – 6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аллов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ценку «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 необходимо набрать  от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5 – 5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аллов;                          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ценку «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 необходимо набрать  от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 – 35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аллов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Picture 3" descr="BS00559_"/>
          <p:cNvPicPr/>
          <p:nvPr/>
        </p:nvPicPr>
        <p:blipFill>
          <a:blip r:embed="rId3"/>
          <a:stretch/>
        </p:blipFill>
        <p:spPr>
          <a:xfrm>
            <a:off x="2286000" y="3962520"/>
            <a:ext cx="4595760" cy="26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1915200"/>
            <a:ext cx="903456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Выполнение самостоятельной работы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Подведем итоги.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Verdana"/>
              </a:rPr>
              <a:t>Цель урока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2286000"/>
          </a:xfrm>
          <a:prstGeom prst="rect">
            <a:avLst/>
          </a:prstGeom>
          <a:solidFill>
            <a:srgbClr val="ccff33">
              <a:alpha val="50000"/>
            </a:srgbClr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1.Выполнить монтаж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2.Проверить качество монтажа электронного устройств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Задачи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62120" y="2742840"/>
            <a:ext cx="7773840" cy="30481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4487a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Изучить техническую документац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с проверкой технологическо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процесс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Выполнять работу согласн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технологического тех. процесс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Заполнить карту взаимоконтрол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icture 4"/>
          <p:cNvSpPr/>
          <p:nvPr/>
        </p:nvSpPr>
        <p:spPr>
          <a:xfrm>
            <a:off x="4648320" y="0"/>
            <a:ext cx="3962160" cy="26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4000"/>
                            </p:stCondLst>
                            <p:childTnLst>
                              <p:par>
                                <p:cTn id="31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6000"/>
                            </p:stCondLst>
                            <p:childTnLst>
                              <p:par>
                                <p:cTn id="31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8000"/>
                            </p:stCondLst>
                            <p:childTnLst>
                              <p:par>
                                <p:cTn id="32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Verdana"/>
              </a:rPr>
              <a:t>Домашнее задание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7621560" cy="24382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b0dcb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вторить назначение узлов электронных осциллограф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560" y="205956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Демонстрация выполненной работы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4"/>
          <p:cNvSpPr/>
          <p:nvPr/>
        </p:nvSpPr>
        <p:spPr>
          <a:xfrm>
            <a:off x="0" y="2495880"/>
            <a:ext cx="9144000" cy="3018600"/>
          </a:xfrm>
          <a:prstGeom prst="rect">
            <a:avLst/>
          </a:prstGeom>
          <a:solidFill>
            <a:srgbClr val="66ffcc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Изучить техническую документ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с проверкой технологическог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процесс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Выполнять работу соглас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технологического тех. процесс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Заполнить карту взаимоконтрол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1311120" y="703440"/>
            <a:ext cx="477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33cc"/>
                </a:solidFill>
                <a:uFillTx/>
                <a:latin typeface="Verdana"/>
              </a:rPr>
              <a:t>Задачи урока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861480"/>
            <a:ext cx="90345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Проверка домашнего задания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4" name="Text Box 5"/>
          <p:cNvSpPr/>
          <p:nvPr/>
        </p:nvSpPr>
        <p:spPr>
          <a:xfrm flipV="1" rot="10800000">
            <a:off x="-1440" y="1987920"/>
            <a:ext cx="8246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Verdana"/>
              </a:rPr>
              <a:t>1.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Разработать технологическ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   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процесс по выбранном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   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устройству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Verdana"/>
              </a:rPr>
              <a:t>2.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Составить эскиз с вариантами формовки радиоэлементов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1988640"/>
            <a:ext cx="9034560" cy="344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Verdana"/>
              </a:rPr>
              <a:t>«Если вы удачно выберите труд и вложите в него всю душу, то счастье само вас отыщет»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Verdana"/>
              </a:rPr>
              <a:t>                       К.Д.Ушинский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9400" y="973080"/>
            <a:ext cx="767880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Verdana"/>
              </a:rPr>
              <a:t>Проверка домашнего задания №1</a:t>
            </a:r>
            <a:endParaRPr b="0" lang="en-US" sz="4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0" y="0"/>
          <a:ext cx="9180360" cy="7132680"/>
        </p:xfrm>
        <a:graphic>
          <a:graphicData uri="http://schemas.openxmlformats.org/drawingml/2006/table">
            <a:tbl>
              <a:tblPr/>
              <a:tblGrid>
                <a:gridCol w="849240"/>
                <a:gridCol w="4443480"/>
                <a:gridCol w="1673280"/>
                <a:gridCol w="22143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пер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именование и содержание опер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хнологи-ческий режи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струмент и контрольно измерительные приб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готовитель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Проверить комплектность согласно перечню элемент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Проверить детали на отсутствие механических повреждений, сколов, нарушений лакокрасочного покрыт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Подготовить паяльник к работе: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отрегулировать длину стержн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заточить стержень нужной формы и облудить припоем ПОС-61;-проверить температуру стержн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Пинц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Теплоотв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Бокорез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Паяльник 36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-17640" y="458640"/>
          <a:ext cx="9180720" cy="6492960"/>
        </p:xfrm>
        <a:graphic>
          <a:graphicData uri="http://schemas.openxmlformats.org/drawingml/2006/table">
            <a:tbl>
              <a:tblPr/>
              <a:tblGrid>
                <a:gridCol w="849600"/>
                <a:gridCol w="4443480"/>
                <a:gridCol w="1744560"/>
                <a:gridCol w="2143080"/>
              </a:tblGrid>
              <a:tr h="649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 Облудить выводы элементов паяльником с применением припоя ПОС-61 и флюса ФКСП. Расстояние от корпуса до поверхности лужения не должно быть менее 5 мм.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бочее место должно быть оснащено приточно- вытяжной вентиляцией.  При лужении не допускать попадания припоя на корпус ЭРЭ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 Выполнить обрезку и формовку выводов элементов согласно приложения. При формовке выводов элементов обеспечить меры предосторожности от изгиба выводов у основания корпуса элемента, придерживая вывод элемента круглогубцами или пинцето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мпература стержня паяльника 250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+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10º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nn</cp:lastModifiedBy>
  <dcterms:modified xsi:type="dcterms:W3CDTF">2010-06-10T11:32:44Z</dcterms:modified>
  <cp:revision>24</cp:revision>
  <dc:subject/>
  <dc:title>PowerPoint Presentation</dc:title>
</cp:coreProperties>
</file>