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AD8-CB87-4F31-9895-0C2F37BC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E7D-FD61-4932-BF11-CB3DD77D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273-C57F-4CAE-B619-DCA3D694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D7F-89D9-4665-86CC-786DF174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19F-A213-415C-9DBD-B49DDAC4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BAF-9DA4-4CD6-AC15-A1290BA3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206-CB5A-417C-BDB6-3618681E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975-F915-40B8-962A-7D516B8C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195-5413-491B-A28A-406DA632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938-6C9B-4AD5-A70D-4CC60CF5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9A3-6A7F-48D3-A175-6B19D1E9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A93-EBB9-45BE-B805-C91E3955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16D1-41AA-478E-B812-5F8D882C2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8;&#1088;&#1077;&#1073;&#1086;&#1074;&#1072;&#1085;&#1080;&#1103;%20&#1082;%20&#1086;&#1092;&#1086;&#1088;&#1084;&#1083;&#1077;&#1085;&#1080;&#1102;%20&#1087;&#1088;&#1086;&#1077;&#1082;&#1090;&#1085;&#1099;x%20&#1088;&#1072;&#1073;&#1086;&#1090;/&#1055;&#1086;&#1083;&#1086;&#1078;&#1077;&#1085;&#1080;&#1077;%20&#1086;%20&#1055;&#1048;&#1044;.do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0;&#1083;&#1072;&#1089;&#1089;&#1080;&#1092;&#1080;&#1082;&#1072;&#1094;&#1080;&#1103;%20&#1087;&#1088;&#1086;&#1077;&#1082;&#1090;&#1086;&#1074;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1;&#1080;&#1089;&#1090;%20&#1087;&#1088;&#1086;&#1076;&#1074;&#1080;&#1078;&#1077;&#1085;&#1080;&#1103;.doc" TargetMode="External"/><Relationship Id="rId2" Type="http://schemas.openxmlformats.org/officeDocument/2006/relationships/hyperlink" Target="file:///&#1048;&#1085;&#1089;&#1090;&#1088;&#1091;&#1082;&#1094;&#1080;&#1103;%20&#1076;&#1083;&#1103;%20&#1091;&#1095;&#1072;&#1097;&#1080;&#1093;&#1089;&#1103;.doc" TargetMode="External"/><Relationship Id="rId3" Type="http://schemas.openxmlformats.org/officeDocument/2006/relationships/hyperlink" Target="file:///&#1055;&#1083;&#1072;&#1085;&#1080;&#1088;&#1086;&#1074;&#1072;&#1085;&#1080;&#1077;%20%20&#1055;&#1048;&#1044;%20c%20&#1059;&#1059;&#1044;_&#1088;&#1072;&#1079;&#1076;&#1072;&#1090;&#1082;&#1072;.doc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39640" y="404640"/>
            <a:ext cx="82454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Требования к результатам проектной деятельности учащихся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Немцева Т.В.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реподаватель ГОАУ ЯО И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OurNewSchool"/>
          <p:cNvPicPr/>
          <p:nvPr/>
        </p:nvPicPr>
        <p:blipFill>
          <a:blip r:embed="rId1"/>
          <a:stretch/>
        </p:blipFill>
        <p:spPr>
          <a:xfrm>
            <a:off x="0" y="0"/>
            <a:ext cx="3995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бования к содержанию и оформлению  и оценке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ложение о П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к оформлению информационной проек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к оформлению исследовательской проек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и оценки презентации информационного и исследователь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к оформлению списка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ипы образовательных программ внеуроч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Комплексные образовательные программ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агают последовательный переход от воспитательных результатов 1 уровня к 3-тьему в различных видах внеуроч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Тематические образовательные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ы на получение воспитательных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ределенном проблемном поле (например, программа экологического воспит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Образовательные программы, ориентированные на достижение результатов определенного уровн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 возрастную привязку (например, формирование социальных общественных умений по класс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Образовательные программы по конкретным видам внеурочной деятельн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пример, проектная, познавательная деятель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Возрастные образовательные программ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разовательная программа внеурочной деятельности младших школьников, подростков, старшекласс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иды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екты классифицируют последующим признакам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контактов участников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й состав исполн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ной состав исполн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выпол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ипология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Учебные прое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амостоятельная учебная деятельность по освоению и применению на практике новой информации в рамках одной или нескольки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циальные проект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ят комплексный характер, связан с разными сферами деятельности, выходящими за рамки учебны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бщие требования к проекту 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04960"/>
            <a:ext cx="843588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основной результа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 получение «отчужденного продукта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структура, последовательность выполнения отдельных действий, содержание этап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ются решаемой в проекте задачей, замыслом проекта, ожидаемым результатом его выпол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проблема реализации проект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риводящей к  достижению большинством личностных и метапредметных ум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Основа проект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ектный метод (способ достижения конкретной цели через детальную разработку проблемы))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зирующийся на самостоятельности, деятельности, результа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Планирование проектной деятельности школьников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тем проектов и их конкретиз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целей и формулирование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источников информации и определение списка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рекомендаций по выполнению проекта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ланирование этапов реализ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а 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ебования к оформ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роки, график выполнения, консульт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ланирование метапредметных результатов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бования к результатам 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ланировать и выполнять учебный прое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оборудование, модели, методы и приемы, адекватные исследуем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ыбирать и использовать мет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ие рассматриваем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Использовать естественно-научные методы и при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наблюдение, постановка проблемы, выдвижение гипотезы, эксперимент, моделирование, теоретическое об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Распознавать и ставить вопро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веты на которые могут быть получены путем научного исследования, формулировать на основе исследования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Ясно, логично, и точно излагать свою точку зр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ть языковые средства, адекватные пробл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тличать факты о суждений, мнений, и оцен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итически относиться к суждениям, мнениям, оцен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идеть и комментировать связь научного знания и ценностных установ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ральных суждений при получении, распространении и применении научн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проектно-исследовательской деятельности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Выпускник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ть  исследование в соответствии с поставленными задач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ть и выявлять отличительные признаки живого, обнаруживать причинно-следственны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ть решения об использовании соответствующих методов (наблюдение, эксперимент, моделирование, выдвижение гипотезы) для проведения биологических исслед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ть и защищать исследовательские  проекты, моделирующие реальные биолог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коммуникативные умения, навыки сотрудничества, работу в парах ил группах с распределением ролей, разделением ответственности за конечный 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проектно-исследовательской деятельности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Выпускник получит возможность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о задумывать, планировать и выполнять учебное исследование, учебный и социальны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догадку, озарение , интуи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естественно-научные методы и приемы, как наблюдение, постановка проблемы, выдвижение гипотезы, эксперимент, моделирование, теоретическое обосн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направлено и осознанно развивать свои коммуникативные способности, осваивать новые языков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вать свою ответственность за достоверность полученных знаний, за качество выполнен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2:23:48Z</dcterms:created>
  <dc:creator>Kondrashova</dc:creator>
  <dc:description/>
  <dc:language>en-US</dc:language>
  <cp:lastModifiedBy>Татьяна Васильевна Немцева</cp:lastModifiedBy>
  <dcterms:modified xsi:type="dcterms:W3CDTF">2015-04-02T12:19:06Z</dcterms:modified>
  <cp:revision>61</cp:revision>
  <dc:subject/>
  <dc:title>Слайд 1</dc:title>
</cp:coreProperties>
</file>