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5EC-B9D6-4119-8EC1-9093B88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557-97D1-4BB1-B389-DACA5EF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873-8E35-4B1C-A069-70FC8D8B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E99-0634-4F09-83C1-03B6DE90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701-B0AD-4CB0-A3D9-C394FBA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190-4C49-450A-B56E-D9653E8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92F-CBBD-4C10-A050-21865D2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3F1-88DF-47C7-844D-0D5E0BE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42A-D84E-4CB0-BCD6-D366F131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CAD-FB27-4F8B-AA51-F5B7AFD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E78-4A7A-4227-AF70-9F1F5ED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434-9DD3-48A2-9D1C-BDFE3DE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203A-D564-48C1-9C14-CD6967EB5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777744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ДЕЛЬ СЛУЖБЫ МЕДИ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494172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8.12.2015, заведующая кафедрой общей педагоги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сихологии ГО АУ ЯО ИРО Назар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generousmatters.com/wp-content/uploads/2013/04/group_opposite_directions_11350.png"/>
          <p:cNvPicPr/>
          <p:nvPr/>
        </p:nvPicPr>
        <p:blipFill>
          <a:blip r:embed="rId1"/>
          <a:stretch/>
        </p:blipFill>
        <p:spPr>
          <a:xfrm>
            <a:off x="-181080" y="115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мы моделиру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троим модели для того, чтобы лучше понимать систему, которую созд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c.zadocs.ru/stati/gbuk-samarskaya-oblastnaya-univercalenaya-nauchnaya-biblioteka/6.gif"/>
          <p:cNvPicPr/>
          <p:nvPr/>
        </p:nvPicPr>
        <p:blipFill>
          <a:blip r:embed="rId1"/>
          <a:stretch/>
        </p:blipFill>
        <p:spPr>
          <a:xfrm>
            <a:off x="2843280" y="32130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рование позволяет достичь следующих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изировать систему в том виде как она есть либо как мы ее себе представ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цировать структуру или поведени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шаблон, по которому мы создае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ть принятые нами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и сложнее система, тем важнее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азрабатываем модель сложной системы потому, что мы не способны понять и охватить систему це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е принципы моде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одели оказывает решающее влияние на то, как будет осмысливаться проблема и какие решения будут при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модель должна быть построена на различных уровнях адекватности и соответствия ре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одели тесно связаны с действительностью. Все модели упрощают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ая модель не является приемлемой. Каждая нетривиальная система лучше всего представляется небольшим множеством практически независим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ifi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конкретная и поня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ur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есть измеритель, т. е. оценивающий процент ее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v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достижимая — реалисти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— в зоне ответственности и влияния сотрудника/организации на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e bound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ограничена во врем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актуальности и реалистич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туально-целево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о – результатив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  службы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ворческого моделировани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16732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20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31:40Z</dcterms:created>
  <dc:creator>Marina</dc:creator>
  <dc:description/>
  <dc:language>en-US</dc:language>
  <cp:lastModifiedBy>Инна Назарова</cp:lastModifiedBy>
  <dcterms:modified xsi:type="dcterms:W3CDTF">2015-12-07T18:33:30Z</dcterms:modified>
  <cp:revision>13</cp:revision>
  <dc:subject/>
  <dc:title>Слайд 1</dc:title>
</cp:coreProperties>
</file>