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tada.wav" ContentType="audio/x-wav"/>
  <Override PartName="/ppt/media/image6.wmf" ContentType="image/x-wmf"/>
  <Override PartName="/ppt/media/arrow.wav" ContentType="audio/x-wav"/>
  <Override PartName="/ppt/media/image15.wmf" ContentType="image/x-wmf"/>
  <Override PartName="/ppt/media/image17.wmf" ContentType="image/x-wmf"/>
  <Override PartName="/ppt/media/click.wav" ContentType="audio/x-wav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breeze.wav" ContentType="audio/x-wav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C1B-40D2-47D6-8B53-D3D3E913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277-85C1-4165-9E8E-00E87926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6C6-7F2B-475D-9565-366ED79D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74E-C5C3-4677-A028-B1FE536B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8A05-0204-4EE0-8D3A-8AD62471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99E9-7A76-43C3-B229-FEE5B4FB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7991-F121-4D8F-AB1E-14642493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DE2A-99BA-433D-AB11-3EB0D70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2D66-6915-4923-BEB5-9CEC4B5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659-2DF5-414C-9A8B-8DEBADF1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BED6-F3FB-455C-BC44-8855CE9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852-BAFA-4FB9-8BB9-2CBF05C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569-336E-4DFE-9A7F-0FC7B5C5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65FB-E528-415B-A214-EEF7795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F10-B6A5-458E-86DF-DAB16FC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FAD-2443-46AC-9509-BF8171D4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4EA6-47CF-4F53-87CE-2DBC35B8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ED1A-BA06-4C79-8019-2793BA99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A730-7B91-4D6C-9F1A-2C19C59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5ABE-DF91-45AD-9A5E-99734528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64AA-5599-47FC-ADF3-D33937DB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DA70-D1D8-45F9-8B65-B713198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9BA-503F-492C-9364-0758A99F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A5C0-9267-4DCC-9681-5FD81968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A826-C9B8-4DAE-A389-39AB944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1CE3-F96F-4C43-BCAF-A8AE53D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9C0E-73AC-4DAB-BAB9-B782782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196E-6A7F-4A25-840E-271E0E0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BCD4-8B4F-4E8F-B361-374342E9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C1E9-7002-48DB-B0C1-B0092EC9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4D3B-5424-4B1E-902A-75EC0504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7720-E567-4A3E-B462-710DB0D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C7EB-4EB8-4250-8504-DA74AA4D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4D2-09BD-45AD-ADFA-7A763311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AC49-4594-4422-AAB2-6458948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C2F6-F229-4658-A246-39F2D25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3DEE-28C2-4235-B2A8-5364348B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089B-6A29-44E4-9F34-7404FE9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EDF4-0AFF-4184-96A1-8372EDB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81BC-D4AD-4AF6-9254-9D7C413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BBFC-2D6D-48E1-B9A3-9F57742B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2236-D63A-414B-B615-974571F7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0E30-E055-4FA6-884F-B19FAA75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48D-69C5-414D-A4C3-416290F2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AB1-B253-4E1D-936F-A1314D1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5ED-9471-4F0C-8B8F-2D05050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E91-99A2-4853-84E0-7FDD2DC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F3C-C838-4E0D-8536-A55F05F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74D-4788-4F3D-A4B3-88DBA45CF2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D8B-4C4A-4973-A33C-71722E04EB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D832-1D4A-4E72-ADE0-B741D9363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F5F-8A6B-49A5-91F8-133F98F3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breeze.wav"/><Relationship Id="rId4" Type="http://schemas.openxmlformats.org/officeDocument/2006/relationships/audio" Target="../media/click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d4d"/>
                </a:solidFill>
                <a:latin typeface="Book Antiqua"/>
              </a:rPr>
              <a:t>Принятие решений: методология и этапы в практическом аспек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714240" y="2500200"/>
          <a:ext cx="20527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500200"/>
                    <a:ext cx="2052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c6565"/>
                </a:solidFill>
                <a:latin typeface="Book Antiqua"/>
              </a:rPr>
              <a:t>Принятие решений</a:t>
            </a:r>
            <a:r>
              <a:rPr b="1" lang="ru-RU" sz="3200" spc="-1" strike="noStrike">
                <a:solidFill>
                  <a:srgbClr val="3c6565"/>
                </a:solidFill>
                <a:latin typeface="Arial"/>
              </a:rPr>
              <a:t> –</a:t>
            </a:r>
            <a:br>
              <a:rPr sz="3200"/>
            </a:br>
            <a:r>
              <a:rPr b="1" lang="ru-RU" sz="3100" spc="-1" strike="noStrike">
                <a:solidFill>
                  <a:srgbClr val="3c6565"/>
                </a:solidFill>
                <a:latin typeface="Arial"/>
              </a:rPr>
              <a:t> отдельная функция менеджмента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   Важнее – не ответить на вопрос, а правильно найти этот  вопрос и сформулировать 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реш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процесс, элемент или лицо, необходимое для решения пробл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4d"/>
                </a:solidFill>
                <a:latin typeface="Verdana"/>
              </a:rPr>
              <a:t>Условие положительного воздействия решения на работу организаци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8480" y="1857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Verdana"/>
              </a:rPr>
              <a:t>СОГЛАСОВАННОСТЬ</a:t>
            </a: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 с теми решениями, что принимались ранее (как по вертикали, так и по горизонтали управлени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4" descr="perform"/>
          <p:cNvPicPr/>
          <p:nvPr/>
        </p:nvPicPr>
        <p:blipFill>
          <a:blip r:embed="rId1"/>
          <a:stretch/>
        </p:blipFill>
        <p:spPr>
          <a:xfrm>
            <a:off x="6215040" y="3714840"/>
            <a:ext cx="2414520" cy="24238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3"/>
          <p:cNvSpPr txBox="1"/>
          <p:nvPr/>
        </p:nvSpPr>
        <p:spPr>
          <a:xfrm>
            <a:off x="3071880" y="5000760"/>
            <a:ext cx="186516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Стрелка вниз 5"/>
          <p:cNvSpPr/>
          <p:nvPr/>
        </p:nvSpPr>
        <p:spPr>
          <a:xfrm>
            <a:off x="3357720" y="385776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Две группы факторов, влияющих на процесс принятия управленческих реш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— </a:t>
            </a: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личностные и ситуационны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 личностным факторам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психические процессы, состояния и свойства личности ЛПР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Ситуационные фак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зуют ситуацию принятия решения и описываются в виде значений ситуационных пе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нешней и внутренней среды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 решений, принимаемых в организ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Содержимое 3" descr="http://www.nnre.ru/delovaja_literatura/menedzhment_konspekt_lekcii/i_001.jpg"/>
          <p:cNvPicPr/>
          <p:nvPr/>
        </p:nvPicPr>
        <p:blipFill>
          <a:blip r:embed="rId1"/>
          <a:stretch/>
        </p:blipFill>
        <p:spPr>
          <a:xfrm>
            <a:off x="714240" y="1214280"/>
            <a:ext cx="7929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Решение должно отвечать ряду требова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снован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ткость формулирово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ьная осуществим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еврем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ономич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епень достижения поставленной цели в сопоставлении с расходом ресур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Решения должны приниматься там, где возникает проблемная ситуац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этого менеджеров соответствующего уровня необходимо наделить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длежащими полномочия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возложив на них в то же время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состояние дел на управляемом объект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Процедура принятия рационального решения включает семь последовательных этапов: (классическая точка зрения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 определение проблем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 формулировка ограничений и критериев принятия реш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) выявление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) оценка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) выбор альтернатив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) реализаци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) обратная связ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 фаз принятия решений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М. Мескон, М. Альберт и Ф. Хедоури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из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ботка альтернативных взаимоисключающих реш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иск оптимального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образование решения в эффективное действ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фаза: Определение пробл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05092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2916360" y="2349360"/>
            <a:ext cx="7189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78000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68360" y="278136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356364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276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29876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484360" y="3284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356400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527440" y="308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ьная пробле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040120" y="3803760"/>
            <a:ext cx="631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имптомы могут принадлежать разн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облема может не иметь симпто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Их необходимо выяв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симптомов позволяет установи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проблемы, но не отвечает на вопр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ричинах ее возникнов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23"/>
          <p:cNvSpPr/>
          <p:nvPr/>
        </p:nvSpPr>
        <p:spPr>
          <a:xfrm rot="5400000">
            <a:off x="3095280" y="490536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6200" y="45705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качестве эпиграф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ы не можете решить проблему, пока не признаете, что она у вас есть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X. Макк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AcerNEW-1\Desktop\konkursris221111ava.jpg"/>
          <p:cNvPicPr/>
          <p:nvPr/>
        </p:nvPicPr>
        <p:blipFill>
          <a:blip r:embed="rId1"/>
          <a:stretch/>
        </p:blipFill>
        <p:spPr>
          <a:xfrm>
            <a:off x="928800" y="40006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виртуального движ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растить проблему в будущ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908000" y="29973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8028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411280" y="2997360"/>
            <a:ext cx="28908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995640" y="2852640"/>
            <a:ext cx="5050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156360" y="2637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79640" y="3068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шл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635280" y="306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стоящ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970960" y="31417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1400" y="4365720"/>
            <a:ext cx="70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Сделать шаг по мотивации персона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решению проблемы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! Раскрыть персоналу КЛЮЧЕВОЙ МО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КРИТИЧЕСКИЕ ФА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482560" y="38322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!!!!    Найти причину в прош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етодология решения проблем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членить проблему как таковую (Проанализировать: объективна ли информ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 она связана с проблем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пределить: была ли она в прошлом и как она повлияла на настоящ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лассифицировать пробл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тобрать информацию для её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ассмотреть её с точки зрения ТАБУ и огранич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Вычленить из альтернативных решений о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Нулевой вариант решения проблемы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членить проблему как таков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: была ли она в прош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на повлияла на настоящ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пробл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ИЧЕГО НЕ ДЕЛА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.е. выжид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Парадигма необходимости ПУР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и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 НЕОБХОДИМ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3492360" y="1915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5796000" y="19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3564000" y="306828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5724360" y="2997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564000" y="4076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5796000" y="4005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6666"/>
                </a:solidFill>
                <a:uFillTx/>
                <a:latin typeface="Arial"/>
              </a:rPr>
              <a:t>Критерии оптимальности УР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 ≤ 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ффек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 =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140360" y="3645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40360" y="38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 + уси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473120" y="4808520"/>
            <a:ext cx="3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тимально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63640" y="5460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.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1640" y="522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2771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931480" y="5661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11520" y="526104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овий, где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условий=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093080" y="508464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окру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7236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4360" y="5661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 u="sng">
                <a:solidFill>
                  <a:srgbClr val="006666"/>
                </a:solidFill>
                <a:uFillTx/>
                <a:latin typeface="Arial"/>
              </a:rPr>
              <a:t>Участники реш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убъекты, связанные с организац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Управленческое звено (заместители 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Исполн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КАКАЯ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Фаза 2:   АНАЛИЗ ПРОБЛЕМЫ</a:t>
            </a:r>
            <a:br>
              <a:rPr sz="2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онечная цель диагноза— выявить управляемые факторы, на которые должен повлиять руководитель, чтобы решить проблему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лассификация проблемы (СТЭП-фактор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фактов, сбор информаци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ЛП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зможно привлечение внешнего консультан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Прикидки» по созданию круга исполнителе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Фаза 3: Выработка альтернативных решени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альтернати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твращает от поспешных решений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зволяет поставить больше барьеров перед скоротечным решение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вивает способности персонала и управленц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 исключается и НУЛЕВОЙ вариа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914400" y="304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ффективный менеджмент – следствие верных У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40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олотое правило ПУР: выработать </a:t>
            </a: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взаимоисключающие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реш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Чем больше альтернатив, тем качественнее будет результа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Но: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Существует опасность крайних вариантов  - черное и бело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Эффективность альтернативы может быть рассчитана путем оценки двух факторов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Насколько реальна альтернатива в условиях поставленных целей и ресурсов организации и как хорошо она сможет решить пробл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и выборе альтернативы менеджеры должны попробовать минимизировать риск возникновения дополнительных проб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ждая альтернатива должна быть оценена с позиций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Может ли эта альтернатива быть осуществлена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альтернатива не может быть осуществлена, она должна быть устран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Какие организационные последствия могут быть у каждой альтернативы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оздаст ли эта альтернатива ненужных пробле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эффект альтернатива принесет и в других сферах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аза 4. Поиск оптимального решения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выбор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1692360" y="256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1692360" y="537372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835280" y="3068640"/>
            <a:ext cx="215640" cy="23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195640" y="3573360"/>
            <a:ext cx="21564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059280" y="4797360"/>
            <a:ext cx="21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348000" y="4581360"/>
            <a:ext cx="21600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11640" y="2997360"/>
            <a:ext cx="216000" cy="23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4572000" y="2997360"/>
            <a:ext cx="21600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835280" y="5445000"/>
            <a:ext cx="433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3059280" y="544500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4284720" y="5445000"/>
            <a:ext cx="5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130360" y="2565360"/>
            <a:ext cx="3933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бол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мен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и выигрыш равновел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экономии усил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зультаты пр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илия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это и есть эффектив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оптимальные результаты при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асности для ПУР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пушек по воробья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рогаток по танка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аза 5: Преобразование решения в действ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ОЛОТОЕ ПРАВИЛО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не может быть выполнено, если оно не ПРИСВОЕНО люд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обходимо убедить персонал, ч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для развития  и влияет на организацию в цел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и положительно влияет на каждого из сотруд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, что принесет лично для педагога внедрение проф.стандар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Необходимое условие реализации УР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гласование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правленческих решений, которое представляет собой процедуру достижения признания другими людьми предлагаемого решения проблем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ое решение должно быть признано двумя группами людей: а) руководителями других подразделений и организаций, на деятельность которых может повлиять данное решение, и б) исполнителями (подчиненными), которые будут его выполн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 наконец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7200" y="18572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гда решение принято и намечено его выполнение, прекратите полностью беспокоиться об ответственности и заботьтесь о результатах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          (У. Джейм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УР должно работать на реализацию потребносте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онал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по А.МАСЛОУ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6012000" y="2420640"/>
            <a:ext cx="266364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7740720" y="1915920"/>
            <a:ext cx="934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асности поспешных реш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сознательного компонента в коллективе для реализации ПУ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перспективы для персонала, или же ПУР вызовет негативные последствия для не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дется многому учиться ЗАНО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омка традиционных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фликтогенность повы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кучесть кадр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ризис, разва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708360" y="3860640"/>
            <a:ext cx="1655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 rot="10800000">
            <a:off x="4427640" y="4868640"/>
            <a:ext cx="288720" cy="360360"/>
          </a:xfrm>
          <a:prstGeom prst="upArrow">
            <a:avLst>
              <a:gd name="adj1" fmla="val 50000"/>
              <a:gd name="adj2" fmla="val 3120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427640" y="5589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Эффект отрицательной синер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факторов как бы «накладываются» друг на друга и образуют настолько неблагоприятное сочетание, что эффективность деятельности организации резко па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AcerNEW-1\Desktop\images.jpg"/>
          <p:cNvPicPr/>
          <p:nvPr/>
        </p:nvPicPr>
        <p:blipFill>
          <a:blip r:embed="rId1"/>
          <a:stretch/>
        </p:blipFill>
        <p:spPr>
          <a:xfrm>
            <a:off x="642960" y="3714840"/>
            <a:ext cx="3857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Таким образом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изация решений требует от руководителей выполнени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х функций управления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ей (планирования, организации деятельности, координации, мотивации и контроля) с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помощью основных «связующих» процессов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руководства, принятия решений и обмена информацией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666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ак руководителям организаций определить — достигли они своих целей или нет, и как обнаружить свои ошибки и ошибки подчиненных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вет прост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альная оценка степени достижения цели выбора достигается с помощью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ь —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процесс измерения фактических значений показателей эффективности, используемых для оценивания альтернати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При отсутствии контроля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чинается хао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ординировать деятельность отдельных людей, групп и организации в целом становится невозмож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еспечение достижений поставленной цели невозможн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ПРИЧИНЫ необходимости  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определ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реализации решения условия внешней и внутренней среды могут заметно измениться и не соответствовать ожиданиям Л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2. Предупреждение кризисных ситуа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значительные ошибки, возникающие в процессе принятия решений, постепенно накапливаются и переплетаются, причем, как правило, самым неблагоприятным образ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3. Поддержание успех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ем обеспечивается положительная обратная связь, которая заключается в определении «сильных сторон» управленческих решений и поддержании достигнутого успе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 ХАОСА К КОНТРОЛЮ СИТУАЦИ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словие – грамотное УР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1987560" y="2595960"/>
            <a:ext cx="4102200" cy="227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25"/>
          <p:cNvSpPr/>
          <p:nvPr/>
        </p:nvSpPr>
        <p:spPr>
          <a:xfrm flipV="1">
            <a:off x="2521080" y="2595960"/>
            <a:ext cx="4101840" cy="2273400"/>
          </a:xfrm>
          <a:prstGeom prst="pie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0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деи для тактики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позволя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ьно проанализировать реальный ход выполнения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ЗГЛЯД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УКОВОДИТЕЛЯ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ДЧИНЕННЫХ НА ВЫПОЛНЯЕМЫЕ ЗАДАЧ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481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итуационное лидерство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4" name="Picture 7" descr="atwrk008"/>
          <p:cNvPicPr/>
          <p:nvPr/>
        </p:nvPicPr>
        <p:blipFill>
          <a:blip r:embed="rId1"/>
          <a:stretch/>
        </p:blipFill>
        <p:spPr>
          <a:xfrm>
            <a:off x="1576440" y="1974960"/>
            <a:ext cx="1112760" cy="8856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8"/>
          <p:cNvGrpSpPr/>
          <p:nvPr/>
        </p:nvGrpSpPr>
        <p:grpSpPr>
          <a:xfrm>
            <a:off x="404640" y="3090960"/>
            <a:ext cx="3232080" cy="519120"/>
            <a:chOff x="404640" y="3090960"/>
            <a:chExt cx="3232080" cy="519120"/>
          </a:xfrm>
        </p:grpSpPr>
        <p:pic>
          <p:nvPicPr>
            <p:cNvPr id="486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1473480" y="3146760"/>
              <a:ext cx="2880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0"/>
            <p:cNvSpPr/>
            <p:nvPr/>
          </p:nvSpPr>
          <p:spPr>
            <a:xfrm>
              <a:off x="998280" y="321120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AutoShape 11"/>
            <p:cNvSpPr/>
            <p:nvPr/>
          </p:nvSpPr>
          <p:spPr>
            <a:xfrm>
              <a:off x="404640" y="3090960"/>
              <a:ext cx="3232080" cy="5122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490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494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7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498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Group 24"/>
          <p:cNvGrpSpPr/>
          <p:nvPr/>
        </p:nvGrpSpPr>
        <p:grpSpPr>
          <a:xfrm>
            <a:off x="3713040" y="3019320"/>
            <a:ext cx="2819520" cy="593640"/>
            <a:chOff x="3713040" y="3019320"/>
            <a:chExt cx="2819520" cy="593640"/>
          </a:xfrm>
        </p:grpSpPr>
        <p:sp>
          <p:nvSpPr>
            <p:cNvPr id="502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26"/>
            <p:cNvSpPr/>
            <p:nvPr/>
          </p:nvSpPr>
          <p:spPr>
            <a:xfrm>
              <a:off x="4005000" y="3112920"/>
              <a:ext cx="252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05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29"/>
            <p:cNvSpPr/>
            <p:nvPr/>
          </p:nvSpPr>
          <p:spPr>
            <a:xfrm>
              <a:off x="4090680" y="3881520"/>
              <a:ext cx="22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08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Text Box 32"/>
            <p:cNvSpPr/>
            <p:nvPr/>
          </p:nvSpPr>
          <p:spPr>
            <a:xfrm>
              <a:off x="4199760" y="46926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1" name="Picture 34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111320" y="4556160"/>
            <a:ext cx="3708360" cy="449640"/>
            <a:chOff x="1111320" y="4556160"/>
            <a:chExt cx="3708360" cy="449640"/>
          </a:xfrm>
        </p:grpSpPr>
        <p:sp>
          <p:nvSpPr>
            <p:cNvPr id="513" name="AutoShape 3"/>
            <p:cNvSpPr/>
            <p:nvPr/>
          </p:nvSpPr>
          <p:spPr>
            <a:xfrm>
              <a:off x="1111320" y="45561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b7b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4"/>
            <p:cNvSpPr/>
            <p:nvPr/>
          </p:nvSpPr>
          <p:spPr>
            <a:xfrm>
              <a:off x="1302840" y="4606920"/>
              <a:ext cx="35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6823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Роль эмоционального интеллекта </a:t>
            </a:r>
            <a:br>
              <a:rPr sz="2000"/>
            </a:b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 для менеджеров высшего звен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549600" y="611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1835280" y="1773360"/>
            <a:ext cx="6352560" cy="2106000"/>
            <a:chOff x="1835280" y="1773360"/>
            <a:chExt cx="6352560" cy="2106000"/>
          </a:xfrm>
        </p:grpSpPr>
        <p:sp>
          <p:nvSpPr>
            <p:cNvPr id="518" name="Rectangle 8"/>
            <p:cNvSpPr/>
            <p:nvPr/>
          </p:nvSpPr>
          <p:spPr>
            <a:xfrm>
              <a:off x="4636800" y="186588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ллект (IQ) 1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9" name="Object 9"/>
            <p:cNvGraphicFramePr/>
            <p:nvPr/>
          </p:nvGraphicFramePr>
          <p:xfrm>
            <a:off x="1835280" y="1773360"/>
            <a:ext cx="3438720" cy="210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1773360"/>
                      <a:ext cx="3438720" cy="21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Text Box 10"/>
            <p:cNvSpPr/>
            <p:nvPr/>
          </p:nvSpPr>
          <p:spPr>
            <a:xfrm>
              <a:off x="3639240" y="3359160"/>
              <a:ext cx="224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1"/>
            <p:cNvSpPr/>
            <p:nvPr/>
          </p:nvSpPr>
          <p:spPr>
            <a:xfrm>
              <a:off x="4652640" y="2763360"/>
              <a:ext cx="353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 компетентность (EQ) 8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329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3302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3277080" y="2297520"/>
              <a:ext cx="3672720" cy="1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3160080" y="3378240"/>
              <a:ext cx="4370400" cy="10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7" name="Rectangle 16"/>
          <p:cNvSpPr/>
          <p:nvPr/>
        </p:nvSpPr>
        <p:spPr>
          <a:xfrm>
            <a:off x="2604600" y="3936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Эмоциональная компетен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4878360" y="4543560"/>
            <a:ext cx="3778560" cy="449640"/>
            <a:chOff x="4878360" y="4543560"/>
            <a:chExt cx="3778560" cy="449640"/>
          </a:xfrm>
        </p:grpSpPr>
        <p:sp>
          <p:nvSpPr>
            <p:cNvPr id="529" name="AutoShape 18"/>
            <p:cNvSpPr/>
            <p:nvPr/>
          </p:nvSpPr>
          <p:spPr>
            <a:xfrm>
              <a:off x="4878360" y="45435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5071680" y="4594320"/>
              <a:ext cx="358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792000" y="5013360"/>
            <a:ext cx="4189680" cy="1205280"/>
            <a:chOff x="792000" y="5013360"/>
            <a:chExt cx="4189680" cy="1205280"/>
          </a:xfrm>
        </p:grpSpPr>
        <p:sp>
          <p:nvSpPr>
            <p:cNvPr id="532" name="Text Box 21"/>
            <p:cNvSpPr/>
            <p:nvPr/>
          </p:nvSpPr>
          <p:spPr>
            <a:xfrm>
              <a:off x="792000" y="5272200"/>
              <a:ext cx="418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ознание самого себ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собность управлять соб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интересованнос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чувств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>
              <a:off x="2697120" y="50133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4" name="Group 23"/>
          <p:cNvGrpSpPr/>
          <p:nvPr/>
        </p:nvGrpSpPr>
        <p:grpSpPr>
          <a:xfrm>
            <a:off x="4605480" y="4984920"/>
            <a:ext cx="3670200" cy="1204920"/>
            <a:chOff x="4605480" y="4984920"/>
            <a:chExt cx="3670200" cy="1204920"/>
          </a:xfrm>
        </p:grpSpPr>
        <p:sp>
          <p:nvSpPr>
            <p:cNvPr id="535" name="Text Box 24"/>
            <p:cNvSpPr/>
            <p:nvPr/>
          </p:nvSpPr>
          <p:spPr>
            <a:xfrm>
              <a:off x="4605480" y="5243400"/>
              <a:ext cx="367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становления контакт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наблюдения за языком тел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активного слуш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бе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25"/>
            <p:cNvSpPr/>
            <p:nvPr/>
          </p:nvSpPr>
          <p:spPr>
            <a:xfrm>
              <a:off x="6510240" y="49849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7" name="Line 26"/>
          <p:cNvSpPr/>
          <p:nvPr/>
        </p:nvSpPr>
        <p:spPr>
          <a:xfrm flipH="1">
            <a:off x="2912760" y="4284720"/>
            <a:ext cx="1935000" cy="3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4844880" y="4284720"/>
            <a:ext cx="1697040" cy="306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357120" y="1905120"/>
            <a:ext cx="8286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«Мужество зачастую нужно руководителю и для того, чтобы признать достижения подчиненного, «наступающего ему на пятк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Или признать, что ему не удалось выстроить свои отношения с сильным подчиненны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6565"/>
                </a:solidFill>
                <a:latin typeface="Verdana"/>
              </a:rPr>
              <a:t>Питер Друк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временные теории организации, рассматривающие проблему УР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2266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«Формирование жизнеспособной структуры» («Структура -5», 1993 г. Генри Минцберг, Канад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организационного потенциала (1970 г. Игорь Ансофф, А. Чандлер -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институтов и институциональных изменений (конец 1980 – начало 1990-х г.г - Дуглас Норт, 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сурсная теория (теория постоянного поиска и создания конкурентных преимуществ)  -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. Вернефельт, Д.Аакер, П.Шумахер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правленческое реше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продукт управленческого труда, а его принятие—процесс, ведущий к появлению этого продук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форма, в которой осуществляется управляющее воздействие субъекта управления на объект управл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этому качество управленческих решений являетс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критерием эффективности менедж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5219640" y="2781360"/>
            <a:ext cx="3657600" cy="3733920"/>
          </a:xfrm>
          <a:prstGeom prst="pie">
            <a:avLst/>
          </a:pr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5249880" y="3413160"/>
            <a:ext cx="312408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нятие ре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сознательный выбор из имеющихся вариантов направления действий, позволяющий достичь существующую цел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07:52Z</dcterms:modified>
  <cp:revision>40</cp:revision>
  <dc:subject/>
  <dc:title>Слайд 1</dc:title>
</cp:coreProperties>
</file>