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1D6-E972-41E5-8BE7-5BB8C206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9ED8-3268-40DC-8377-48B40273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FE26-A9F6-4AA2-BA91-610292AC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099-DD09-4D37-A4CD-063B33CB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5136-ECFE-429F-BF1A-A0DA2F84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F779-C5EC-4B05-9AB4-B105DBFE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4C23-838D-4285-845D-CD656FBD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2165-10F8-4593-9279-14DE7A5F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6AFC-40C1-4863-AD09-0CE152C9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B17A-ECF1-4A68-AA4A-08D79C08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12B7-61C6-4978-BDB5-4EAF1D98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451-7C88-453F-AEB9-58583F94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E90B-7D61-4EA9-8A12-97DBFA83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8B02-9089-458F-B7B0-309EEE86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8D07-3BE3-4B77-99C3-3E2A35D6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7B57-2256-468B-8767-3E9E1842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582C-7CA6-4D14-AC86-49FCDCFB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9A6-AECF-4B58-8D0D-9C8EDACF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49E-D9D3-454A-92B3-C11588DF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737-49BF-4A48-B138-BC42CC7D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B8DB-A5AA-4E7D-9038-173174DC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217-F3EB-47D7-BB25-908B3274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C62-77C4-4124-89ED-59CFEDD0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27B-96AC-4C69-A735-5676A974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02D5-46A2-42F6-94EE-1DD914A2A4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E1AF-E655-40F1-B3DA-012A818552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3&amp;img_url=http%3A%2F%2Fria.ru%2Fimages%2F4091%2F56%2F40915681.jpg&amp;uinfo=ww-1010-wh-564-fw-785-fh-448-pd-1&amp;p=3&amp;text=&#1087;&#1086;&#1074;&#1099;&#1096;&#1077;&#1085;&#1080;&#1077;%20&#1087;&#1088;&#1080;&#1074;&#1083;&#1077;&#1082;&#1072;&#1090;&#1077;&#1083;&#1100;&#1085;&#1086;&#1089;&#1090;&#1080;%20&#1096;&#1082;&#1086;&#1083;&#1099;&amp;pos=104&amp;lr=16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организаций профессионального образования (ОПО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http://im6-tub-ru.yandex.net/i?id=84236651-66-72&amp;n=21"/>
          <p:cNvPicPr/>
          <p:nvPr/>
        </p:nvPicPr>
        <p:blipFill>
          <a:blip r:embed="rId1"/>
          <a:stretch/>
        </p:blipFill>
        <p:spPr>
          <a:xfrm>
            <a:off x="5651640" y="1700280"/>
            <a:ext cx="2808000" cy="2305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ОП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Есть такое правило-занятие в маркетинге: представьте себя посетителем (студентом, родителем, потенциальным сотрудником, работодателем) и посмотрите на свое заведение (от дорожки к зданию до разговора с сотрудниками) его глазам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интервью президента гр. компаний Cognitive Technologies Ольги Уск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мы всегда, даже в тяжелые времена, «держали» кафедры н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Физтехе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МИСиС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Вели научную работу и читали в университет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нас есть жесткая рекомендация для подразделений ― 15% штата комплектовать стажерами из числа студен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жер ― это напряжение. Но те, кто не тратит силы на стажеров, потом испытывают кадровые сложности. Лучшие кадры выращиваются у себ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2009-2010-х годах по нескольким проектам скорость экономического роста сильно выросла, потребовалось много людей, поэтому мы вложились системно ― я пошла в МИСиС уже завкафедрой. Теперь освежаем кадры систематиче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 Усково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деальных систем мотивации я ни разу не видела. Все, что ты можешь сделать для своих партнеров и сотрудников, ― это минимально их трогать, дать возможность шевели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е тяжелое ― когда ты можешь, а тебе не дают. Когда тебе дают, а ты не можешь, ― это тоже тяжело, но такого человека не так жалко. А когда он может, а ему не дают ― вот это пробл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2060280"/>
            <a:ext cx="5483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im4-tub-ru.yandex.net/i?id=126237263-5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П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в группах разработайте проекты формирования ММ сотрудников ОП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в т.ч. ОП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о учреждение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ПО; с одной стороны, сохранить свое лицо, с другой – быть в курс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http://im2-tub-ru.yandex.net/i?id=5018066-70-72&amp;n=21"/>
          <p:cNvPicPr/>
          <p:nvPr/>
        </p:nvPicPr>
        <p:blipFill>
          <a:blip r:embed="rId1"/>
          <a:stretch/>
        </p:blipFill>
        <p:spPr>
          <a:xfrm>
            <a:off x="34920" y="0"/>
            <a:ext cx="1944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П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профессионализации и социализации выпускни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профессиональные и социальные компетенции, позволяющие ему жить и функционировать в качестве члена об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, 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ОСПО, соучастия в ее делах, столь важное в наше время чувство социальной принадлежности, позволяет обнаружить то, что отличает сотрудников вашей ОО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профессиональным образовательным организациям (ОП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ОСП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ПО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ОСПО в обязательном порядке должен быть согласован с субъектами регион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979640" y="549000"/>
            <a:ext cx="66247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ссия всегда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http://im2-tub-ru.yandex.net/i?id=171394413-58-72&amp;n=21"/>
          <p:cNvPicPr/>
          <p:nvPr/>
        </p:nvPicPr>
        <p:blipFill>
          <a:blip r:embed="rId1"/>
          <a:stretch/>
        </p:blipFill>
        <p:spPr>
          <a:xfrm>
            <a:off x="155520" y="1916280"/>
            <a:ext cx="175248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052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ПОО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О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девиз вскоре может превратиться в пустую, бесполезную ф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вы средства маркетин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укт (особенности и конкурентные преимущества предлагаемых услуг или товар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изводство (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родвинуть ваш продукт (обр. услугу и выпускника) на рынок (рынок ОУ и рынок труда), вам нужно так описать его, чтобы люди, которым вы его предлагаете (абитуриенты и их родители, а также работодатели), могли ясно понять, что Это и как Это отвечает их потребностям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ветствует ли ваш продукт/услуга потребностям вашей целевой группы (какой?) по качеству и удовлетворяет ли он ее специфические потреб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обучающегося (сформулируйте 2-3 показателя, вычислите их и сравните с показателями своих коллег/конкурентов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траты здоровья персонала и обучающихся на то качество услуг («товара»), которое обеспечивается в процессе совместного «производ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http://im2-tub-ru.yandex.net/i?id=27149425-18-72&amp;n=21"/>
          <p:cNvPicPr/>
          <p:nvPr/>
        </p:nvPicPr>
        <p:blipFill>
          <a:blip r:embed="rId1"/>
          <a:stretch/>
        </p:blipFill>
        <p:spPr>
          <a:xfrm>
            <a:off x="0" y="28440"/>
            <a:ext cx="2627280" cy="145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68000" y="274680"/>
            <a:ext cx="64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26560" y="1628280"/>
            <a:ext cx="79930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:…Интернет: сайт, соц. сети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…Интернет: сайт, соц. сети; эвент (со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ирование:…Интернет: сайт, соц. се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ий маркетинг: формирование ММ, профессионализма, взаимоуважения и вовлеченности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Любой контакт вашей организации с внешним мир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проф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ПО и её персонал)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-процесс - образовательный)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ый, включающий общий уровень развития и уровень квалификации студентов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точки зрения его Потребител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Клиент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Кто у нас его Величество Клиен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http://im7-tub-ru.yandex.net/i?id=414655962-68-72&amp;n=21"/>
          <p:cNvPicPr/>
          <p:nvPr/>
        </p:nvPicPr>
        <p:blipFill>
          <a:blip r:embed="rId1"/>
          <a:stretch/>
        </p:blipFill>
        <p:spPr>
          <a:xfrm>
            <a:off x="155520" y="44280"/>
            <a:ext cx="14288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, а также ЛПР (лица принимающего реш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, его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уд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/масте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Т, возможных и реальных работод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(пример, стандарт учителя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http://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минобрнауки.рф/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0%B4%D0%BE%D0%BA%D1%83%D0%BC%D0%B5%D0%BD%D1%82%D1%8B/307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ПОО: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собенное, уника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907920"/>
          <a:ext cx="8459640" cy="5492880"/>
        </p:xfrm>
        <a:graphic>
          <a:graphicData uri="http://schemas.openxmlformats.org/drawingml/2006/table">
            <a:tbl>
              <a:tblPr/>
              <a:tblGrid>
                <a:gridCol w="2428920"/>
                <a:gridCol w="2897280"/>
                <a:gridCol w="3133440"/>
              </a:tblGrid>
              <a:tr h="64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е для П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икальное для конкретной О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8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дук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3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Цена»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8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требите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изводство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П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ПОО, например, в 2015 го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 (внешний и внутренний маркетинг)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1280" y="1557000"/>
            <a:ext cx="80755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П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ОО её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ликвидации экономических субъектов в данном НП, или активности соседней ПОО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дела – идти от Клиен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деятельности с обязательным учетом внешних услов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образовательных услуг на основе его изучения и знания потребностей Клиента, перспектив изменений внешних условий, своей миссии и возможностей коллекти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271"/>
                </a:solidFill>
                <a:latin typeface="Calibri"/>
              </a:rPr>
              <a:t>Критерии анализа ресурсов П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уникальностью местоположения, эффективным образовательным процессом, сотрудничеством с бизнес-структурами и наличием базы для полноценной практики, хорошей МТБ, обеспечивают повышенные разряды выпускников СПО и их трудоустройство, готовностью педколлектива работать со студентами с ОВЗ и п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, осуществить модернизацию учебного процесса в соответствии с требованиями работодателя, повысить имидж профессиональной образовательной организации, освоить технологии работы со студента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 полной ли мере ОО задействует эти ресурсы и способности для реализации своего конкурентного потенци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сколько менеджмент ОО осознает сильные и слабые стороны своей организации, управляет ими для повышения результативности и снижения затратности образовательного процесс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, в т.ч. при  позиционировании и продвижении своей организ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да и студентов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б 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ПОО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и абитуриенты) при выборе ПОО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основного персонала: мастеров, педагого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стойчивые, конструктивные связи с работодателями и наличие базы для практик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освоения передовых технологий для рынка труда: лаборатории, мастерские, с наличием соответствующего оборуд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быта и учебы: благоустроенное общежитие, столовая, спортивный и актовый залы, укомплектованные соответствующим оборудованием, для активного проведения занятий и досуга студенто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подходов, способствующих формированию профессиональных и личностных компетенций;  оптимальное сочетание общеобразовательной и профессиональной, урочной и производственной деятельности…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технологиями: способность коллектива к инновациям; признание в проф. сообществе…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миджевые факторы, в т.ч. связанные с  информированием и продвижением (сайт, СМИ, иные ИК технологии)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в управлении и наличие управляющих ноу-хау (например, изменение оргструктуры; формирование проектных групп…;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широкий выбор дополнительных программ профессионального образ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добное месторасполож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одумайте и конкретизируйте, какие факторы вашей ПОО могут стать или уже являются факторами успеха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ФУ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ПО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У для ПО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ПОО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ПОО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ОПО и потребителя (студента/родителя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обучающимся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акие потребности мы помогаем им удовлетворять в ОПО?  Наши возможн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гментирование рынка (какая группа потенциально является нашими потребителями, каков их соц.-дем. портрет и псих. особенности, особенности их потребительского поведения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зиционирование ПОО: в чем мы сильны, каковы наши особенности и приоритеты, какие потребности с точки зрения клиентов мы можем удовлетворять, чем мы можем быть интересны выпускникам школ, их родителям, работодателям….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, на основе 1-5 шаг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(т.е. достижимые, совпадающие с интересами потребителя и сильными сторонами ПОО, в тоже время содержащие вызов) цели организ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(миссии, видения будущего своей ПОО) и определенных целей маркетинговой стратегии начинается оперативное маркетинговое планировани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ПОО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повышения репутации и привлекательности организации в глазах потребителей, работодателя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привлекатель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10920" y="1341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студентов, родителей, социальных партнеров, коллег; а также потребителей их «товара»: Вузов, субъектов рынка труда – работод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нужна привлекательность О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Там, где нет конкуренци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пится лучше, но живется хуже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рост  контингент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аботодателя, род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ОВПО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http://im2-tub-ru.yandex.net/i?id=508414093-44-72&amp;n=21"/>
          <p:cNvPicPr/>
          <p:nvPr/>
        </p:nvPicPr>
        <p:blipFill>
          <a:blip r:embed="rId1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ю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ПОО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476000" y="981000"/>
            <a:ext cx="67532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йте в группах особенности работы  ОСПО, которые, с вашей точки зрения, важно учесть при использовании маркетингового подхода в управле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фориентационная работа с ООШ, СО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МИ, Интерне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ямая (адресная) почтовая рассы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ая рассылка бывшим выпускникам красочно оформленных календарей с символикой образовательной организации, поздравительных открыток, благодарственных писем родител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и и семин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ение рекламной продукции, касающейся основной деятельности ОО во время проведения и участия в конференциях, выставках, днях трудоустройства и др. массовых мероприят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профессии, Новый год, Последний звонок, День рождения ПОО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ПОО и соответствия разработанной стратегии развития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ПОО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обенности ОСП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ыявленные в групповой работе), которые влияют на маркетинговую стратегию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http://im4-tub-ru.yandex.net/i?id=1916380-08-72&amp;n=21"/>
          <p:cNvPicPr/>
          <p:nvPr/>
        </p:nvPicPr>
        <p:blipFill>
          <a:blip r:embed="rId1"/>
          <a:stretch/>
        </p:blipFill>
        <p:spPr>
          <a:xfrm>
            <a:off x="3564000" y="2637000"/>
            <a:ext cx="252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работодателей, выпускник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студентам, родителям, выпускникам, гостям ПОО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ОО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собственных С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ГОУ П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ОУ может существенную роль играть его Попечительский совет, важнейшей функцией которого является лоббирование интересов ПО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О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обеспечение плана набора/конкурс на отдельные професси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прос на выпускников профессионального ОУ со стороны крупных, работодателей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«торговой марки», «бренда» ОО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ПОО, элементах имиджа ОО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обучающихся, персонал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ь маркетинга для ОСП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ствами маркетинг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ть условия способствующие оптимизации процесса освоения профессии и социализаци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удентов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формирования ключевых профессиональных и социальных компетенций для адаптации их к производству и успешной интеграции в обще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что нацелен маркетинг ОСП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ести исследования, направленные на понимание потребностей и особенностей клиента, выявление и сравнение с конкурента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ить целевой рыно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довлетворить потреб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стичь конкурентного преимуще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дача маркетинга быть там, где есть аудитор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если наш сегмент все больше времени проводит в Интернете и социальных сетях, значит и думающим руководителям ОПО следует воспользоваться возможностями этих ресурсов, и одновременно понимать какие угрозы порождает это явление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4:34:48Z</dcterms:modified>
  <cp:revision>85</cp:revision>
  <dc:subject/>
  <dc:title>Технологии повышения привлекательности  образовательной организации</dc:title>
</cp:coreProperties>
</file>