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951E-2C55-4AFF-9583-DCC11260F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637E-8714-4ED4-AEAE-3BDE2D6BD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7669-BE71-42F9-89CC-D5AD60B98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4B13-EC1B-4D1E-A94C-6D6194871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BC0C-4332-4E0A-BA5D-D92006254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DEE1-DCB9-4A9F-BF9C-A3A83D2C4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3B13-F214-46C1-856C-E20500999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CA78-3209-4EBD-A508-806D3549C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1C24-D9D8-478A-9CF6-0F3B2F0C8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F8CB-EE23-46B4-969E-CFF331AF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8AB4-69C2-4A82-A892-A4D24485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EE08-6ADE-411D-93B3-172D4D00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920D6-1970-4DE6-B762-1155D65879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68280"/>
            <a:ext cx="7772400" cy="23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итуационные теории лидер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айнутдинов Р.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цент КМ ГОАУ ИРО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.пс. нау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аус перечисляет приемы влияния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. Увеличить личную выгоду достижения подчиненными цели данной работы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. Сделать путь к этой выгоде более легким, объясняя средства ее достижения, убирая помехи и ловушки и увеличивая возможности для личной удовлетворенности на пути к выгоде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 помощью следующих средств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. Разъяснение того, что ожидается от подчиненного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. Оказание поддержки, наставничество и устранение сковывающих помех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3. Направление усилий подчиненных на достижение цел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4. Создание у подчиненных таких потребностей, находящихся в компетенции руководителя, которые он может удовлетворить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5. Удовлетворение потребностей подчиненных, когда цель достигнут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вязь с теорией Фидлер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своей концепции профессор Хаус рассматривал четыре основных стиля управления: стиль поддержки, инструментальный стиль, стиль, поощряющий участие подчиненных в принятии решений и стиль, ориентированный на достижение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тиль поддержки аналогичен стилю, ориентированному на человека или на человеческие отношен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нструментальный стиль аналогичен стилю, ориентированному на работу или на задач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аус отмечает, что стили управления довольно условны и преобладание того или иного стиля должно зависеть от ситу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тиль поддержки подразумевает дружелюбное отношение руководителя к подчиненным, он беспокоится об их статусе, благополучии и потребностях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нструментальный стиль руководства проявляется в том, что руководитель сообщает подчиненным, что хочет от них, дает им конкретные указания, что и как нужно делать. При этом руководитель следит за исполнением трудовой дисциплины и поддерживает определенные стандарты исполнения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тиль, поощряющий участие, характеризуется тем, что руководитель делится имеющейся у него информации со своими подчиненными и использует их идеи и предложения для принятия решений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тиль, ориентированный на достижения подразумевает получение результатов любым путем [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Модель принятия решений             Врума-Йеттон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огласно точке зрения авторов модели, имеется пять стилей руководства, которые может использовать руководитель в зависимости от того, в какой степени подчиненным разрешается участвовать в принятии решени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Эти пять стилей представляют континуум, начиная с автократического стиля принятия решений (AI и АН), затем идет консультативный (CI и СИ), и, наконец, завершается полным участием (Gil)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именение каждого из этих стилей зависит от характеристик ситуация или проблемы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1. Вы сами решаете проблему или принимаете решение, используя имеющуюся у вас на данный момент информацию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 2. Вы получаете необходимую информацию от своих и затем сам принимает решение. Работники привлекаются только на этапе сбора информации. Выработку решения и его принятие осуществляет руководитель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1. Вы излагаете проблему индивидуально тем подчиненным, кого это касается, и выслушиваете их идеи и предложения, но не собираете их вместе в одну группу. Затем вы принимаете решение, которое отражает или не отражает влияние ваших подчиненных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 2. Вы излагаете проблему группе ваших подчиненных, и весь коллектив выслушивает все идеи и предложения. Затем вы принимаете решение, которое отражает или не отражает влияние ваших подчиненных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I руководитель делится соображениями по проблеме с оценивают альтернативы и пытаются достичь консенсуса относительно решения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оль, выполняемая при этом руководителем, больше похожа на роль председателя собрания, координирующего дискуссию, концентрирующего внимание на проблеме и делающего все для того, чтобы рассматривались наиболее важные аспекты проблемы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уководитель не пытается влиять на группу с тем, чтобы она приняла его решение, и проявляет готовность принять и выполнить любое - решение, получившее поддержку всей группы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дной из отличительных особенностей модели является то, что в целом она делает больший упор на изучение ситуации, чем на изучение личности лидер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йствительно, может быть, имеет больше смысла говорить об автократической ситуации и ситуации участия, чем об автократическом лидере или участвующем лидер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итуационная модель руководства Ф. Фидле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ри фактора, влияющие на поведение руководител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ношения между руководителем и подчиненными (степень доверия и уважения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уктура задачи (регламентация труда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ласть руководителя (объем должностных полномочий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Теория Фидлера установила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два важных факта, связанных с обеспечением эффективного руководства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уководители, ориентированные на выполнение задачи, обеспечивают более высокую производительность группы в благоприятных и неблагоприятных ситуациях. Руководители, ориентированные на отношения, обеспечивают более высокую производительность группы в промежуточных состояниях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Эффективность работы руководителя зависит как от степени благоприятности ситуации, так и от стиля лидерств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ешающим фактором является соответствие стиля руководства и ситуации, в которой работает коллектив. Добиться этого можно двумя способам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испособить лидера к ситуации (посредством его подбора, стимулирования, обучения, переобучения, в крайнем случае — замены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зменить ситуацию (путем наделения руководителя дополнительными полномочиями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спех в готовности использовать оба сти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Условием оптимальности стилей управления является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ориентация на решение производственных задач и на установление благоприятных взаимоотношений в коллективе.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Данная теория утверждает, что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эффективный руководитель должен демонстрировать оба стиля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и применять их в зависимости от характера текущей управленческой ситуаци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Каждая ситуация, в которой проявляется руководство, всегда есть сочетание действий руководителя, поведения его подчиненных, времени, места и других обстоятельств. И это сочетание чаще неблагоприятно, чем благоприятно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ория жизненного цикла Херси и Бланшарда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огласно этой теории, самые эффективные стили лидерства зависят от «зрелости» исполнителей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Зрелость не следует определять в категории возраста. Зрелость отдельных лиц и групп подразумевает способность нести ответственность за свое поведение, желание достигнуть поставленной цели, а также образование и опыт в отношении конкретной задачи, которую необходимо выполнить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огласно Херси и Бланшарду, понятие зрелости не является постоянным качеством лица или группы, а скорее характеристикой конкретной ситуации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ровень зрелости задает стиль лидерст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ругими словами, в зависимости от выполняемой задачи, отдельные лица и группы проявляют различный уровень «зрелости»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ответственно, руководитель может менять и свое поведение в зависимости от относительной зрелости лица или группы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уководитель определяет эту зрелость, оценивая стремление к достижению, способность нести ответственность за поведение, а также уровень образования и опыт прошлой работы над порученными задания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 основании этой субъективной оценки руководитель и определяет сравнительную зрелость конкретного лица или группы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ыделяются четыре стиля лидерства, которые соответствуют конкретному уровню зрелости исполнителей: давать указания, «продавать», участвовать, делегироват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еория «путь-цель» Митчела и Хауса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8360" y="11970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итуационная модель «путь - цель» Теренса Митчела и Роберта Хауса во многом схожа с моделью Фидлера. Она также указывает на необходимость применения ситуативного стиля управления в зависимости от ситуаци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д названием «путь - цель» авторы имели ввиду «усилие - производительность – результат (вознаграждение) - ощущаемая ценность вознаграждения в глазах подчиненного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отивационный смысл теор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вторы этой модели пытаются дать объяснение тому, как поведение руководителя воздействует на мотивацию, удовлетворенность и производительность труда подчиненных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сновная мысль этого подхода в том, что руководитель может побуждать подчиненных к достижению целей организации, воздействуя на пути достижения этих целей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9T08:44:55Z</dcterms:created>
  <dc:creator>Рашид Минасхатович Гайнутдинов</dc:creator>
  <dc:description/>
  <dc:language>en-US</dc:language>
  <cp:lastModifiedBy>Рашид Минасхатович Гайнутдинов</cp:lastModifiedBy>
  <dcterms:modified xsi:type="dcterms:W3CDTF">2014-02-19T10:48:05Z</dcterms:modified>
  <cp:revision>7</cp:revision>
  <dc:subject/>
  <dc:title>Презентация PowerPoint</dc:title>
</cp:coreProperties>
</file>