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75DA-8071-4698-8656-8CC2A1564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3CCC-C600-4412-B56C-C0DCC1C84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E69-8B60-4FD3-A8EF-3BD97561C3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4292-E92B-4018-BD04-82E7F5E0A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6A1-EE6F-48A9-AC7A-587D510B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C4F-213A-46FF-87E4-6CCB334C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5ED-5066-47A0-9063-56CE5E7A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DF8-6DFF-410E-A799-1AE542BD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1755-D49D-487B-A283-359FD570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C52D-6C7D-4B4B-92A4-DD840095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946B-21D8-448F-94EA-EDB03ECF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AD8C-3618-46C5-A55B-EB603EEB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FD04-8F39-400B-B766-5B826B9F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4C6F-B415-4CAE-8863-CF3F77E7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D482-4C6E-49CD-8F02-1879CC1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5ED-E2CD-42E8-8A69-AADF0074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6A06-F336-4511-AA60-40B65D7F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846F-35B1-47FF-9195-C8D2E59D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9B59-0372-4652-8438-33B1E770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C63E-6878-447B-B18D-75756D27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1F08-D444-4711-876E-7C848D36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982-6D0A-45EA-B6E3-418C5C91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11B-2EC8-40BC-A74D-A6B0EDCF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D81-04B8-4015-88BB-28017924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2F5-25A7-42C7-AF94-EDF1217E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BC6-C7EA-4C65-8497-7A8F4197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80E-28BC-4EA1-9F84-65F5F56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529-2158-484D-875F-5FECC031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51C-C18D-4D16-B003-9EAC9A793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4267-AF72-4855-8E41-5138A630C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ld.acconcept.ru/strategy/space.html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О, ОД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О – это вариативная часть государственных институтов социализации ребенка, обеспечивающая развитие личности, преемственность и взаимосвязь поколений и ОО, причем делает это в самой тесной связи с семь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го ОУ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ДОО в обязательном порядке должен быть согласован с субъектами муницип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дошкольным образовательным организациям (Д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Д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Д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«товара»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воспитательно-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ечно, ДОО находятся на позиции монополиста услуг в сфере ДО в большинстве районов, однако, это не должно вас успокаивать: во-первых, это не навсегда; во-вторых, есть ещё «имя», которое формирует отношение к ДОО, ценность в глазах Клиента, и, соответственно, желание или нежелание сотрудничать, помогать; испытывать благодарность и рекомендовать или 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воспитанника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родителей и дет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, а можно за счет энергии, возникающей в условиях взаимного доверия и сотрудни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КК детоцентризма, взаимоуважения, вовлеченности и сотрудничества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/кли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 чаще всего в лице родителя, его запросов,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воспитательно-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воспитателей/специалистов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в сотрудничестве с семьей, чтобы не формировались, по образному выражению А.Г.Асмолова «невротические салочки» воспитатель-ро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 процесс – воспитательно-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первую очередь родителя, а также других О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Д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907920"/>
          <a:ext cx="8604360" cy="5492880"/>
        </p:xfrm>
        <a:graphic>
          <a:graphicData uri="http://schemas.openxmlformats.org/drawingml/2006/table">
            <a:tbl>
              <a:tblPr/>
              <a:tblGrid>
                <a:gridCol w="2470320"/>
                <a:gridCol w="2947680"/>
                <a:gridCol w="3186360"/>
              </a:tblGrid>
              <a:tr h="6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ДОО, например, в 2015 году (в соответствии с миссией ОО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Д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экономических субъектов в данном населенном пункте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выгодным местоположением, эффективным воспитательно-образовательным процессом, хорошей МТБ, готовностью педколлектива работать с детьми с ОВЗ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 с учетом требований нового ФГОС, осуществить модернизацию воспитательно-образовательного процесса в соответствии с требованиями учредителя, повысить имидж образовательного учреждения, освоить 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Д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в условиях рынк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услуг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и уж тем более детей,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 Д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Д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ыми качествами воспитателей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специалистов и медиков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педагогическими технологиями: компетентность в новы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ухода и присмотра, здоровьесохранения и развития дет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личности ребенка;  оптимальное сочетание воспитательной и обучающе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Д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руководителя ДОО и наличие управляющих ноу-хау (например, изменение оргструктуры; формирование групп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среди Д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-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учредителя, 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средней школы прежде вс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Д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онополизм ДОО вредит их развитию и отвлекает внимание от качества их работы, т.к. концентрирует на дефиците мест в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СОШ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ПО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школами-партнер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Д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Д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Д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 партнер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управления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ДОО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Д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ыпускников ДОО со стороны партнеров-шко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родителем, партнером, учителем из соседней школы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483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6:25Z</dcterms:modified>
  <cp:revision>71</cp:revision>
  <dc:subject/>
  <dc:title>Технологии повышения привлекательности  образовательной организации</dc:title>
</cp:coreProperties>
</file>