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14E-CD46-42DC-845D-3AD1874BF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36FA-A66A-45FC-AC8C-769C792ADA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Придумайте и нарисуйте (как можете) или напишите метафору, которую рождает у вас руководитель вашего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659-7582-4579-9B5D-FE9C893ADA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6200" y="8636040"/>
            <a:ext cx="297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FEE149C-5B46-4DB5-BC00-C074DA0521A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706400" y="141120"/>
            <a:ext cx="3445200" cy="45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68600"/>
            <a:ext cx="50259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38D-EAC8-46CA-9D33-DE1083D5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06-2331-4B29-B363-0C748D68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880-D056-41BA-B04C-2DBE71E6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B32-1365-4E91-AD3D-098E94C6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112B-45DE-4C6C-BE4D-9EEF999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F348-DC02-4BCA-89A3-D72D6269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829-CBF6-4051-BC2B-142754DF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F25-F7CA-41C0-90C3-AE5DB6F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2D19-A787-4615-A5C5-603C4DB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F1D-6FF7-4995-9744-308AF372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58EB-85BB-4DB3-B8D2-0D3AD02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5E7-F2CA-4AF5-B044-86C7586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265-220B-41D0-B479-C593581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FE96-6709-441B-800D-6CEE127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7998-F262-482B-9312-4832B1B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0243-BD56-4EE2-8A28-08B6724D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572-DAD4-4D9B-9FAC-A11CB196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A3F-1E20-4BE6-A208-688201AD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FB7-4A8A-4BD1-9722-9D89AE81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DD3-DBC3-4A4A-A8D6-87A43D3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933-E94C-4FFC-A8A5-DFF9C3B3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FB9-E8A0-4819-B4D7-189FDEC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72F-3832-4C6C-A373-0A5BB77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85C-3081-45B3-BC88-0CABF52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E27-E642-452D-BDDD-7DCE898B0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11E-CDE0-4323-AC73-2FCFB27AF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 и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28560" y="4286160"/>
            <a:ext cx="6357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цент каф. менеджмента ГОАУ ИРО, к.пс.н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Друк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означает «быть настоящим лидером», если это не харизма и не определенное сочетание черт характера?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быть лидером – это прежде всего ра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ольшинство лидеров – трудогол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Черчилль: «Без значительных усилий невозможен даже незначительный усп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ормальные отношения и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ым элементом, характеризующим особенности ОК в учреждении, являютс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формальн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ллективе, наличие и позиция неформальных лидеров к руководству и деятельности организ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 (неформальным лидерам) принадлежит значимая роль и у них имеются серьезные регулятивные возможности в формировании и функционировании ОК субъектного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дерство теперь – это не «железная ру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 должен уметь делиться своим успехом, и чем лучше он умеет это делать, тем больше шансов, что люди будут работать лучше, пойдут за н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современных условиях эффективное лидерство – это не железная или твердая рука, а высокая чувствительность к потребностям последователей, которая проявляется в развитии работников, во включении их в групповую работу, в оказании им помощи в достижении личных ц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, выступая как субъект управления, влияет на эффективность деятельности организации через стиль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ь в управлении – это предсказ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ь – это индивидуальный способ использования социальных и психологических технологий в управ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азывает опыт, сотрудники предпочитают работать с предсказуемыми руководителями, обладающими определенными стилевыми особенностями,  которые сами управляют ситуацией, и своими эмоциями, а не становятся заложниками ситуации или рабами захлестывающих их эмо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ность изменяться не изменяя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лишь уважения с их стороны заслуживает тот менеджер, который в острой, стрессовой ситуации может отойти от своих устойчивых демократических установок и привычек,  единолично принять твердое решение и последовательно, а если того требует ситуация, то и жестко провести его в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ен не тот лидер, который «зимой и летом одним цветом», а тот который проявляет гибкость относительно ситуации, задач и особенностей коллектив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ДР и ОК: взаимовли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енным фактором формирования коллектива, характеризующегося организационной культурой (ОК) субъектного типа является индивидуальный стиль деятельности руководителя (ИСД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гой стороны, он же (ИСДР) является одним из важнейших индикаторов особенностей ОК данной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4560" y="1413000"/>
            <a:ext cx="7666200" cy="4824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90880" y="260280"/>
            <a:ext cx="827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ПОЗИЦИОНН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1000" y="2727360"/>
            <a:ext cx="6939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ведущее положение отдельной личности или социальной группы, обусловлен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е эффективными результатам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93040" y="26028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ДИНАМИЧЕСК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38360" y="2479680"/>
            <a:ext cx="7667280" cy="3048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1600" y="3176640"/>
            <a:ext cx="7326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цесс вовлечения членов группы в деятельность по достижению поставленной цели (наличие последователей, сторо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1000080" y="21081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делает вещи прави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лидер делает правильные ве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333360"/>
          <a:ext cx="9144000" cy="5711760"/>
        </p:xfrm>
        <a:graphic>
          <a:graphicData uri="http://schemas.openxmlformats.org/drawingml/2006/table">
            <a:tbl>
              <a:tblPr/>
              <a:tblGrid>
                <a:gridCol w="4516560"/>
                <a:gridCol w="46274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Иннов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руч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дохно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целям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своим ц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лан основа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иден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систе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доводы,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эмо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тролир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ддерживает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ёт импульс дви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офесси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нтузи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имает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ревращает решения в ре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лает дело прав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Делает правиль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ува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обо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группового обсу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то такой лидер, что такое лидерство? Какие бывают лидеры  в ОО? Каковы признаки проявления лидерств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ами рождаются или станов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должен быть один в коллективе? Или их может быть несколь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сущностное отличие лидера и руководителя? Провели бы вы знак равенства между лидером и менеджер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лучше и для кого лучше: лидер=руководитель? Лидер ≠ руководитель? Лидер+руководител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озможности проявления лидерства на вашей пози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ет ли образовательная организация/её первое лицо каким-либо образом сотрудников с высоким лидерским потенциалом? Какими средствами, способ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ужно делать в условиях ОО, чтобы появились лидер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276120" y="22860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И ПРИНЯТИЕ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1"/>
          <p:cNvGrpSpPr/>
          <p:nvPr/>
        </p:nvGrpSpPr>
        <p:grpSpPr>
          <a:xfrm>
            <a:off x="714240" y="812880"/>
            <a:ext cx="8143920" cy="5603760"/>
            <a:chOff x="714240" y="812880"/>
            <a:chExt cx="8143920" cy="5603760"/>
          </a:xfrm>
        </p:grpSpPr>
        <p:sp>
          <p:nvSpPr>
            <p:cNvPr id="126" name="TextBox 15"/>
            <p:cNvSpPr/>
            <p:nvPr/>
          </p:nvSpPr>
          <p:spPr>
            <a:xfrm>
              <a:off x="785520" y="812880"/>
              <a:ext cx="771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уровень-стратегический; 2ур.- исполнительный; 3ур.- лидер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0"/>
            <p:cNvGrpSpPr/>
            <p:nvPr/>
          </p:nvGrpSpPr>
          <p:grpSpPr>
            <a:xfrm>
              <a:off x="714240" y="1270080"/>
              <a:ext cx="8143920" cy="5146560"/>
              <a:chOff x="714240" y="1270080"/>
              <a:chExt cx="8143920" cy="5146560"/>
            </a:xfrm>
          </p:grpSpPr>
          <p:grpSp>
            <p:nvGrpSpPr>
              <p:cNvPr id="128" name="Группа 14"/>
              <p:cNvGrpSpPr/>
              <p:nvPr/>
            </p:nvGrpSpPr>
            <p:grpSpPr>
              <a:xfrm>
                <a:off x="2988720" y="1270080"/>
                <a:ext cx="2900520" cy="4585680"/>
                <a:chOff x="2988720" y="1270080"/>
                <a:chExt cx="2900520" cy="4585680"/>
              </a:xfrm>
            </p:grpSpPr>
            <p:sp>
              <p:nvSpPr>
                <p:cNvPr id="129" name="Равнобедренный треугольник 3"/>
                <p:cNvSpPr/>
                <p:nvPr/>
              </p:nvSpPr>
              <p:spPr>
                <a:xfrm>
                  <a:off x="2999880" y="1406520"/>
                  <a:ext cx="2880720" cy="444888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Прямая со стрелкой 5"/>
                <p:cNvCxnSpPr/>
                <p:nvPr/>
              </p:nvCxnSpPr>
              <p:spPr>
                <a:xfrm flipH="1" flipV="1">
                  <a:off x="2988720" y="1407600"/>
                  <a:ext cx="2160" cy="4448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1" name="Прямая со стрелкой 7"/>
                <p:cNvCxnSpPr>
                  <a:endCxn id="129" idx="0"/>
                </p:cNvCxnSpPr>
                <p:nvPr/>
              </p:nvCxnSpPr>
              <p:spPr>
                <a:xfrm>
                  <a:off x="2999520" y="1406520"/>
                  <a:ext cx="14410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2" name="Прямая со стрелкой 9"/>
                <p:cNvCxnSpPr/>
                <p:nvPr/>
              </p:nvCxnSpPr>
              <p:spPr>
                <a:xfrm>
                  <a:off x="5868720" y="1430280"/>
                  <a:ext cx="20880" cy="442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3" name="Прямая со стрелкой 11"/>
                <p:cNvCxnSpPr/>
                <p:nvPr/>
              </p:nvCxnSpPr>
              <p:spPr>
                <a:xfrm>
                  <a:off x="4445280" y="1419120"/>
                  <a:ext cx="14392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34" name="Овал 12"/>
                <p:cNvSpPr/>
                <p:nvPr/>
              </p:nvSpPr>
              <p:spPr>
                <a:xfrm>
                  <a:off x="4307040" y="1270080"/>
                  <a:ext cx="264960" cy="263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Box 13"/>
              <p:cNvSpPr/>
              <p:nvPr/>
            </p:nvSpPr>
            <p:spPr>
              <a:xfrm>
                <a:off x="3319200" y="5956920"/>
                <a:ext cx="25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нешняя сред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6"/>
              <p:cNvSpPr/>
              <p:nvPr/>
            </p:nvSpPr>
            <p:spPr>
              <a:xfrm>
                <a:off x="714240" y="2870280"/>
                <a:ext cx="260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о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7"/>
              <p:cNvSpPr/>
              <p:nvPr/>
            </p:nvSpPr>
            <p:spPr>
              <a:xfrm>
                <a:off x="6236280" y="2870280"/>
                <a:ext cx="262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и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19"/>
              <p:cNvSpPr/>
              <p:nvPr/>
            </p:nvSpPr>
            <p:spPr>
              <a:xfrm>
                <a:off x="4243320" y="2108160"/>
                <a:ext cx="42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22"/>
              <p:cNvSpPr/>
              <p:nvPr/>
            </p:nvSpPr>
            <p:spPr>
              <a:xfrm>
                <a:off x="4090680" y="2603520"/>
                <a:ext cx="761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6"/>
              <p:cNvSpPr/>
              <p:nvPr/>
            </p:nvSpPr>
            <p:spPr>
              <a:xfrm>
                <a:off x="3892320" y="3086280"/>
                <a:ext cx="113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30"/>
              <p:cNvSpPr/>
              <p:nvPr/>
            </p:nvSpPr>
            <p:spPr>
              <a:xfrm flipV="1">
                <a:off x="3720240" y="3605400"/>
                <a:ext cx="143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32"/>
              <p:cNvSpPr/>
              <p:nvPr/>
            </p:nvSpPr>
            <p:spPr>
              <a:xfrm flipV="1">
                <a:off x="3609720" y="4051440"/>
                <a:ext cx="16653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34"/>
              <p:cNvSpPr/>
              <p:nvPr/>
            </p:nvSpPr>
            <p:spPr>
              <a:xfrm flipV="1">
                <a:off x="3411360" y="4559040"/>
                <a:ext cx="20271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37"/>
              <p:cNvSpPr/>
              <p:nvPr/>
            </p:nvSpPr>
            <p:spPr>
              <a:xfrm flipV="1">
                <a:off x="3305160" y="5003640"/>
                <a:ext cx="2298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ая соединительная линия 39"/>
              <p:cNvSpPr/>
              <p:nvPr/>
            </p:nvSpPr>
            <p:spPr>
              <a:xfrm flipV="1">
                <a:off x="3165120" y="5397840"/>
                <a:ext cx="25542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ая соединительная линия 42"/>
              <p:cNvSpPr/>
              <p:nvPr/>
            </p:nvSpPr>
            <p:spPr>
              <a:xfrm flipV="1">
                <a:off x="2989080" y="209520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47"/>
              <p:cNvSpPr/>
              <p:nvPr/>
            </p:nvSpPr>
            <p:spPr>
              <a:xfrm flipV="1">
                <a:off x="2977920" y="25905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48"/>
              <p:cNvSpPr/>
              <p:nvPr/>
            </p:nvSpPr>
            <p:spPr>
              <a:xfrm flipV="1">
                <a:off x="2977920" y="30729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49"/>
              <p:cNvSpPr/>
              <p:nvPr/>
            </p:nvSpPr>
            <p:spPr>
              <a:xfrm flipV="1">
                <a:off x="2989080" y="35938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0"/>
              <p:cNvSpPr/>
              <p:nvPr/>
            </p:nvSpPr>
            <p:spPr>
              <a:xfrm flipV="1">
                <a:off x="2989080" y="40510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1"/>
              <p:cNvSpPr/>
              <p:nvPr/>
            </p:nvSpPr>
            <p:spPr>
              <a:xfrm flipV="1">
                <a:off x="2989080" y="45590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2"/>
              <p:cNvSpPr/>
              <p:nvPr/>
            </p:nvSpPr>
            <p:spPr>
              <a:xfrm flipV="1">
                <a:off x="3000240" y="50036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ая соединительная линия 53"/>
              <p:cNvSpPr/>
              <p:nvPr/>
            </p:nvSpPr>
            <p:spPr>
              <a:xfrm flipV="1">
                <a:off x="3000240" y="53974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54"/>
              <p:cNvSpPr/>
              <p:nvPr/>
            </p:nvSpPr>
            <p:spPr>
              <a:xfrm>
                <a:off x="6674040" y="4483440"/>
                <a:ext cx="169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овни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правле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Прямая со стрелкой 56"/>
              <p:cNvCxnSpPr/>
              <p:nvPr/>
            </p:nvCxnSpPr>
            <p:spPr>
              <a:xfrm flipH="1" flipV="1">
                <a:off x="5226840" y="2120040"/>
                <a:ext cx="1384920" cy="262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6" name="Прямая со стрелкой 58"/>
              <p:cNvCxnSpPr/>
              <p:nvPr/>
            </p:nvCxnSpPr>
            <p:spPr>
              <a:xfrm flipH="1" flipV="1">
                <a:off x="5028840" y="2602800"/>
                <a:ext cx="1605600" cy="215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7" name="Прямая со стрелкой 60"/>
              <p:cNvCxnSpPr/>
              <p:nvPr/>
            </p:nvCxnSpPr>
            <p:spPr>
              <a:xfrm flipH="1" flipV="1">
                <a:off x="5555880" y="4063320"/>
                <a:ext cx="1056240" cy="72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8" name="Прямая со стрелкой 62"/>
              <p:cNvCxnSpPr/>
              <p:nvPr/>
            </p:nvCxnSpPr>
            <p:spPr>
              <a:xfrm flipH="1" flipV="1">
                <a:off x="5790240" y="4559040"/>
                <a:ext cx="86724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9" name="Прямая со стрелкой 64"/>
              <p:cNvCxnSpPr/>
              <p:nvPr/>
            </p:nvCxnSpPr>
            <p:spPr>
              <a:xfrm flipH="1" flipV="1">
                <a:off x="5473080" y="3593520"/>
                <a:ext cx="1184760" cy="120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0" name="Прямая со стрелкой 66"/>
              <p:cNvCxnSpPr/>
              <p:nvPr/>
            </p:nvCxnSpPr>
            <p:spPr>
              <a:xfrm flipH="1">
                <a:off x="5836320" y="4825080"/>
                <a:ext cx="8103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1" name="Прямая со стрелкой 68"/>
              <p:cNvCxnSpPr/>
              <p:nvPr/>
            </p:nvCxnSpPr>
            <p:spPr>
              <a:xfrm flipH="1">
                <a:off x="5836320" y="4826160"/>
                <a:ext cx="83412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2" name="Прямая со стрелкой 70"/>
              <p:cNvCxnSpPr/>
              <p:nvPr/>
            </p:nvCxnSpPr>
            <p:spPr>
              <a:xfrm flipH="1" flipV="1">
                <a:off x="5181120" y="3085560"/>
                <a:ext cx="1512000" cy="174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63" name="Прямоугольник 43"/>
          <p:cNvSpPr/>
          <p:nvPr/>
        </p:nvSpPr>
        <p:spPr>
          <a:xfrm>
            <a:off x="928800" y="4714920"/>
            <a:ext cx="2000160" cy="1071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ризонтальное направление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61"/>
          <p:cNvCxnSpPr/>
          <p:nvPr/>
        </p:nvCxnSpPr>
        <p:spPr>
          <a:xfrm>
            <a:off x="3000240" y="500076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79760" y="1146240"/>
            <a:ext cx="236592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77400" y="1146240"/>
            <a:ext cx="212040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ты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28760" y="1146240"/>
            <a:ext cx="201528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0004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05160" y="1752480"/>
            <a:ext cx="281448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28668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70120" y="1803240"/>
            <a:ext cx="2045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 и лог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су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ниц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иги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к концепту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о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пытст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познав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ая инту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326760" y="1803240"/>
            <a:ext cx="297828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идательность и твор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чная цело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ел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авновеш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мбицио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ь в дости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стойчивость и упо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нер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ре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превосход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к э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324840" y="1803240"/>
            <a:ext cx="28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ручи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ддер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сотрудн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воев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пулярность и прести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т и диплома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рать на себя рис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убеж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менять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ыть надеж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шутить и поним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ю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бираться в люд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14920" y="260280"/>
            <a:ext cx="743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, ЧАСТО ВСТРЕЧАЮЩИЕСЯ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ПЕШНЫХ ЛИ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ек Уэлч (президен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ль менеджмента так образно и кратко отразил суть работы руководите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я работа – ходить вокруг клумбы с лейкой в одной руке и мешком с удобрениями в другой и следить, чтобы все растения цвели и пах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поведенческие теории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мерные модели стилей руководст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5eb1"/>
                </a:solidFill>
                <a:latin typeface="Albertus Extra Bold"/>
              </a:rPr>
              <a:t>Теории руководства и лиде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204156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Личностная теория лидерств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уководителей характерен определенный набор личных качеств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71800" y="1981080"/>
            <a:ext cx="26668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Теории «Х» и «У» МакГре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55e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Автократический, демократический и либеральный с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Двухмерные трактовки стилей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15000" y="1981080"/>
            <a:ext cx="3352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руководства Фи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жизненного цикла Херси и Бланш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«путь-цель» Ха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принятия решений             Врума-Йет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066680" y="18288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143240" y="1000080"/>
            <a:ext cx="460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1066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73152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ум лидерского поведения по Р. Танненбауму и У. Шмид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785880" y="1857240"/>
            <a:ext cx="7487640" cy="4817880"/>
            <a:chOff x="785880" y="1857240"/>
            <a:chExt cx="7487640" cy="4817880"/>
          </a:xfrm>
        </p:grpSpPr>
        <p:sp>
          <p:nvSpPr>
            <p:cNvPr id="188" name="Line 4"/>
            <p:cNvSpPr/>
            <p:nvPr/>
          </p:nvSpPr>
          <p:spPr>
            <a:xfrm flipV="1">
              <a:off x="14792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785880" y="1857240"/>
              <a:ext cx="7487640" cy="4817880"/>
              <a:chOff x="785880" y="1857240"/>
              <a:chExt cx="7487640" cy="481788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785880" y="1857240"/>
                <a:ext cx="6932880" cy="2551320"/>
                <a:chOff x="785880" y="1857240"/>
                <a:chExt cx="6932880" cy="2551320"/>
              </a:xfrm>
            </p:grpSpPr>
            <p:grpSp>
              <p:nvGrpSpPr>
                <p:cNvPr id="191" name="Group 7"/>
                <p:cNvGrpSpPr/>
                <p:nvPr/>
              </p:nvGrpSpPr>
              <p:grpSpPr>
                <a:xfrm>
                  <a:off x="1340280" y="1857240"/>
                  <a:ext cx="6378480" cy="2343600"/>
                  <a:chOff x="1340280" y="1857240"/>
                  <a:chExt cx="6378480" cy="2343600"/>
                </a:xfrm>
              </p:grpSpPr>
              <p:sp>
                <p:nvSpPr>
                  <p:cNvPr id="192" name="Line 8"/>
                  <p:cNvSpPr/>
                  <p:nvPr/>
                </p:nvSpPr>
                <p:spPr>
                  <a:xfrm>
                    <a:off x="2476440" y="1857240"/>
                    <a:ext cx="388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1340280" y="2683800"/>
                    <a:ext cx="6378480" cy="1517040"/>
                    <a:chOff x="1340280" y="2683800"/>
                    <a:chExt cx="6378480" cy="1517040"/>
                  </a:xfrm>
                </p:grpSpPr>
                <p:grpSp>
                  <p:nvGrpSpPr>
                    <p:cNvPr id="194" name="Group 10"/>
                    <p:cNvGrpSpPr/>
                    <p:nvPr/>
                  </p:nvGrpSpPr>
                  <p:grpSpPr>
                    <a:xfrm>
                      <a:off x="1478880" y="2683800"/>
                      <a:ext cx="6101280" cy="1517040"/>
                      <a:chOff x="1478880" y="2683800"/>
                      <a:chExt cx="6101280" cy="1517040"/>
                    </a:xfrm>
                  </p:grpSpPr>
                  <p:sp>
                    <p:nvSpPr>
                      <p:cNvPr id="195" name="Rectangle 11"/>
                      <p:cNvSpPr/>
                      <p:nvPr/>
                    </p:nvSpPr>
                    <p:spPr>
                      <a:xfrm>
                        <a:off x="1478880" y="2683800"/>
                        <a:ext cx="6101280" cy="151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Line 12"/>
                      <p:cNvSpPr/>
                      <p:nvPr/>
                    </p:nvSpPr>
                    <p:spPr>
                      <a:xfrm flipH="1">
                        <a:off x="1478880" y="2683800"/>
                        <a:ext cx="6101280" cy="1517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Line 13"/>
                    <p:cNvSpPr/>
                    <p:nvPr/>
                  </p:nvSpPr>
                  <p:spPr>
                    <a:xfrm>
                      <a:off x="771876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4"/>
                    <p:cNvSpPr/>
                    <p:nvPr/>
                  </p:nvSpPr>
                  <p:spPr>
                    <a:xfrm>
                      <a:off x="134028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" name="Group 15"/>
                <p:cNvGrpSpPr/>
                <p:nvPr/>
              </p:nvGrpSpPr>
              <p:grpSpPr>
                <a:xfrm>
                  <a:off x="785880" y="2683800"/>
                  <a:ext cx="6656040" cy="1724760"/>
                  <a:chOff x="785880" y="2683800"/>
                  <a:chExt cx="6656040" cy="1724760"/>
                </a:xfrm>
              </p:grpSpPr>
              <p:sp>
                <p:nvSpPr>
                  <p:cNvPr id="200" name="Text Box 16"/>
                  <p:cNvSpPr/>
                  <p:nvPr/>
                </p:nvSpPr>
                <p:spPr>
                  <a:xfrm>
                    <a:off x="785880" y="2683800"/>
                    <a:ext cx="388800" cy="172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точник полномоч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17"/>
                  <p:cNvSpPr/>
                  <p:nvPr/>
                </p:nvSpPr>
                <p:spPr>
                  <a:xfrm>
                    <a:off x="1617480" y="2913840"/>
                    <a:ext cx="1663920" cy="57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Область свободы для последователе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18"/>
                  <p:cNvSpPr/>
                  <p:nvPr/>
                </p:nvSpPr>
                <p:spPr>
                  <a:xfrm>
                    <a:off x="5916600" y="3718800"/>
                    <a:ext cx="152532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пользование власти лидер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9"/>
              <p:cNvGrpSpPr/>
              <p:nvPr/>
            </p:nvGrpSpPr>
            <p:grpSpPr>
              <a:xfrm>
                <a:off x="785880" y="4345560"/>
                <a:ext cx="7487640" cy="2329560"/>
                <a:chOff x="785880" y="4345560"/>
                <a:chExt cx="7487640" cy="2329560"/>
              </a:xfrm>
            </p:grpSpPr>
            <p:sp>
              <p:nvSpPr>
                <p:cNvPr id="204" name="Text Box 20"/>
                <p:cNvSpPr/>
                <p:nvPr/>
              </p:nvSpPr>
              <p:spPr>
                <a:xfrm>
                  <a:off x="7441920" y="4345560"/>
                  <a:ext cx="831600" cy="23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ла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1"/>
                <p:cNvSpPr/>
                <p:nvPr/>
              </p:nvSpPr>
              <p:spPr>
                <a:xfrm>
                  <a:off x="78588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озволяет последо-вателям действовать в рамках, опреде-ленных руководи-тел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2"/>
                <p:cNvSpPr/>
                <p:nvPr/>
              </p:nvSpPr>
              <p:spPr>
                <a:xfrm>
                  <a:off x="1756440" y="5319720"/>
                  <a:ext cx="1109160" cy="11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устанав-ливает рамки, просит группу принять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286560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облему, выслу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шивает предло-жения и принимает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3975120" y="5204880"/>
                  <a:ext cx="1109160" cy="147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едвари-тельное решение, которое может быть измене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5084640" y="4744800"/>
                  <a:ext cx="1109160" cy="10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выдвигает идеи и инициирует вопро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6055200" y="5319720"/>
                  <a:ext cx="1109160" cy="57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«продает»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7026120" y="4744800"/>
                  <a:ext cx="1109160" cy="80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инимает решение и объявляет о н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Line 28"/>
            <p:cNvSpPr/>
            <p:nvPr/>
          </p:nvSpPr>
          <p:spPr>
            <a:xfrm flipV="1">
              <a:off x="231120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342036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452988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V="1">
              <a:off x="56390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 flipV="1">
              <a:off x="660996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 flipV="1">
              <a:off x="744192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611280" y="162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кратиче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564000" y="191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д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6516720" y="1628640"/>
            <a:ext cx="151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итар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ая решетка Блейка-Моут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052640"/>
          <a:ext cx="8425080" cy="5668920"/>
        </p:xfrm>
        <a:graphic>
          <a:graphicData uri="http://schemas.openxmlformats.org/drawingml/2006/table">
            <a:tbl>
              <a:tblPr/>
              <a:tblGrid>
                <a:gridCol w="1079640"/>
                <a:gridCol w="399960"/>
                <a:gridCol w="801720"/>
                <a:gridCol w="801720"/>
                <a:gridCol w="801720"/>
                <a:gridCol w="801720"/>
                <a:gridCol w="801720"/>
                <a:gridCol w="801720"/>
                <a:gridCol w="801720"/>
                <a:gridCol w="801360"/>
                <a:gridCol w="532080"/>
              </a:tblGrid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row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39"/>
          <p:cNvSpPr/>
          <p:nvPr/>
        </p:nvSpPr>
        <p:spPr>
          <a:xfrm>
            <a:off x="1908000" y="1125360"/>
            <a:ext cx="3095640" cy="13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 духе загородного кл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упулезное внимание к удовлетворению потребностей людей ведет к созданию комфортной и дружелюбной атмосферы и рабочему ритму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292720" y="4508640"/>
            <a:ext cx="3166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- подч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оизводства зависит от создания таких рабочих условий, где человеческие аспекты присутствуют в минимальной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1835280" y="4437000"/>
            <a:ext cx="3168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не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минимальных усилий для достижения необходимых производственных результатов достаточно для сохранения членств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5292720" y="1125360"/>
            <a:ext cx="324000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успехи обусловлены преданными своей работе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через общее стремление к организационным целям ведет к созданию взаимоотношений, основанных на доверии и ува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3"/>
          <p:cNvSpPr/>
          <p:nvPr/>
        </p:nvSpPr>
        <p:spPr>
          <a:xfrm>
            <a:off x="3708360" y="2781360"/>
            <a:ext cx="2952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58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инантная» лич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если необходимо преодолеть оппозицию и конкурен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елена на немедл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ет действия, сдвигает вещи с мертвой  т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рошенные выз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ыстр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 существующие состояния под в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 авторитета, берет на себя коман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ет трудности в процессах, осуществляемых в ходе работы в коман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нантной личности требуются другие сотрудники, которы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ют все «за» и «проти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и просчитывают факторы р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уют с осторож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ют безопасное ок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уют основы и проверяют де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авливают хорошо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ют и признают потребности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ициатив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необходимо привлечь на свою сторону других и объеди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ывает конт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ит хорошее впечат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и ясно выражает свои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мотивирующую атмосферу и 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яет воодуше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чет помогать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отно работает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лидерства в управлении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сегодня не может быть не инновационны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ложение действительно не только для коммерческих структур, где усиливающаяся конкуренция требует постоянных изменений, но также и для 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О могут стать базой позитивных изменений в стране, но могут и «законсервировать» сложившуюся ментальность человеческого капитала 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ь не о том, чтобы сделать изменения самоцелью, а о том, что необходимость перемен должна быть осознанна, принята педагогами и выработаны направления изменений, методы, стимулирующие необходимые инновации в коллекти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для этого руководители должны стать лидер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ите быть лидером – учитесь управлять процессом изменений;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ициативной личности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ются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уются на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о и прямо гов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ют искр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ют систематические под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ются охотнее с вещами, чем с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утся за решение задач с помощью лог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 проверяют ход процессов от начала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тоян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ет однажды принятые рабочие оп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отно остается на одном рабочем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пе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ет специализированное масте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ется на задач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а и проявляет ве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слуш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покаивает возбужденны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чности с постоянным поведением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гируют на неожиданные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 вызываются на новы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одновременно над несколькими задач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оказывать давление на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в неурегулированной, непредвиденной обстанов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гировать задани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менять методы и форм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щатель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используются известные и хорошо зарекомендовавшие себя подходы для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распоряжениям и предписаниям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ируется на важных дета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в урегулированных услов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ходится дипломатично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т на 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ет крити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яется авт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щательной личности требуются другие сотрудники, котор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ят расширить сферу своей ответ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ают важные задачи на исполнение друг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ринимать быстрые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уют принципиальные регулирующие положения только как директи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ут на компромиссы с оппозици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казывают и излагают непопулярные точки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73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    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Line 1"/>
          <p:cNvSpPr/>
          <p:nvPr/>
        </p:nvSpPr>
        <p:spPr>
          <a:xfrm>
            <a:off x="-85680" y="15840"/>
            <a:ext cx="173988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теории лиде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отовности последователей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 1974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7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39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лость/готовность последова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и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, но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, но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 и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ГУЛИРУЕТСЯ САМИМ ПОСЛЕДОВАТЕЛ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НАПРАВЛЯЕТСЯ ЛИДЕ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 поведения лидера и принятия им реш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125360"/>
          <a:ext cx="8444160" cy="4923000"/>
        </p:xfrm>
        <a:graphic>
          <a:graphicData uri="http://schemas.openxmlformats.org/drawingml/2006/table">
            <a:tbl>
              <a:tblPr/>
              <a:tblGrid>
                <a:gridCol w="1944720"/>
                <a:gridCol w="2220840"/>
                <a:gridCol w="22212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ЛИД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 принятия ре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взаимоотношения (Поддерж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ся идеями и выступает как фасилитатор при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ает возмо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ет лидер едино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 принимает решения после обсуждения и/или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ет другим ответственность за решения 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конкретные распоряжения и обеспечивает постоянный надзор за рабо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 последователи при поддержке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зад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каз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Freeform 36"/>
          <p:cNvSpPr/>
          <p:nvPr/>
        </p:nvSpPr>
        <p:spPr>
          <a:xfrm>
            <a:off x="2124000" y="2265480"/>
            <a:ext cx="4464000" cy="205236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2812" h="1293">
                <a:moveTo>
                  <a:pt x="0" y="1187"/>
                </a:moveTo>
                <a:cubicBezTo>
                  <a:pt x="132" y="1240"/>
                  <a:pt x="265" y="1293"/>
                  <a:pt x="499" y="1096"/>
                </a:cubicBezTo>
                <a:cubicBezTo>
                  <a:pt x="733" y="899"/>
                  <a:pt x="1134" y="14"/>
                  <a:pt x="1406" y="7"/>
                </a:cubicBezTo>
                <a:cubicBezTo>
                  <a:pt x="1678" y="0"/>
                  <a:pt x="1898" y="854"/>
                  <a:pt x="2132" y="1051"/>
                </a:cubicBezTo>
                <a:cubicBezTo>
                  <a:pt x="2366" y="1248"/>
                  <a:pt x="2699" y="1164"/>
                  <a:pt x="2812" y="118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поведения лидера, характерные для каждого стиля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349360"/>
          <a:ext cx="8229600" cy="3299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дав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ч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ть пред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37240" y="228600"/>
            <a:ext cx="615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ЧИНЫ РОСТА ИНТЕРЕ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ОБЛЕМЕ ЛИДЕР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14200" y="1727280"/>
            <a:ext cx="86439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ледствие изменения среды бизнеса возник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м числе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е распространение получила проектная фор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ился характер работников-последов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(формирование класса высококвалифицированных, креативных специалистов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обализация обострила проблему национа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специфики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успеха при выборе стиля лидер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ото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успе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                                                                                     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Line 40"/>
          <p:cNvSpPr/>
          <p:nvPr/>
        </p:nvSpPr>
        <p:spPr>
          <a:xfrm flipV="1">
            <a:off x="3000240" y="2754360"/>
            <a:ext cx="42148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работать с разными ти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ы понимаем , что сотрудник относится к тип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– просто делегируем выполнение 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обговариваем  с сотрудником план действий, формы стимул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казываем поддержку, наставничество, обучение, вырабатываем  чёткий план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вырабатываем  чёткий план действий, жестко контролируем факт выпол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 может уйти достаточно времени и сил , но вероятность , что задачи будут выполнены, а  сотрудник перейдёт на другой уровень знаний и приверженности будет значительно вы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«обмена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одель вертикальной диадной связ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формирует со своими последователями отношения 2-х тип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т.н. «внутренних групп» предполагаются тесные контакты, сильная поддержку со стороны лидера, высокий уровень довер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«внешних групп» устанавливаются отношения которые характеризуются большей отстраненностью,  не столь  частыми контактами, меньшей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когнитивных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изком уровне стресса на первый план выступает  интеллектуальный потенциал лид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соком – опы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ые ресурсы лидера могут способствовать  эффективной д-сти группы, но лишь в определенных условиях, в частности, если она следует директивным указаниям лид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– это фун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и (качеств личности и характер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ции (частично постоянная, частично изменяющая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(ценности, потребности, уровень готовности последователе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2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268" name="Text Box 36"/>
            <p:cNvSpPr/>
            <p:nvPr/>
          </p:nvSpPr>
          <p:spPr>
            <a:xfrm>
              <a:off x="295200" y="3063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А ЛИДЕ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213480" y="1906560"/>
              <a:ext cx="871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ом человек становится не вследствие наличия 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о тех или иных качеств, а потому, что он демонстрирует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едение, эффективное для решения стоящей перед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й задачи, актуальной для данной ситуа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3"/>
          <p:cNvSpPr/>
          <p:nvPr/>
        </p:nvSpPr>
        <p:spPr>
          <a:xfrm>
            <a:off x="4567320" y="2905200"/>
            <a:ext cx="0" cy="90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7561080" y="2905200"/>
            <a:ext cx="5569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623880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2266920" y="2905200"/>
            <a:ext cx="5587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01592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80700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54832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7288200" y="1779480"/>
            <a:ext cx="15210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12880" y="4721400"/>
            <a:ext cx="284328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5477040" y="4721400"/>
            <a:ext cx="284472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827880" y="1828800"/>
            <a:ext cx="16765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ная 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782680" y="1828800"/>
            <a:ext cx="1210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456320" y="1828800"/>
            <a:ext cx="136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фер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2070720" y="1790640"/>
            <a:ext cx="1781640" cy="1271880"/>
            <a:chOff x="2070720" y="1790640"/>
            <a:chExt cx="1781640" cy="1271880"/>
          </a:xfrm>
        </p:grpSpPr>
        <p:sp>
          <p:nvSpPr>
            <p:cNvPr id="285" name="Rectangle 8"/>
            <p:cNvSpPr/>
            <p:nvPr/>
          </p:nvSpPr>
          <p:spPr>
            <a:xfrm>
              <a:off x="2095200" y="1790640"/>
              <a:ext cx="151956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070720" y="1839600"/>
              <a:ext cx="1781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вознагра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182320" y="2435400"/>
              <a:ext cx="1557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ожитель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8"/>
          <p:cNvGrpSpPr/>
          <p:nvPr/>
        </p:nvGrpSpPr>
        <p:grpSpPr>
          <a:xfrm>
            <a:off x="215640" y="1779480"/>
            <a:ext cx="1805760" cy="1271880"/>
            <a:chOff x="215640" y="1779480"/>
            <a:chExt cx="1805760" cy="1271880"/>
          </a:xfrm>
        </p:grpSpPr>
        <p:sp>
          <p:nvSpPr>
            <p:cNvPr id="289" name="Rectangle 9"/>
            <p:cNvSpPr/>
            <p:nvPr/>
          </p:nvSpPr>
          <p:spPr>
            <a:xfrm>
              <a:off x="215640" y="1779480"/>
              <a:ext cx="167364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303840" y="1828440"/>
              <a:ext cx="17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прину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522720" y="2424240"/>
              <a:ext cx="126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атив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2"/>
          <p:cNvSpPr/>
          <p:nvPr/>
        </p:nvSpPr>
        <p:spPr>
          <a:xfrm>
            <a:off x="4071960" y="2424240"/>
            <a:ext cx="1187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 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5772960" y="2424240"/>
            <a:ext cx="126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над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ез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7335000" y="2424240"/>
            <a:ext cx="1652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блад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ы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ертами характ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870120" y="4713120"/>
            <a:ext cx="147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чи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861840" y="5189400"/>
            <a:ext cx="294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постоянное вли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539320" y="4713120"/>
            <a:ext cx="200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н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532120" y="5114880"/>
            <a:ext cx="2726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и в си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м вли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3313080" y="3809880"/>
            <a:ext cx="12542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4567320" y="3809880"/>
            <a:ext cx="12524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61440" y="2667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9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303" name="Text Box 42"/>
            <p:cNvSpPr/>
            <p:nvPr/>
          </p:nvSpPr>
          <p:spPr>
            <a:xfrm>
              <a:off x="297720" y="318960"/>
              <a:ext cx="56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ЦИФИКА ВЛАСТИ ЛИД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53600" y="1538280"/>
              <a:ext cx="84045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е на подчи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а интернализации влия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формы власти, используемые лидером –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это экспертная и референтная в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4"/>
            <p:cNvSpPr/>
            <p:nvPr/>
          </p:nvSpPr>
          <p:spPr>
            <a:xfrm>
              <a:off x="336240" y="4429080"/>
              <a:ext cx="802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прос для обсужд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к можно наращивать экспертную и референ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636200" y="2098800"/>
            <a:ext cx="518544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АЖНЕЙШИЕ ФУНКЦИИ ТОП-МЕНЕДЖМЕН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И.АДИЗ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928800"/>
            <a:ext cx="87505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о есть социальный по своей сущности феномен, а лидерство – психологическ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способно переходить в руководство, а руководитель становиться лидер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– это комплексная концепц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лидерства м.б. развиты посредством накопления опыта, обучения и рефлек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 лидерства зависит в первую очередь от соответствия лидера, подчиненных и ситу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которых ситуациях лидерство не имеет серьезного зна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имеет больше общего с артистами, учеными и другими творческими людьми, чем менедже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акие бы абсурдные требования мы ни предъявляли к будущим управленцам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характер для нас важнее, чем образова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.к. управление прежде всего связано с взаимоотношениями между людьми» (гл.ред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омас Ти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е описание основных ролей по Адиз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описания даны для руководителей, у которых одна роль ярко выражена, в то время, как другие роли почти не представлены. На практике такой профиль почти не встречается, описания даны для понимания каждой ро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нализе и трактовке реальной личности заложены сочетания и степень представления всех 4-х ро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 одна самая выдающаяся личность не сможет в равной степени  блестяще выполнять все 4 функ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изводитель (получатель результ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ятельность руководителя направлена на создание результатов, на проведение в жизнь своей ли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производителя важн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еткая задача, цель, факты, циф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изводитель в «чистом виде», когда данная роль ярко выражена, а остальные роли не представлены – это «рабочая лошадь». Приходит первым и уходит последним, всегда занят. Сотрудники не развиваются. Для руководителя характерно краткосрочное план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ния о происходящем, технологий, политической и стратегической ли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ых систем, систем бюджетирования, контроля. Оценка результатов, исследование и проверка вариантов решения задач, установление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Администратора важ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ь, стратегия, порядок, нормы, прав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ор в «чистом виде» – бюрократ. Приходит и уходит по расписанию. Все бумаги убраны по местам. Сотрудники загружены работой в соответствии правилам. Обучение сотрудников по плану. Собрания проводятся по расписанию независимо от потребносте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задачи выполнить «правиль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я в области экономики, финансов, системы бухучета, знание законов и компьютер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нового, наработка идей, обновление, общее понимание технологий, оценка возможностей и угрозы со стороны окружающего сооб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приниматель в «чистом виде» – авантюрист. Нет четкого расписания, но много идей. Собрания при возникновении новой иде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нимание – новым идеям. Характерна постоянна смена приорите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ерпелив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п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имание главной концепции предприятия, знание маркетинга и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тегр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ординирование, выработка общего мнения по вопросам цели и стратегии, планирование, обеспечение мотивацией, развитие и обучение сотрудников, повышение заинтересованности в работе, удовлетворен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нтегратора важны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является создание атмосферы в которой людям комфортно работать вместе. Обычно он многослове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гратор в «чистом виде» – соглашатель. Приходит и уходит со всеми, свою власть не показывает. Подчиненные диктуют ему свою вол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ние психологии, стратегии, теории организации, умение разбираться во взаимоотнош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2464920" y="184464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- -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495520" y="325584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486880" y="476712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ьма 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ФОРМУЛЫ» НЕЭФФЕКТИВНОГО 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ГО МЕНЕДЖ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01680" y="2919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СТВИЯ ТЕОРИИ АДИЗ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06960" y="1447920"/>
            <a:ext cx="8452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не может одинаково эффектив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еализовывать все функции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х успехов доб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дополня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команды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 из основных навыков эффективного лидер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умение работать с непохожими на него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с непохожими на тебя людьми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84240" y="1666800"/>
            <a:ext cx="7456320" cy="449604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2360" y="0"/>
            <a:ext cx="631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ОЛОЖЕНИЯ МО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ДВИГАТЕЛЯ ЛИДЕРСТ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002 г. - Н.Тичи с 1980 г. консультант Дж.Уэлч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69360" y="1895400"/>
            <a:ext cx="7263720" cy="43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- это те, чей успех устойч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мпаниях-победителях лидеры есть на каж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уровне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учший способ умножить число лидеров - это 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воспитание другими лид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воспитывать других, лидеры должны облад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передаваемой точкой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чить других, вам необходима методи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обу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75400" y="285840"/>
            <a:ext cx="608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 ЛИДЕ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ТОЧКА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1560" y="1644480"/>
            <a:ext cx="6587640" cy="4405320"/>
            <a:chOff x="1141560" y="1644480"/>
            <a:chExt cx="6587640" cy="4405320"/>
          </a:xfrm>
        </p:grpSpPr>
        <p:sp>
          <p:nvSpPr>
            <p:cNvPr id="332" name="Line 4"/>
            <p:cNvSpPr/>
            <p:nvPr/>
          </p:nvSpPr>
          <p:spPr>
            <a:xfrm>
              <a:off x="2473200" y="2857320"/>
              <a:ext cx="126576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754720" y="2400120"/>
              <a:ext cx="30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4794480" y="3009600"/>
              <a:ext cx="133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1141560" y="1644480"/>
              <a:ext cx="215496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3323160" y="4387680"/>
              <a:ext cx="2152440" cy="16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573880" y="1644480"/>
              <a:ext cx="215532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849320" y="2292120"/>
              <a:ext cx="90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Е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6097320" y="2292120"/>
              <a:ext cx="162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401280" y="4838400"/>
              <a:ext cx="2126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ИЯ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ШИ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77920" y="361800"/>
            <a:ext cx="810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642960" y="2374920"/>
            <a:ext cx="349560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97712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5216400" y="237492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48760" y="2933640"/>
            <a:ext cx="2808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» Electr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быть во всех сме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я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власть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номо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жные системы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нтроля являются ключ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реализации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ю является стабиль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казуемы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650560" y="2765520"/>
            <a:ext cx="292968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ажени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ое соблюдение процед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работка бюджета, 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ет с гарантией испол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ленный, методичный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ведению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ы скрываю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что не должно нар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знаки и качества лид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280"/>
            <a:ext cx="842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иск союзников и наличие последоват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об уме правителя первым делом судят по тому, каких людей он к себе приближает» (Н.Макиавелли). Рекомендации от У.Черчилл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авливать отношения задолго до того, как в них появляется потреб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кусируйтесь на многообразии: чем шире ваша база контактов, тем шире ваш диапазон влия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стема личных связей должна быть взаимовыгодна для все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90520" y="374760"/>
            <a:ext cx="801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В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r>
              <a:rPr b="1" lang="ru-RU" sz="2800" spc="-1" strike="noStrike">
                <a:solidFill>
                  <a:srgbClr val="000000"/>
                </a:solidFill>
                <a:latin typeface="Academ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18844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853920" y="245124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927000" y="2500200"/>
            <a:ext cx="34308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или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епить, закрыть или про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заться от старых, зрел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ов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иться на быстрорастущ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х вида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ь власть между отдел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рпоративным цен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лить каждому бизнес-направл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ть свою стратегию, подбир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бе персонал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3 глобальных видов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не 240 нену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ов прибылей и убы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146560" y="2451240"/>
            <a:ext cx="34941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072040" y="2484360"/>
            <a:ext cx="357192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овольствие бы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ее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 осознавайте налич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а и с уверенно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буйте новое, даже если есть шанс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вас постигнет неу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т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ищите правильный от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 не сл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стремитесь к тому, ч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удно достичь, иначе никог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узнаете, на что действи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ран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 желайте уничто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ия гра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73600" y="361800"/>
            <a:ext cx="758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НИЕ ИДЕЙ И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00040" y="1660680"/>
            <a:ext cx="835812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ффективные идеи и ценности должны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едующим кри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5840" y="3141720"/>
            <a:ext cx="885816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дополнять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ности должны быть четкими и ориентирова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н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передаваться с достаточной эн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049400" y="1916280"/>
            <a:ext cx="7016760" cy="3527280"/>
          </a:xfrm>
          <a:prstGeom prst="rect">
            <a:avLst/>
          </a:prstGeom>
          <a:solidFill>
            <a:srgbClr val="eaeaea"/>
          </a:solidFill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537920" y="2205000"/>
            <a:ext cx="661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ы четко формулируют круг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увязывают их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общают о них буквально каж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вершенствуют свои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77920" y="361800"/>
            <a:ext cx="73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ОБРАЩАЮТСЯ С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0800" y="374760"/>
            <a:ext cx="450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07240" y="981000"/>
            <a:ext cx="6912000" cy="45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деры передают ценности по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205000"/>
            <a:ext cx="942984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евого моделирования - каждое решение или действ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отражают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я ценностей в ясных, четких и понят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терм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я людям  возможности наблю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различных форм поведения и их влияния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ощрения борьбы с парадок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49240" y="1492200"/>
            <a:ext cx="7578720" cy="43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79360" y="399960"/>
            <a:ext cx="7107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ПРИВИВАЮТ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57160" y="1500120"/>
            <a:ext cx="743904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четко формулируют ценности - именно те, которые поддерживают бизнес-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ами воплощают эти ценности в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тивостоят невежеству по отношению к ценностям и сопротивлению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ересматривают ценности и обновляют их в случа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ое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десятилетие в литературе по менеджменту появилось понятие эмоциональный лидер и эмоциональный интеллек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995-2000 г.г. Д.Голма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авторы утверждают, что эмоциональная задача для лидера (руководителя) является «первичной, лучше даже сказать первостепенной, т.к. это не только основная, но и наиболее важная сторона лидер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ли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с какими лидерами люди предпочитают работать – скорее всего, они излучают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многом именно поэтому лидеры с высоким эмоциональным интеллектом привлекают талантливых люд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оборот, лидеры, которые несут в себе негативный заряд, - раздражительные, обидчивые, деспотичные и холодные – отталкивают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тренинги на развитие эмоционального лидер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интеллект (Э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и проанализировали 500 моделей развития лидерских навыков в международных комп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пределить какие способности обусловливают выдающиеся показатели работы организаций, все умения авторы сгруппировали в 3 категории: чисто специальные навыки (знание бухгалтерии, педагогики…), когнитивные способности (например аналитическое мышление), и черты, свидетельствующие о высоком ЭИ (самосознание и способность управлять отно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лось: в каждой организации есть свои особенности, тем не менее везде навыки ЭИ составляют подавляющее большинство важнейших отличительных черт лид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% в способностях, отличающих выдающихся лидеров от середнячков составляют навыки Э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Э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созн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эмоциональное самосознание, точная самооценка, уверенность в себе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обуздание эмоций, открытость, адаптивность, воля к победе, инициативность, оптимиз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циальная чутк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переживание, деловая осведомленность, предупредительность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равление отношения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воодушевление, влияние, помощь в самосовершенствовании, содействие изменениям, урегулирование конфликтов, командная работа и сотрудничеств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эффективно вести себя в критической ситуации чело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ен обладать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ы поведения в критической ситуации часто бывают неожи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критической ситуации часто требует от человека действий, противоречащих «здравому смысл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должен иметь мужество брать на себя непопуляр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02400" y="3160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ИДЕРСТВО В КРИТИЧЕСК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3640" y="404280"/>
            <a:ext cx="82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 Установление здоровых взаимоотнош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дчиненными расширяет возможности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 взаимодействуя с окружающими, можно даже влиять на тех, кому вы формально подчиняетесь. В результате у лидера появляется больше возможностей для смелых поступ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мение вдохновля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ает эффективного лидера от неэффективного: «Если вы хотите построить корабль, не стоит созывать людей идти в лес, валить деревья, распиливать их, соединяя полученные доски. Вместо этого их нужно просто научить мечтать о море» (А.де Сент-Экзюпер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и перем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ство – это способность и умение оказывать на людей такое влияние, которое позволяет им достигать больших результатов, выйти за рамки обычного и главное, что это они делают с желанием и с ощущением совместно достигнутого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ы нужны, чтобы управлять переменами. Чтобы просто управлять процессом, нужны просто грамотные менедж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менений – это зона постоянного дискомфорта, потому что никто не знает, что ждет впереди, поэтому лидерство – это ещё и высокая ответственность и слож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кр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2072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Что такое – работа в </a:t>
            </a:r>
            <a:r>
              <a:rPr b="1" lang="ru-RU" sz="3600" spc="-1" strike="noStrike">
                <a:solidFill>
                  <a:srgbClr val="004c2b"/>
                </a:solidFill>
                <a:latin typeface="Arial"/>
                <a:ea typeface="Arial"/>
              </a:rPr>
              <a:t>анти-</a:t>
            </a: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команде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"/>
          <p:cNvGraphicFramePr/>
          <p:nvPr/>
        </p:nvGraphicFramePr>
        <p:xfrm>
          <a:off x="0" y="1357200"/>
          <a:ext cx="914400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зорганизация: причины, виды, преодолени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гожин А.И. 200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посвящена анализу уязвимых точек организ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оды противодействия дезорганизации основаны на разработанной автором теории синергичной организ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основана на исследовании и использовании 3 оргпотенциалов (синергиков, синкретиков и энтропик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проблема – постоянно меняющиеся противоречия между 3 оргпотенциа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ма трех потенц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ергики – такие цели, компетенции, ресурсы, которые создают в социально-ориентированной среде конструктивное напряжение, инновационность и проактивность, ориентацию на максимальные достижения с множественным эффекто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кретики – т.е. порядок и меры по его поддержанию, оказывающие охранительное действие на удержание целостности, постоянства, преемственности состояния, управляемо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нтропики – т.е. факторы ослабления или разрушения Порядка, деструктивного напряжения, рассогласования с последующими потерями, разнообразной дезорганизацие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сточником дезорганизации могут быть все тр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не есть сами люди, предметы, действия, а их свойства: способность играть некую роль в среде – это их энергетические векторы, воздействующие на среду каким-то из трех способ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71360" y="999720"/>
            <a:ext cx="71578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задача этой теории – поиск меры конструктивного напряжения между тремя оргпотенциалами с преобладанием синерг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ногда мы не видим смысла изменений свое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 проводили такой эксперимент: в большой аквариум, разделенный на 2 части стекл. перегородкой, поместили огромную щуку. Ей была отдана ½ аквариума; в другой плавало много мелких рыб. Щука предпринимала много неистовых попыток добраться до мелочи, однако каждый раз натыкалась на стекло. В конце концов щука сдалась, поняв, что добраться до рыб невозможно. Потом перегородку убрали из аквариума и рыбы перемешались. Но хотя рыбешки плавали вокруг щуки, она их не замечал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дерные аспекты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жчины чаще ориентируются на задачу, тогда как женщины уделяют больше внимания межличностным отношени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, что мужчины чаще принимают на себя продуманные риски и обладают высоким самоуважением, тогда как женщины проявляют больше мягкости и более эффективны, когда дело доходит до решения пробл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инств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е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мбинирует мужской и женский стили поведения в зависимости от обстоятель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пень, в которой женщинам-руководителям приходится руководствоваться «мужскими» или «женскими» моделями поведения, в значительной мере определяется тем, какова культура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компании преобладает «мужская» культура, а стиль руководства менеджера-женщины ближе к «женскому», то велик риск того, что она будет оценена как неэффективный руководитель, поскольку не будет соответствовать ожиданиям своего окру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ло не в том, какой стиль руководства лучше – «женский» или «мужско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о просто принимать во внимание данный аспект, поскольку он оказывает значительное влияние на эффективность взаимодействия внутри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женщинам-руководителям следует внимательно изучить свое окружение и понять, какова культура компа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я представление о том, какой стиль лидерства ближе для организации, можно и нужно корректировать свой собственны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стоящий лидер отличается от заурядного руководителя те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то он знает, куда идти, и умеет собрать под свои знамена нужных люд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еретянуть на свою сторону влиятельных сотру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с людьми нужно холить и лелеять, иначе они зачахнут. Это настоящая и довольно тяжел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мыслить стратеги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дняться «над полем» и обозреть ситуацию «с балкона» относится к одним из важнейших качеств лид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263160" y="279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387360" y="1125360"/>
            <a:ext cx="8542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оссийском обществе, в т.ч. в сфере образования, как определяющей отрасли инновационного развития страны, отчетливо ощущается потребность в лидерах, т.е. существует дефицит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проявляется в особых формах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основывается на специфических форм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стать долгосрочным лидером необходимо име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передаваему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кие навыки можно и нужно совершенствовать, чем мы с вами и занимаемся на этих кур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0920" y="333000"/>
            <a:ext cx="806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ел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ходящая от лидера, передается окружающим. Это одно из основных качеств эмоционального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рога к эффективному лидерству устла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бедами над собственными страх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доление которых является важнейшим этапом становления лид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прямую связанное с храбростью и также необходимое каждому лидеру –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веренность в собственных сил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(оборотная сторона уверенности – низкая рефлексивность, чувствительность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вестном смысле лидер устанавливает стандарт, на который равняются все ост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47:38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4-02-19T10:08:03Z</dcterms:modified>
  <cp:revision>90</cp:revision>
  <dc:subject/>
  <dc:title>Лидер и лидерство</dc:title>
</cp:coreProperties>
</file>