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025-A2AA-40E1-AF39-307C7D73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40B-302F-4AA8-8CE1-6D99C64B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09E-75BD-430F-88C1-E0F374E3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DAE-0ADF-45F2-AE98-78F1BEFE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7507-4108-47B5-82BC-91CFCFA5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7E43-0365-48AF-8AA9-F8C5A5BF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5D0B-E824-46B5-A155-C6B39750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AD80-5B77-4ECF-AB4C-39152EA3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7041-0B5B-43E7-8B16-8BF32B16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889E-EE21-4F10-967A-232BAD2E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6F8F-03F5-41DD-8DE7-B65B7AB1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51E-A9E1-4C66-9DD7-A2E1E22A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65D4-1ECB-4068-A928-CD2E8977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0639-2214-4BC8-A0B0-9CD4E11E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48B6-51F4-49E1-84BE-EB6B4C2B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494F-CDB8-4077-8D71-4C1D51F2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6980-C673-450E-9B8E-81AD4600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2F81E-FF71-4FB5-AA13-C69202AB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3BC28-0997-46A2-BBE6-DCE45FEA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9EC6B-2BD5-4A31-A93A-16A2D247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4686-6412-4104-A200-9DCC4B53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7DD39-A889-4F3B-B882-4242C33F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C12-EE0B-4ACD-8ED4-37FE5381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0969D-5811-491B-A89E-E9EE15C0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13560-DFC8-445D-9503-A51A6E62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682A-76A7-4DBD-94F3-E25B7059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6B92-BC26-476D-B727-16373706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4DE01-2B4A-42CE-8CB4-E2A4E76C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8B79-9E92-4BAE-8375-AF28DB6C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4AE90-B7EC-487A-B776-9E87ABDD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7DF-F106-42FB-8370-F097C8A4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EA2-7E00-467E-8904-F0F5B20A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888-ECD6-47B5-8731-23E90633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1CD-A974-4C1A-A13E-9A6CB335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F94-B1E1-4EED-A199-F88C6278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796-5361-4BE5-A09F-9E9FDDEE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0D42-9A9B-411C-8293-7E31E57999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F9D8-EABA-4CEC-ABD1-692689FE6E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FD53-AD5E-4B75-8D0A-04D4475588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53;&#1077;&#1089;&#1087;&#1077;&#1094;&#1080;&#1092;&#1080;&#1095;&#1077;&#1089;&#1082;&#1080;&#1077;_&#1072;&#1076;&#1072;&#1087;&#1090;&#1072;&#1094;&#1080;&#1086;&#1085;&#1085;&#1099;&#1077;_&#1088;&#1077;&#1072;&#1082;&#1094;&#1080;&#1080;_&#1086;&#1088;&#1075;&#1072;&#1085;&#1080;&#1079;&#1084;&#1072;" TargetMode="External"/><Relationship Id="rId3" Type="http://schemas.openxmlformats.org/officeDocument/2006/relationships/hyperlink" Target="http://ru.wikipedia.org/wiki/&#1050;&#1077;&#1085;&#1085;&#1086;&#1085;,_&#1059;&#1086;&#1083;&#1090;&#1077;&#1088;_&#1041;&#1088;&#1101;&#1076;&#1092;&#1086;&#1088;&#1076;" TargetMode="External"/><Relationship Id="rId4" Type="http://schemas.openxmlformats.org/officeDocument/2006/relationships/hyperlink" Target="http://ru.wikipedia.org/wiki/&#1043;&#1072;&#1085;&#1089;_&#1057;&#1077;&#1083;&#1100;&#1077;" TargetMode="External"/><Relationship Id="rId5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0;&#1084;&#1091;&#1089;" TargetMode="External"/><Relationship Id="rId2" Type="http://schemas.openxmlformats.org/officeDocument/2006/relationships/hyperlink" Target="http://ru.wikipedia.org/wiki/&#1053;&#1072;&#1076;&#1087;&#1086;&#1095;&#1077;&#1095;&#1085;&#1080;&#1082;&#1080;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фликт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42760" y="3886200"/>
            <a:ext cx="6286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йнутдинов Р.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цент каф. менеджмен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АУ ИРО, к.пс.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356760"/>
            <a:ext cx="8015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 общении с конфликтующими соблюдайте следующие прави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285920"/>
            <a:ext cx="878544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являйте выдержку; учитывая, что в конфликтах «прорывается» наболевшее, ведите дело с максимальным тактом и осторожностью, чтобы не дать вовлечь себя в конфликт или усугубить е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лушивайте обращающихся к вам, дайте высказаться до конца, полностью используя терапевтический эффект возможности выговориться, «поплакатьс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пешите с выводами и обещаниями, не «рубите с плеча»; только выслушав другую сторону, проверив все факты и утверждения, осмысливайте ситуацию и принимайте соответствующие ме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ереоценивайте степень своей информированности, помните, что эффективность коммуникации «снизу — вверх» (от подчиненных к руководителям) составляет в среднем всего лишь 1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мните, ч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ение людьми начинается с управления соб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уважая подчиненного, не добьешься уважения и с его стороны, а отсутствие уважения — это уже предконфликтная ситуац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что не ценится так дорого и не стоит так дешево, как вежливо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подчиненных, интерес к ним как к личностям совершенно необходимы для успешной работы с ними, индивидуальный подход — вот путь к взаимопониманию с подчиненны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таивание информации создает напряженность во взаимоотно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чиненные ожидают от руководител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я де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я наладить работ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ния перспектив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рошего заработ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жливого отношения к себ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а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каженное вос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ой причиной большинства конфликтов является искаженное восприятие чужих мотивов и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линная несовместим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аженное восприят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несовместим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29"/>
          <p:cNvSpPr/>
          <p:nvPr/>
        </p:nvSpPr>
        <p:spPr>
          <a:xfrm>
            <a:off x="1600200" y="3581280"/>
            <a:ext cx="2438280" cy="2286000"/>
          </a:xfrm>
          <a:custGeom>
            <a:avLst/>
            <a:gdLst>
              <a:gd name="textAreaLeft" fmla="*/ 356760 w 2438280"/>
              <a:gd name="textAreaRight" fmla="*/ 2081520 w 2438280"/>
              <a:gd name="textAreaTop" fmla="*/ 334800 h 2286000"/>
              <a:gd name="textAreaBottom" fmla="*/ 19512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648" y="10800"/>
                </a:moveTo>
                <a:cubicBezTo>
                  <a:pt x="8648" y="11989"/>
                  <a:pt x="9611" y="12952"/>
                  <a:pt x="10800" y="12952"/>
                </a:cubicBezTo>
                <a:cubicBezTo>
                  <a:pt x="11989" y="12952"/>
                  <a:pt x="12952" y="11989"/>
                  <a:pt x="12952" y="10800"/>
                </a:cubicBezTo>
                <a:cubicBezTo>
                  <a:pt x="12952" y="9611"/>
                  <a:pt x="11989" y="8648"/>
                  <a:pt x="10800" y="8648"/>
                </a:cubicBezTo>
                <a:cubicBezTo>
                  <a:pt x="9611" y="8648"/>
                  <a:pt x="8648" y="9611"/>
                  <a:pt x="8648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 flipH="1">
            <a:off x="2742840" y="335268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 flipH="1" flipV="1">
            <a:off x="3276360" y="5105520"/>
            <a:ext cx="1904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ни искажения воспри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убеждение в пользу самих себ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нденция к самооправд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даментальная ошибка атрибуци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риятие и фильтрация информации в соответствии с предубежден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птом группового мышления – восприятие своей группы как нравственной, а противников как злонамеренных (внутригрупповая предрасположеннос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гативные стереотипы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куренция шире понятия конфликт, т.к. не каждая конкуренция переходит в конфликт. (Если у сторон нет осведомленности о факте их соперничества и несовместимости их желаний, то не существует и конфлик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ином случае - соперничество – порождает агрессию и конфлик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е причины появления (эскалации) конфлик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ные группы следуют своим узкоэгоистическим интересам, но при этом вредят интересам всеобщ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иятие несправедлив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каженное вос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вни конфли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 Внешняя сре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143000" y="1905120"/>
            <a:ext cx="6858000" cy="365760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 Внешня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изацион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523880" y="2286000"/>
            <a:ext cx="6096240" cy="281952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 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жгруппов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981080" y="2743200"/>
            <a:ext cx="5257800" cy="190512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жличност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438280" y="3124080"/>
            <a:ext cx="441972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Индивиду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нутриличност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Типы и виды конфликтов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68360" y="1268280"/>
          <a:ext cx="8136000" cy="5426280"/>
        </p:xfrm>
        <a:graphic>
          <a:graphicData uri="http://schemas.openxmlformats.org/drawingml/2006/table">
            <a:tbl>
              <a:tblPr/>
              <a:tblGrid>
                <a:gridCol w="2287440"/>
                <a:gridCol w="1535040"/>
                <a:gridCol w="2349720"/>
                <a:gridCol w="196380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личн-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хочу:могу:над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личност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групп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нкурентны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группов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фликты интере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тгрупповая (направленная вовне) агрессия: свой - чуж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но-дел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ные конфли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ализованного жел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ая депривация (ожидания -сравнение с др. групп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о-праг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ые конфли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а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адекватной само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нические предрассудки, расовые к-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ш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нутриличностные конфли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рустрац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сихологический дискомфорт, связанный с невозможностью достижения поставленной перед человеком це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иалектика цел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двойственность, желание противоположног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жролевой конфлик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олевая неопредел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еясность относительно властных полномочий и т.п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фликт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ельный случай обострения противоречия – философская энциклопедия (1964 г.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удноразрешимое противоречие, связанное с острыми эмоциональными переживаниями – психологический словарь (1983 г.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80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пособы управления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нутриличностными  конфликта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борьбы с фрустрацией – овладение личностным целеполаганием (умение ставить трудные, но реалистичные цели, способность менять их без ущерба для психики, избегать непродуктивной реакции на фрустрацию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ролевой конфликт – снимается путем установления приоритетов и иерархии ро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пределенность роли – прояснение ожиданий других в отношении исполняемой ро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алектика цели – постановка промежуточных задач (целей), решение которых позволяет человеку постоянно ощущать движение к цели (здесь важно умело планировать врем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конфликтоустойчивости л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571760"/>
          <a:ext cx="8229600" cy="4643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моциональ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лев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сихомото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наватель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ацио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жличностные конфли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295280"/>
            <a:ext cx="8207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ндивидуальные различ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фицит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эффективные коммун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совместимость ролей (полномочия и ответственность распределены либо недостаточно четко, либ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речиво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ипы конфликтогенной лич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аровой кат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Снайпер/скрытый агрессо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Крикун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Гранат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Всезнай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ессимис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ассивно-агрессив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Сверхпокладист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Жалобщ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Молчун/тихон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ы взаимодействия</a:t>
            </a:r>
            <a:br>
              <a:rPr sz="32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«паровой каток»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лонение от встречи при незначительном предмете разноглас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моционально подготовиться к встреч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анее установить пределы уступо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нательно использовать психическую защит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ить свою роль как роль миротворц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ему спустить пар, спокойно выслушав е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араться привлечь его внима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ив его внимание, поторопиться высказать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ворить кратко и яс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знать справедливость тех претензий, которые действительно тако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иться к быстрому завершению разгов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дать волю эмоциям и после разгов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Снайпер/скрытый агресс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аружить снайпера, выведя его из засады из куст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росить напрямую, чем он недоволен, желательно публич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хранять хладнокров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твет на предъявленное вооружение сказать: «Ну и что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особы взаимо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Крикун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хранить вежлив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переходить на предложенный стиль разгово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явить понимание и сочувств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Гранат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ядить гранату выслушав его, успокои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ть ему возможность контро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особы взаимо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57120" y="928440"/>
            <a:ext cx="41385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Всезнай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читаться с его мнением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спорить с ним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настаивать на продолжении встреч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влечь пользу из его идей, сделав его значимой фигурой наставником, экспертом (если, конечно, он не липовый эруди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928800"/>
            <a:ext cx="41385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Пессимис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ытаться найти в его соображениях рациональное зерно, внимательно отнесясь к его довода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ему время на размыш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иться и даже утрировать те трудности, которые он види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едить пессимиста в негативных высказывания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делать пессимиста своим союзником, используя его как критика («красный карандаш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Пассивно-агрессивны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есть возможность, уходить от контак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рассчитывать на него в выполнении сложной рабо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инимать близко к сердцу его продел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оявлять внешне гнев и разочарование, к проявлению которого он как раз и стрем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иться, чтобы он точно сам записал, что от него ожидается в работе и сохранить копию его обязательств для последующего предъявл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тко обрисовывать последствия невыполнения им поставленных 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ролировать ход выполнения обещанного, не критиковать его пока он не сделал ничего плохого, не программировать его на невыполн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Сверхпокладисты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ему, что вы хотите правдивости с его сторо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ять реальность выполнения его обеща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очнять сро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ощрять высказывать сомнения в возможности реализации планов с учетом всех обстоятельст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ажать ему симпати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вать для него обстановку социального принятия, чтобы ему не было нужды добиваться вашего распол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642600"/>
            <a:ext cx="814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ряд ли среди взрослых людей найдется хотя бы один, который бы не попадал ни в одну конфликтную ситуацию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реди конфликтологов даже закрепилась шутка: Если в вашей жизни нет конфликтов, проверьте, есть ли у вас пульс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нфликтолога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ктикам хорошо известна следующая закономерность: участники конфликта не хотят признать, что между ними конфликт, чаще всего они называют это разногласиями, расхождением во мнениях и пр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днако, наши желания и объективная реальность не всегда совпадают между собой. И необходимо признать, что состояние конфликта так же естественно для человеческого взаимодействия, как и ми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Жалобщ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слушать, возвращая ему ощущение собственной значимости и давая возможность выразить свои чувств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ть понять, что вы поняли и оценили проблем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и в коем случае не соглашаться с ним, провоцируя на проявление внимания к его трудностям, перевести разговор на другую тем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казаться от попыток доказать его неправот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еключить его внимание на варианты решения проблемы, т.е. помочь ему понять, что надо двигаться дальш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сить излагать проблему кратко и по существ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Молчун/тихон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одоление замкнутости - ключ к разрешению конфликт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вскрытия сути проблемы необходимо заставить человека высказаться, задавая вопросы, на которые нельзя было бы получить простые односложные ответы да/нет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емонстрировать сочувственное отношение при получении любого ответ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ть ему время выговориться и отнестись к этому с благодарностью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хранять чувство меры, не настаивать на продолжении разговора, независимо от результа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рудный партнер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ден не только нам, но и самому себе, поэтому есть вероятность, что, выведя его из ситуации трудности в ситуацию самопринятия, мы сможем с ним адекватно обща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е принципы общения с трудными людь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ть, что человек труден в общении и определить его тип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йти от влияния этого человека, его точки зрения, мироощущения, сохранять спокойствие, нейтралите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редмет важен и значим и нельзя уклониться от общения с таким человеком, надо постараться выявить причины труд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раться найти способ удовлетворения его скрытых интересов и нужд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ть совместный подход к разрешению конфликтов, который начнет вырисовываться после соотнесения этого человека с определенным типом, его нейтрализации и взятия под контро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жгрупповой конфли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онкуренция за получение ограниченных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заимозависимость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определенность полномоч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борьба за стат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предупреждения конфли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85560"/>
            <a:ext cx="6181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учшение условий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мотное распределение вознаграж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людение правил внутреннего распоряд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ование традициям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роение системы нематериаль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иторинг конфликтных ситуаций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" name="Object 2"/>
          <p:cNvGraphicFramePr/>
          <p:nvPr/>
        </p:nvGraphicFramePr>
        <p:xfrm>
          <a:off x="7236000" y="3500280"/>
          <a:ext cx="151272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3500280"/>
                    <a:ext cx="151272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14256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ы поддержания благоприятной обстановки в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ие в официальном документе ценностей корпоративной культуры ОУ, которые разделяют все сотрудн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ка общих задач для всей организации, для каждого подразделения и сотрудн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ткое описание должностных функций и требований к сотрудник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оценки персон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тренингов построения команды, коммуникативных тренингов, например, бесконфликтного общ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корпоративных мероприятий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2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дборе персонала учитыва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ально-психологическую совместимость с членами коллект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четание профессионального опы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четание общности интересов, потребностей, ценностных ориент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работать в команде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ичные ошибки при разрешении конфли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714680"/>
            <a:ext cx="76932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ытка разрешить конфликт без выяснения его истинных причин, т. е. без проведения диагност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временное «замораживание» конфлик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верно определены предмет конфликта и оппон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аздывание с принятием м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мплексность, односторонность мер – силовых или дипломатическ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ачный выбор посредника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2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становлено, что когда начальник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покойно, не повышая голоса, убедительно, тактично и с глазу на глаз высказывает претензии подчинённым, </a:t>
            </a:r>
            <a:r>
              <a:rPr b="0" lang="ru-RU" sz="2100" spc="-1" strike="noStrike">
                <a:solidFill>
                  <a:srgbClr val="00b050"/>
                </a:solidFill>
                <a:latin typeface="Calibri"/>
              </a:rPr>
              <a:t>то у 83 % работников дисциплина, результативность работы возрастают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, 10 % работников продолжают вести себя по-прежнему, а 7 % раскритикованных трудятся ещё с меньшим усердие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ритикует в таком же тоне подчинённых в присутствии других сотрудников, улучшение дела наблюдается </a:t>
            </a:r>
            <a:r>
              <a:rPr b="0" lang="ru-RU" sz="2100" spc="-1" strike="noStrike">
                <a:solidFill>
                  <a:srgbClr val="00b050"/>
                </a:solidFill>
                <a:latin typeface="Calibri"/>
              </a:rPr>
              <a:t>только у 40 %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ботников, никаких заметных изменений не происходит у 44 %, а у 16 % - дело не ладится хуже прежнего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аёт волю своим эмоциям, пребывает в возбуждении и гневе, обрушивает критику в резкой форме, громко, подчас насмешливо, а то и грубо, </a:t>
            </a:r>
            <a:r>
              <a:rPr b="0" lang="ru-RU" sz="2100" spc="-1" strike="noStrike">
                <a:solidFill>
                  <a:srgbClr val="ff0000"/>
                </a:solidFill>
                <a:latin typeface="Calibri"/>
              </a:rPr>
              <a:t>улучшение дела достигается лишь у 7 % работников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, 24 % оказываются индифферентными, а у 65 % наступает дальнейший спад деловой активност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Конструктивные функции конфликто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ядка напряж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муникативно-информационная и связующая функции, в ходе осуществления которых люди могут лучше узнать друг друга и сблизи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ижущая сила и стимулятор изме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ие формированию социального равнове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крытие противоположных интересов  и работа с н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ие в переоценке ценностей и нор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иление лоя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ганизационные конфли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ип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труктурный конфликт – организационная структура мешает реализации миссии (много замов у директора, функции пересекаютс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функциональный конфликт – несбалансированы функции подраздел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онфликт между линейным и штабным персоналом (ЛМ и ПМ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онфликт между формальной и неформальной организац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ие межгрупповыми конфликтами (понят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асилитаторст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третья сторона обеспечивает лишь процесс взаимодействия конфликтующих сторон, но не отвечает за результа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редничест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осредник специально приглашается, чтобы помочь сторонам договориться. Здесь могут быть предварительные обсуждения с представителями конфликтующих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рбитраж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решение в пользу одного из сторон («кто прав и виноват»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13880" y="642600"/>
            <a:ext cx="80010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хематично течение конфликта можно отразить следующим образ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ачальная фаз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а подъема (1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ик конфликта (2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а спада (3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зы могут повторяться циклически: 1-2-3 1-2-3 1-2-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озможность разрешения конфлик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а начальной фазе - 92%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е подъема - 46%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ике конфликта - 5%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е спада - 2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5 стратегий (методов) поведения в конфликтных ситуациях (по К. Томасу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ход, избегание, как отсутствие стремления как к соревнованию, так и к приспособле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пособление как принесение в жертву собственных интересов ради друг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куренция (подавление ) как стремление добиться удовлетворения своих интересов в ущерб друго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ромис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трудничество как поиск альтернативы, удовлетворяющей интересы обеих сторо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ания: преимущественная ориентация на интересы: свои или друг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214200" y="428760"/>
            <a:ext cx="8072640" cy="6214680"/>
            <a:chOff x="214200" y="428760"/>
            <a:chExt cx="8072640" cy="6214680"/>
          </a:xfrm>
        </p:grpSpPr>
        <p:grpSp>
          <p:nvGrpSpPr>
            <p:cNvPr id="223" name="Group 3"/>
            <p:cNvGrpSpPr/>
            <p:nvPr/>
          </p:nvGrpSpPr>
          <p:grpSpPr>
            <a:xfrm>
              <a:off x="214200" y="428760"/>
              <a:ext cx="8072640" cy="6214680"/>
              <a:chOff x="214200" y="428760"/>
              <a:chExt cx="8072640" cy="6214680"/>
            </a:xfrm>
          </p:grpSpPr>
          <p:grpSp>
            <p:nvGrpSpPr>
              <p:cNvPr id="224" name="Group 4"/>
              <p:cNvGrpSpPr/>
              <p:nvPr/>
            </p:nvGrpSpPr>
            <p:grpSpPr>
              <a:xfrm>
                <a:off x="1571400" y="5687640"/>
                <a:ext cx="6403680" cy="955800"/>
                <a:chOff x="1571400" y="5687640"/>
                <a:chExt cx="6403680" cy="955800"/>
              </a:xfrm>
            </p:grpSpPr>
            <p:sp>
              <p:nvSpPr>
                <p:cNvPr id="225" name="AutoShape 5"/>
                <p:cNvSpPr/>
                <p:nvPr/>
              </p:nvSpPr>
              <p:spPr>
                <a:xfrm>
                  <a:off x="1571400" y="5687640"/>
                  <a:ext cx="6403680" cy="95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Низкий                    Интерес к другим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	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         Высоки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"/>
                <p:cNvSpPr/>
                <p:nvPr/>
              </p:nvSpPr>
              <p:spPr>
                <a:xfrm>
                  <a:off x="5573520" y="5926320"/>
                  <a:ext cx="6001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"/>
                <p:cNvSpPr/>
                <p:nvPr/>
              </p:nvSpPr>
              <p:spPr>
                <a:xfrm flipH="1">
                  <a:off x="2771640" y="5926320"/>
                  <a:ext cx="8002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8"/>
              <p:cNvGrpSpPr/>
              <p:nvPr/>
            </p:nvGrpSpPr>
            <p:grpSpPr>
              <a:xfrm>
                <a:off x="214200" y="428760"/>
                <a:ext cx="1286280" cy="5975640"/>
                <a:chOff x="214200" y="428760"/>
                <a:chExt cx="1286280" cy="5975640"/>
              </a:xfrm>
            </p:grpSpPr>
            <p:sp>
              <p:nvSpPr>
                <p:cNvPr id="229" name="AutoShape 9"/>
                <p:cNvSpPr/>
                <p:nvPr/>
              </p:nvSpPr>
              <p:spPr>
                <a:xfrm>
                  <a:off x="214200" y="428760"/>
                  <a:ext cx="1286280" cy="5975640"/>
                </a:xfrm>
                <a:custGeom>
                  <a:avLst/>
                  <a:gdLst>
                    <a:gd name="textAreaLeft" fmla="*/ 62640 w 1286280"/>
                    <a:gd name="textAreaRight" fmla="*/ 1223640 w 1286280"/>
                    <a:gd name="textAreaTop" fmla="*/ 62640 h 5975640"/>
                    <a:gd name="textAreaBottom" fmla="*/ 5913000 h 5975640"/>
                  </a:gdLst>
                  <a:ahLst/>
                  <a:rect l="textAreaLeft" t="textAreaTop" r="textAreaRight" b="textAreaBottom"/>
                  <a:pathLst>
                    <a:path w="21600" h="100325">
                      <a:moveTo>
                        <a:pt x="3600" y="0"/>
                      </a:moveTo>
                      <a:arcTo wR="3600" hR="3600" stAng="16200000" swAng="-5400000"/>
                      <a:lnTo>
                        <a:pt x="0" y="96725"/>
                      </a:lnTo>
                      <a:arcTo wR="3600" hR="3600" stAng="10800000" swAng="-5400000"/>
                      <a:lnTo>
                        <a:pt x="18000" y="10032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Высокий 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Интерес к себ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Низки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10"/>
                <p:cNvSpPr/>
                <p:nvPr/>
              </p:nvSpPr>
              <p:spPr>
                <a:xfrm>
                  <a:off x="971280" y="4492080"/>
                  <a:ext cx="0" cy="716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11"/>
                <p:cNvSpPr/>
                <p:nvPr/>
              </p:nvSpPr>
              <p:spPr>
                <a:xfrm flipV="1">
                  <a:off x="971280" y="1862640"/>
                  <a:ext cx="0" cy="477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12"/>
              <p:cNvGrpSpPr/>
              <p:nvPr/>
            </p:nvGrpSpPr>
            <p:grpSpPr>
              <a:xfrm>
                <a:off x="1171440" y="1384560"/>
                <a:ext cx="7115400" cy="4217760"/>
                <a:chOff x="1171440" y="1384560"/>
                <a:chExt cx="7115400" cy="4217760"/>
              </a:xfrm>
            </p:grpSpPr>
            <p:sp>
              <p:nvSpPr>
                <p:cNvPr id="233" name="AutoShape 13"/>
                <p:cNvSpPr/>
                <p:nvPr/>
              </p:nvSpPr>
              <p:spPr>
                <a:xfrm>
                  <a:off x="1171440" y="1384560"/>
                  <a:ext cx="7115400" cy="420696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fff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Конкуренция/подавление</a:t>
                  </a:r>
                  <a:r>
                    <a:rPr b="0" lang="ru-RU" sz="11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	</a:t>
                  </a:r>
                  <a:r>
                    <a:rPr b="1" lang="ru-RU" sz="22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Сотрудничество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Уклонение/</a:t>
                  </a:r>
                  <a:br>
                    <a:rPr sz="1100"/>
                  </a:b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Уход от конфликта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                  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Приспособление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4"/>
                <p:cNvSpPr/>
                <p:nvPr/>
              </p:nvSpPr>
              <p:spPr>
                <a:xfrm>
                  <a:off x="4728960" y="1395360"/>
                  <a:ext cx="0" cy="420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5"/>
                <p:cNvSpPr/>
                <p:nvPr/>
              </p:nvSpPr>
              <p:spPr>
                <a:xfrm flipV="1">
                  <a:off x="1189080" y="3476880"/>
                  <a:ext cx="7097400" cy="2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16"/>
                <p:cNvSpPr/>
                <p:nvPr/>
              </p:nvSpPr>
              <p:spPr>
                <a:xfrm>
                  <a:off x="3163680" y="3094920"/>
                  <a:ext cx="3112920" cy="892080"/>
                </a:xfrm>
                <a:prstGeom prst="roundRect">
                  <a:avLst>
                    <a:gd name="adj" fmla="val 16667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Компромис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7" name="Line 17"/>
            <p:cNvSpPr/>
            <p:nvPr/>
          </p:nvSpPr>
          <p:spPr>
            <a:xfrm>
              <a:off x="5786280" y="5926680"/>
              <a:ext cx="92808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H="1">
              <a:off x="2772000" y="592668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9"/>
            <p:cNvSpPr/>
            <p:nvPr/>
          </p:nvSpPr>
          <p:spPr>
            <a:xfrm flipV="1">
              <a:off x="971280" y="186264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>
              <a:off x="971280" y="4492440"/>
              <a:ext cx="0" cy="71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Уход (уклонение). Реакции ух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06760" y="1599840"/>
            <a:ext cx="5027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ч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иженный ух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аенный гне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пресс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норирование обидч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кие замечания по «их»поводу и за «их» спин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ход на чисто деловые отнош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ый отказ от дружеских или деловых отношений с провинившейся сторо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447920"/>
            <a:ext cx="289548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аказываете 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ы кого-то своим уход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28760" y="642600"/>
            <a:ext cx="81439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сознательный выбор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тегии уход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шь откладывает проблему, решение которой в данный момент времени неприятно или невозможно для субъекта: Когда гордость настаивает, память отступает (Ф.Ницш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отметить, что доминирование использования данной стратегии поведения в конфликте даже в ее рациональном варианте ведет к изоляции индивида, к неверию в свои силы, снижению самооце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Приспособление (сглаживание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ьезного конфликт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06760" y="1599840"/>
            <a:ext cx="5027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аете вид будто все в поряд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олжаете действовать как будто ничего не произошл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итесь с происходящим, дабы не нарушать пок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гаете себя за раздражитель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ьзуетесь обаянием для достижения нужной цел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лчите, а потом начинаете вынашивать планы ме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авляете все Ваши планы ме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160" y="1523520"/>
            <a:ext cx="28954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ир любой ценой может быть опас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определяющие эффективность использования данной стратег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не является существенной и значимой для субъект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понент имеет существенно более высокий ранг, потенциал, статус и т.д. (значительное неравенство конфликтантов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окая значимость межличностных отношений по сравнению с предметом разноглас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мление оказать поддержку оппоненту, при получении удовлетворения от своего добросердеч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енная мера, которая не разрешает, а лишь замораживает конфликт с целью предупреждения разрушительного столкнов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354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ины конструктивных конфли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785520"/>
            <a:ext cx="885816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ычно это недостатки в организации труда и управления. Перечислим те из них, которые наиболее часто приводят к конфликт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вольство оплатой тру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благоприятные условия труда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ки в организации тру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оответствие прав и обязаннос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удобный график рабо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еспеченность заданий ресурс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четкости в распределении обязанност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зкий уровень трудовой и исполнительской дисципли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фликтогенные (т. е. способствующие возникновению конфликтов) организационные структуры. Например, директора школ могут получать ежедневно по 5–10 указаний или требований от различных служб . Выполнить все эти требования бывает физически невозможно, неисполнение же указаний приводит к конфлик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тиворечивые указания или цели надзорных орган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юсы и минусы страте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уступок демонстрирует добрую волю приспосабливающейся стороны, ведет к сбережению ресурсов, снятию напряжения, сохранению отношений, к мирному сосуществованию различных систем. Уступки демонстрируют добрую волю и служат позитивной моделью для оппон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чность или группа, имеющая в своем конфликтном репертуаре только эту стратегию, становится пассивной, не получает полной самореализации, теряет в самооценке, не достигая желаемого и систематически не удовлетворяя свои интере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Подавление (выиграть - проиграть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506760" y="1213920"/>
            <a:ext cx="502776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иться доказать, что оппонент не пра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уться, пока они не передумаю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кричать и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ить физическое насил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ринимать явного отказ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ть безоговорочного послуш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хитрить и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звать на помощь союзников для поддер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ть, чтобы Ваш оппонент согласился с вами ради сохранения отно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3160" y="1523520"/>
            <a:ext cx="28954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стерегайтесь побежден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люсы и мину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к в межличностных отношениях, так и в социальных конфликтах тактики, использующие применение насилия, способствуют нарастанию деструктивных последств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перничество позволяет добиваться необходимых результатов, стимулирует развитие и способствует прогрессу. В ряде ситуаций наличие соперничества является их движущей силой, сутью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нная стратегия хороша, когда оппоненты находятся в конкурентной ситуации: конкурс, трудоустройство на вакансию, спортивные соревнован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28760" y="785880"/>
            <a:ext cx="814392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ако же, если личность привыкает к использованию только подобных методов решения проблем, она становится для окружения конфликтной, трудной для общения, что приводит к постепенной изоляции, появлению сначала небольших, а со временем неразрешимых трудностей при решении вопросов, связанных с вовлеченностью других люде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оме того, личность, постоянно борющаяся, теряет со временем свои жизненные ресурсы, что ведет к преждевременному истощению, нездоровью, психическим срыва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перничество, как правило, нарушает отношения между людьми, причем не только между непосредственными конкурентам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аланс сил может измениться, и тогда бывшие проигравшие будут стараться не поддержать, а утопить прежнего победите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Компромис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7240" y="1599840"/>
            <a:ext cx="7847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ивать дружеские отнош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ать справедливого исхо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ить предмет желаний поровн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бегать самовластия и напоминания о Вашем первенств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учить что-то и для себ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бегать столкновения вообщ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упать немного ради поддержки отнош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28760" y="713880"/>
            <a:ext cx="82152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ость к компромиссу - признак реализма и высокой культуры общения, т.е. качество, особо ценимое в управленческой практи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ромисс предполагает уважительное отношение к позиции и интересам друг друга. Стремясь к компромиссу, каждая сторона придерживается в своих делах определенных прави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ромисс не служит способом полного разрешения конфликта, однако, он является действенным методом его регул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Выиграть/выиграть – сотрудничество (решение пробле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ход выиграть/выиграть требует, чтобы Вы подробнее изучили ситуацию и варианты её разрешения, перед тем как думать об окончательном реш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зможность сотрудничества появляется в тех случаях, когд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85840" y="1213920"/>
            <a:ext cx="8400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а, вызвавшая разногласия, представляется важной для конфликтующих сторон и каждая из них не намерена уклоняться от ее совместного реш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фликтующие стороны имеют примерно равный ранг, потенциал или статус или вовсе не обращают внимания на разницу в своих положения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ая сторона желает добровольно и на равноправной основе обсудить спорные вопросы, с тем, чтобы, в конечном счете, прийти к полному согласию относительно взаимовыгодного решения значимой для всех проблем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роны, вовлеченные в конфликт, поступают как партнеры, доверяют друг другу, считаются с потребностями, опасениями и предпочтениями оппонен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ются необходимые ресурсы (в том числе временные) для разрешения конфли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сегда ли возможна данная стратег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85840" y="1000080"/>
            <a:ext cx="8400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трудничество возможно лишь в том случае, когда сложный предмет конфликта допускает маневр интересов противоборствующих сторон, обеспечивая их сосуществование в рамках возникшей проблемы и развитие событий в благоприятном направле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м, где выигрывают обе стороны, люди более склонны к исполнению решен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данная стратегия может использоваться лишь в случае готовности обеих сторон идти на сближение, в чем и состоит главная труднос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вые шаги по преодолению конфликта особенно не просты необходимо преодолеть ряд барьеров: агрессию, страх, недоверие, опасения, затрудняющие адекватное восприятие конфликтной ситу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ее реализации необходима следующая последовательность действ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яснение потребностей и интересов своих и другой сторон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ить взаимодополняющие моменты в требованиях сторон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ти новые варианты решений, учитывающие потребности обеих сторон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ить партнерство, а не противостоя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Деструктивные функции конфликто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удовлетворенность, снижение производительности, текучесть кад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эффективное сотрудничество между конфликтующими сторон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ение о другой стороне как о вра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раничение и полное сворачивание взаимодейст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ещение акцентов с решения проблемы на борьбу и побе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сть подготовки к новому витку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840" y="356760"/>
            <a:ext cx="8501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ой путь разрешения конфликта очень не прост. Он требует времени, энергии, терпения, затрат других ресурсов, а также высокой конфликтологической компетентности обеих сторон в равной мер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рнем слова сотрудничество в русском языке является труд (причем совместный!). Это отражает реальную необходимость приложения интеллектуальных, эмоциональных и других усилий для его осуществле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о зато и награда при использовании этого пути очевидна: решение является окончательным, партнерские отношения не только не разрушены, но и укреплены совместным выходом из трудной ситуаци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единственный способ выхода из конфликта без урона для обеих сторо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285480"/>
            <a:ext cx="82868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существует ни одной стратегии, однозначно приемлемой в любой ситу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стратегия хорошо срабатывает в конкретных обстоятельствах, определенных выше как условия эффективности стиля повед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инство людей склонны употреблять привычные сценарии конфликтного взаимодействия, имея в репертуаре одну-две стратегии поведения, тогда как высокая конфликтологическая компетентность состоит в том, чтобы уметь варьировать ими и адекватно осуществлять выбор необходимой для данных отношений именно здесь и сейч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Факторы выбора стратеги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ржание предмета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тивы учас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рытые и явные интересы конфликтующ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ства и реальные возможности участников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я о состоянии д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остные особенности учас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сутствие лиц, не участвующих в конфликте, но занимающих определенную позицию по отношению к нему   к его участник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ы предупреждения конфлик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упреждение причин через анализ конфликтов и прогнозирование их возникнов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действие на цели и мотивы, выдвижение контрмотивов, блокирующие первоначальные агрессивные намерения конфликтующих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ание сотрудничества (далее метод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4419720" y="5105520"/>
            <a:ext cx="609480" cy="990360"/>
          </a:xfrm>
          <a:prstGeom prst="downArrow">
            <a:avLst>
              <a:gd name="adj1" fmla="val 50000"/>
              <a:gd name="adj2" fmla="val 406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ы предупреждения конфлик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итуализация отношений (формализация отношений через их структуризацию, распределение ролей, определение показателей оценки и моделей  поведения, которые затрудняют конфронтац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нятие нормативных механизмов, регулирующих конфликты с помощью правовых, нравственных, организационных и др. нор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Юмор («Иногда надо рассмешить людей, чтобы отвлечь их от желания Вас повесить» Бернард Шо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мер нормативных механизмов (американская ассоциация судей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23640" y="1219320"/>
            <a:ext cx="83516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сьменный обмен мнениями в случае возникновения разноглас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самого начала разногласий привлекать помощников и консульта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любые попытки примир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ить достаточно высокий уровень лиц, ведущих перегово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ить практику многоэтапных перегов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лучае неудачи на переговорах, определить арбитра и порядок рассмотрения сп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основных элементов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фликтной ситу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 конфли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 учас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ческие кор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вень напряж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дии конфли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тадии конфликт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посылка, возникновение и развитие конфликтной ситу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ние конфликта хотя бы одним из участников, сопровождающееся эмоциональными реакциями на случившееся, изменением настроения, ограничением контактов с оппонентом, а также критическими и недоброжелательными заявлениями в его адрес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ло конфликтного взаимодействия, при котором одна  из сторон начинает открыто действовать, выражая при этом претензии, стремясь добиться своего и, возможно, нанести ущерб «противнику». Другой участник конфликта предпринимает ответные активные 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685800" y="4724280"/>
            <a:ext cx="304920" cy="1219320"/>
          </a:xfrm>
          <a:prstGeom prst="downArrow">
            <a:avLst>
              <a:gd name="adj1" fmla="val 50000"/>
              <a:gd name="adj2" fmla="val 999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тадии конфликт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открытого конфликта, когда обеими сторонами осознаются суть, предмет конфликта и собственные интересы в нем, выдвигаются требования и обозначаются позиции противостоящих. Эта стадия может иметь несколько фаз, сопровождаться спадами и обострен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ешение конфли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Типы стратегий поведения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(по Х. Киндлеру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хранение («не раскачивай лодку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глаживание («подчеркивай положительно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инирование («отец знает лучш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новление правил («играть по правилам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уществование («вы пойдете одной дорогой, а я – другой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рговля («ты – мне, я – теб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чинение («плыви по течению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держивающая свобода («я поддерживаю ваше право на ошибку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трудничество («одна голова хорошо, а две – лучш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 считает, что существует связь между стратегиями и личной вовлеченностью в конфликт, а также гибк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83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ины деструктивных конфли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труктивные конфликты порождаются чаще всего субъективными причинами, к которым относятся неправильные действ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ите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чиненн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уководителя и подчинен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авила общения в конфликт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создать атмосферу дове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формировать направленность на сотрудничество, в котором будут учтены интересы обеих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концентрировать свое внимание на говорящем и его слов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уточнить  и проверить, правильно ли вы поняли поступившую информацию (не только в целом, но и в деталях); сообщить другому в перефразированном виде смысл поступивше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здание условий разрешения конфлик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кратить активное взаимодействие, активные нападки друг на д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стать видеть в оппоненте вра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ивно обсудить проблему, постараться найти общие или близкие по содержанию точки соприкоснов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ь, что при проведении переговоров необходимо учитывать должностной статус друг д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хника проведения переговор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4582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жайте искреннее желание прекратить конфли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бщите, что обязательно будут сделаны шаги к примирению, поясните, что, как  и когда конкретно будет сдел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пременно выполняйте свои обещ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уждайте оппонента к взаимным уступкам, но не требуйте их от него в качестве условия выполнения своих обещ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ые уступки можно осуществлять в течение достаточно длительного времени и даже в том случае, если другая сторона не  отвечает взаимностью. При этом они не должны приводить  к уязвимости или потерям с Вашей стор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762120" y="1341360"/>
            <a:ext cx="73911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тресс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от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анг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stre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— давление, нажим, напор; гнёт; нагрузка; напряжение) —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неспецифическая (общая) реакция орган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 воздействие (физическое или психологическое), нарушающее его гомеост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Уолтер Кэнн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 Ганс Сель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936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есс и 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нно универсальность сопровождающей стресс «триады изменений» — уменьшение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иму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величение коры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дпочечник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появление кровоизлияний и даже язв в слизистой ЖКТ — позволила Г. Селье высказать гипотезу об общем адаптационном синдроме (ОАС), получившим впоследствии название «стресс». Работа была опубликована в 1936 году в журнале «Nature». Многолетние исследования Г. Селье и его последователей во всем мире подтверждают, что стресс является неспецифической основой многих заболева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762120" y="1295280"/>
            <a:ext cx="7391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акторы напряжения (стресса) на рабочем 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физические условия (освещенность, размер помещения, уединенность, оборудование р/м, доступность необходимых ресурсов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поездки (на работу и с работы, связанные с выполнением работы, наличие необходимых ресурсов для поездки, бюджет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характеристики самого работы (характер выполняемой работы, перегрузка или недогрузка, характерные требования со стороны работы, область принятия решений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роли (четкие или расплывчатые границы ролей, совместимые или конфликтующие ожидания, связанные с различными ролями, ясность служебных инструкций, ясность или неопределенность областей ответственност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762120" y="1295280"/>
            <a:ext cx="7391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акторы напряжения (стресса) на рабочем 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руководство (как нами руководят, насколько доступен руководитель, его уровень стресс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вознаграждения (оплата труда, оценка труда, нематериальное вознаграждение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взаимоотношения (с коллегами, начальниками, подчиненными, с людьми, от которых зависит Ваша карьера и в которых вы нуждаетес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интересы в отношении работы (уровень вовлеченности, удовлетворенность работой, разнообразие и темы работы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преданность целям организации (вера в «бизнес», наличие конфликтов с системой ценностей или применяемым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корпоративная культура (ожидаемое поведение, интенсивность коммуникаций и консультаций, стиль менеджмента, внутрифирменная политика и властные отношения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500040" y="1071720"/>
            <a:ext cx="800100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акторы напряжения (стресса) на рабочем 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карьерное продвижение (устойчивые амбиции, степень влиятельности, продвижение по службе, возможность потерять работ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индивидуальные характеристики (тип личности, способность адаптироваться к изменениям, владение навыками работы, стратегии поведения в конфликтных ситуациях, способность работать в коллективе, способность занимать определенное место в иерархии, желание учиться и изменяться, стрессоустойчив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равновесие между профессиональной и личной жизнью (противоречивые требования, специфика одной стороны жизни мешает другой, временные огранич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изменения (на работе, в личной жизни, в общест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Источники и динамика стресса на рабочем мест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467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ивая стре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вод по кривой стресса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умело поддерживать здоровый стре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876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равильные действия руко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сожалению, их достаточно много. Можно выделить три направл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служебной этик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проявление грубости, высокомерия, неуважительного отношения к подчиненным; невыполнение обещаний;  нетерпимость к мнениям, отличным от собственного; зажим критики; ущемление прав подчиненных; злоупотребление положением начальника; поручение исполнителю «через голову» непосредственного руководителя; утаивание информации; критика, принижающая достоинство человека; сознательное провоцирование конфликта между подчиненными — управление по принципу «разделяй и властвуй»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трудового законодательств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речь идет о нарушениях как духа, так и буквы законодательства о труде и о попытке действовать самовластно, не считаясь с законам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несправедливая оценка руководителем подчиненных и результатов их труд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атегии борьбы со стресс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09480" y="1600200"/>
          <a:ext cx="7925040" cy="4373640"/>
        </p:xfrm>
        <a:graphic>
          <a:graphicData uri="http://schemas.openxmlformats.org/drawingml/2006/table">
            <a:tbl>
              <a:tblPr/>
              <a:tblGrid>
                <a:gridCol w="1981440"/>
                <a:gridCol w="5943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стре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устра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ивное использование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личностные конфли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чество. Навыки межличностного об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туационные фа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проектирование р/м. Анализ системы организации труда (уровень требований к скорости выполнения и объему работы, уровень контроля за работниками, интеллектуальный уровень работ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ние неприят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целей (планиров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тика «малых побе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Стратегии поведения в стрессе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09480" y="1447920"/>
          <a:ext cx="8229600" cy="4816440"/>
        </p:xfrm>
        <a:graphic>
          <a:graphicData uri="http://schemas.openxmlformats.org/drawingml/2006/table">
            <a:tbl>
              <a:tblPr/>
              <a:tblGrid>
                <a:gridCol w="1676520"/>
                <a:gridCol w="1703520"/>
                <a:gridCol w="2317680"/>
                <a:gridCol w="253188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страте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создания сре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предуп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анение факторов, вызывающих стре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способов сопротивления стрессу (планирование времен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ка временных механизмов работы в условиях стресса (самоанализ, аутсорсинг и т.п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рем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коврем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среды (круг общения, се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актив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е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ельный 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 дл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едленный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Правила борьбы с «выгоранием»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асные последствия выгор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ом выгорания сотрудников становятся высокая текучесть кадров, ухудшение морально-психологического климата в коллективе, рост конфликтов, неудовлетворенность  сотрудников. Наиболее же значимы следующие последств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ижение включенности, внимания к детям, творческой отдачи (способности генерировать иде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агающее влияние «выгоревших» работников на остальной коллектив, особенно на новичков, которые считают их авторитетами и берут с них приме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ход «перегоревшего» педаго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чины выго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28648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зическая устал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 причи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тественного возрастного стар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ы без выходных и отпу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стематической переработки (27 и более часов недельной педнагрузки + проект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рвная усталость, накопление стресс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е высыпаюсь: дома – «вторая смена», работа далеко от дома, …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У нет нормальных условий для работы, отдыха, пит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ы всегда явно завыше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ть приходится со сложными учениками, родител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здоровая атмосфера в коллектив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хие отношения с руководител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ы в личной жизни, в том числе связанные с занятостью на рабо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эстетический» дискомфорт от работы в неустроенных кабинет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бретенные за время работы боле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дочеты в системе мотивации и стимулир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ои старания не оценили по достоинству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колько ни усердствуй, директор все равно недоволен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руководство интересуют только результаты ЕГЭ, призы и победы в конкурсах, а мои проблемы ему безразличны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йтрализация выго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бязательном порядке пересмотреть всю систему материального и нематериального стимул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обрать «звездным» специалистам рядовых педаг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ести поощрение за наставни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робуйте предложить свои меры: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ять эмоциональную напряженность помогают произвольное перенесение внимания, концентрация его не на значимости результата, а на анализе причин, технических деталях задачи и тактических прием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если человек взволнован и не может сосредоточиться, полезно посоветоваться с ним по важному для Вас (!) делу и попросить его помо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1143000" y="53341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м средством сдержанности является предвидение (чем большим объемом информации по волнующему вопросу вы обладаете, тем меньше вероятность эмоционального срыва). Полезно заранее подготовить отступные стратегии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лучайно в глубокой древности на Востоке люди просили в своей молитве: «Господи, дай мне сил, чтобы справиться с тем, что я могу сделать, дай мне мужество, чтобы смириться с тем, чего я не могу сделать, и дай мне мудрость, чтобы отличить одно от другог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5715000" y="59436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ытки повлиять на очень взволнованного человека при помощи уговоров, как правило, безуспешны. Следует помочь разрядить эмоции (дать возможность выговориться до конц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ологическая основа невосприимчивости к контраргументации возбужденного участка мозга - доминантный очаг возбуждения в коре головного моз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2057400" y="5486400"/>
            <a:ext cx="304920" cy="1066680"/>
          </a:xfrm>
          <a:prstGeom prst="downArrow">
            <a:avLst>
              <a:gd name="adj1" fmla="val 50000"/>
              <a:gd name="adj2" fmla="val 874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.П. Павлов говорил, что полезно "страсть вогнать в мышцы". Неблагоприятное воздействие моральных перегрузок усиливается при физических "недогрузках"; непроизвольное сокращение отдельных мышц (тик), возникающее у многих в момент волнения, является рефлекторно укрепившейся формой разрядки эмоционального напряжения (физическим движением). Как только человек начинает двигаться - волнение уменьш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Формы переработки стресса (Н.Пезешкиан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с помощью своего тела (физическая активность, сон, еда, секс, функциональные нарушения телесных функций, психосоматические реакци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своей деятельностью (бегство в работу, бегство от требований достижений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обращением к другим за помощью (контакты, бегство в болезнь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в воображении (представление желаемого в воображении, злоупотребление ПАВ, религия, мировоззренческие системы, художественная и творческая деятель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сприятие несправедлив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847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под вкладом могут рассматриваться разные вещи: стаж, заслуженность, продук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2590920" y="2666880"/>
                <a:ext cx="38862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й дохо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Мой вклад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аш дохо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аш вкла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Rectangle 6"/>
          <p:cNvSpPr/>
          <p:nvPr/>
        </p:nvSpPr>
        <p:spPr>
          <a:xfrm>
            <a:off x="762120" y="175248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юди воспринимают несправедливость в случае нарушения балан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ЕЛАЮ УСПЕХОВ В РАБО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Схема 4" descr=""/>
          <p:cNvPicPr/>
          <p:nvPr/>
        </p:nvPicPr>
        <p:blipFill>
          <a:blip r:embed="rId1"/>
          <a:stretch/>
        </p:blipFill>
        <p:spPr>
          <a:xfrm>
            <a:off x="1523880" y="1073160"/>
            <a:ext cx="6096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7:30:24Z</dcterms:created>
  <dc:creator>Дир.ин-та Гайнутдинова</dc:creator>
  <dc:description/>
  <dc:language>en-US</dc:language>
  <cp:lastModifiedBy>Рашид Минасхатович Гайнутдинов</cp:lastModifiedBy>
  <dcterms:modified xsi:type="dcterms:W3CDTF">2013-09-30T14:00:49Z</dcterms:modified>
  <cp:revision>13</cp:revision>
  <dc:subject/>
  <dc:title>Конфликтология</dc:title>
</cp:coreProperties>
</file>