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4610-0AB2-44F5-BFAD-F7D933C506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9D4D-3159-409D-B097-0FD31C4A5C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6261-CFA3-4F66-9586-F8BD3C3F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2EF-496D-44AB-A7AF-C86F276B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894-F15D-44EB-B601-D9904289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627-3F03-4136-BEAF-4B004865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0874-CB2D-4453-B698-4167BAD9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176E-5EE9-4326-9AAE-E4C66A16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FEAB-9697-41F5-B63C-D36C2493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3E24-6163-4DCB-AB61-45170843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BA3B-54D4-454D-9BC2-03EDF74E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55A5-1F35-4E67-B255-96A50E08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F4B8-B515-4C1D-A116-5EB24744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879-CB76-4834-A15E-253ABF26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D5C3-A714-400F-8FC6-6CB856F9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C48C-A1E2-47D4-96D2-0DD55E35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9351-2483-468C-B982-C8356836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9E43-3713-4821-A8CF-8963EFC8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8354-0061-48E6-A87A-7EBE7919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64F-8956-4B43-852C-DCF96183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6B9-8092-47A3-A246-2F0EBD82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64D3-1467-4054-B900-61C05616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BD4-B441-4325-90F4-0545A38C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8F4-42DD-4679-80CB-EB8A4409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9A4-BA21-4899-8EE7-5C3DEBD9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E21-AADC-4EF4-AA28-943FF80F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622A-8ED3-49D5-A15A-878056675F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1A77-FE70-4040-AA2A-BEB2F235D5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1&amp;img_url=http%3A%2F%2Fozvest.ru%2Fwp-content%2Fuploads%2F2013%2F02%2Fgagarina_4-300x200.jpg&amp;uinfo=ww-1010-wh-564-fw-785-fh-448-pd-1&amp;p=1&amp;text=&#1087;&#1086;&#1074;&#1099;&#1096;&#1077;&#1085;&#1080;&#1077;%20&#1087;&#1088;&#1080;&#1074;&#1083;&#1077;&#1082;&#1072;&#1090;&#1077;&#1083;&#1100;&#1085;&#1086;&#1089;&#1090;&#1080;%20&#1096;&#1082;&#1086;&#1083;&#1099;&amp;pos=41&amp;lr=16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привлекатель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0920" y="1341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детей, родителей, социальных партнеров, коллег; а также потребителей их «товара»: УПО, субъектов рынка труда – работод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рост  континген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аботодателя, родителе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УПО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im2-tub-ru.yandex.net/i?id=508414093-4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03280" y="2060280"/>
            <a:ext cx="5483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im4-tub-ru.yandex.net/i?id=126237263-58-72&amp;n=21"/>
          <p:cNvPicPr/>
          <p:nvPr/>
        </p:nvPicPr>
        <p:blipFill>
          <a:blip r:embed="rId1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в группах разработайте мини-проекты средств формирования ММ сотрудников О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о учреждение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О; с одной стороны, сохранить свое лицо, с другой – быть в русл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социализации (в широком смысле слова) ребенка (челове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компетенции, позволяющие ему жить и функционировать в качестве члена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семья, ДОУ, УДО, УПО – все работают на решение указанной цели, но каждый из этих институтов делает это с помощью только ему присущих средст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 – это инвариантная часть государственных институтов социализации ребенка, обеспечивающая временную и пространственную преемственность и взаимосвязь поколений и регион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нешкольные образовательные учреждения (ДОО; ОДО; ОПО)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вариативная часть государственно-общественных институтов социализации ребен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ни призваны создавать условия для обеспечения современного для данного общества и актуального для данной личности целостного ее развития (от раннего дошкольного, до профессиональной подготовки в зрелом возрасте); «достраивания» путем предоставления ей выбора и создания «территории успеха»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необходимости оказывают социально-психологическую поддержку и осуществляют психолого-педагогическую коррекцию и реабилитацию ребен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образовательным организациям (О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О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, 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школе, соучастия в ее делах, столь важное в наше время чувство социальной принадлежности, позволяет обнаружить то, что отличает сотрудников вашей ОО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О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ОО в обязательном порядке должен быть согласован с субъектами муниципальной/регион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ссия всегда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 из задач ОО – снизить «прессинг инкультурации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котором говорит А.Маслоу, приводящий к фрустрации и ограничениям естественного права ребенка на развитие в процессе социал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синг инкультурации, т.е. воспитания, дисциплины, формирования социальных навыков, подготовки к будущей взрослой жизни, осознания потребностей и желаний других людей в какой-то степени, разумеется, необходим, но процесс воспитания перестанет раздражать нас и ребенка только тогда, когда его будет окружать атмосфера приязни, любви и уважения друг к друг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4000" y="105264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ОУ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У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девиз вскоре может превратиться в пустую, бесполезную фр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вы средства маркетин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укт (особенности и конкурентные преимущества предлагаемых услуг или товар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ство (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ую организацию и её персонал)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 процесс - образовательный)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ый, включающий обученность и воспитанность ребенка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точки зрения его Потребител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Клиен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родвинуть ваш продукт на рынок, вам нужно так описать его, чтобы люди, которым вы его предлагаете (в первую очередь ЛПР о выборе или смене ОО - родители), могли ясно понять, что Это и как Это отвечает их потребностям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ветствует ли ваш продукт потребностям вашей целевой группы по качеству и удовлетворяет ли он ее специфические потреб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обучающегося (сформулируйте 2-3 показателя, вычислите их и сравните с показателями своих коллег/конкурент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траты здоровья персонала, детей и родителей на то качество услуг («товара»), которое обеспечивается в процессе совместного «производств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данные практически не учитываются, однако мы все понимаем, что можно одного и того же результата добиваться за счет сверхусилий персонала и напряженных отношений с родителями и детьми, а можно за счет энергии вовлеченности и сотрудничества, возникающей в условиях сильной ОК субъектного ти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:..; Интернет: сайт, соц. сети; эвент (со-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…Интернет: сайт, соц. сети; эвент (со-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ирование:…Интернет: сайт, соц. се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ий маркетинг: формирование ОК субъектного типа;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, а также ЛПР (лица принимающего решения): родителя и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, его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ода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(пример, стандарт учител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обрнауки.рф/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0%B4%D0%BE%D0%BA%D1%83%D0%BC%D0%B5%D0%BD%D1%82%D1%8B/307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ОО: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общее, особенное, уникально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907920"/>
          <a:ext cx="8229600" cy="5739120"/>
        </p:xfrm>
        <a:graphic>
          <a:graphicData uri="http://schemas.openxmlformats.org/drawingml/2006/table">
            <a:tbl>
              <a:tblPr/>
              <a:tblGrid>
                <a:gridCol w="1917720"/>
                <a:gridCol w="1361880"/>
                <a:gridCol w="2475000"/>
                <a:gridCol w="2475000"/>
              </a:tblGrid>
              <a:tr h="72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ее для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е для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никальное для конкретной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6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ОО, например, в 2015 го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 (внешний и внутренний маркетинг)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бизнеса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рыночной деятельности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маркетинг ни в коем случае не представляет собой манипулирования клиентам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1557000"/>
            <a:ext cx="80755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фирме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ликвидации экономических субъектов в данном НП, или активности соседнего ОУ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природной уникальностью и местоположением; наличием редких специалистов и опытом; эффективным образовательным процессом; хорошей МТБ; готовностью педколлектива работать с детьми с ОВЗ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да и пр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, осуществить модернизацию учебного процесса в соответствии с требованиями ФГОС; повысить имидж образовательного учреждения; освоить педтехнологии работы с деть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полной ли мере ОУ задействует эти ресурсы и способности для реализации своего конкурентного потенци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 при  позиционировании и продвижении своей организ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да и детей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б 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ОУ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прежде всего) при выборе ОУ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и личностными особенностями педагогического персонал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технологиями: компетентность в новых проектных, исследовательских технологиях; способность к инновациям; роль экспертов в данной технологии; признание в проф. сообществе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освоения ФГОС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системно-деятельностного подхода при формировании УУД, метапредметных, личностных компетенций;  оптимальное сочетание урочной и внеурочной деятельности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(сайт, СМИ, иные ИК технологии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в управлении и наличие управляющих ноу-хау (например, изменение оргструктуры; формирование классов переменного состава…;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услуг и имиджа ОО (свой сайт, СМИ, информационные листки, встречи с родителями…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Подумайте и конкретизируйте, какие факторы вашего ДОО могут стать или уже являются факторами успех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ОО и потребителя (родителя/школы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детям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отребности мы помогаем им удовлетворя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/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У в крупных городах (НШ, СШ; УДО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гментирование рынка (какая группа потенциально является нашими потребителями, каков их соц.-дем. портрет и псих. особенности, особенности их потребительского поведения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зиционирование ОО: в чем мы сильны, каковы наши особенности и приоритеты, какие потребности с точки зрения клиентов мы можем удовлетворять, чем мы можем быть интересны родителям, детям, партерам...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, на основе 1-5 шаг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цел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и определенных целей маркетинговой стратегии начинается оперативное маркетинговое план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ОУ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повышения репутации и привлекательности организации в глазах потребителей, работодателя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е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школы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пед.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476000" y="981000"/>
            <a:ext cx="67532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йте в группах особенности работы  ваших ОО, которые, с вашей точки зрения, важно учесть при использовании маркетингового подхода в управле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микро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скими садами по работе с будущими первоклассник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ямая (адресная) почтовая рассы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жегодная рассылка бывшим выпускникам красочно оформленных календарей с символикой школы, поздравительных открыток, благодарственных писем родител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и и семин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ение рекламной продукции, касающейся основной деятельности ОО во время проведения и участия в конференциях, выставках и др. массовых мероприят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учителя, Новый год, Последний звонок, День рождения школы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школы и соответствия разработанной стратегии развития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школы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обенности О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ыявленные в групповой работе), которые могут влиять на маркетинговую стратегию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попечителей, спонсор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детям, родителям, выпускникам, гостям школы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школы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школьных С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ого управления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ОУ может существенную роль играть его Попечительский совет, важнейшей функцией которого является лоббирование интересов О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О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обеспечение плана набора/конкурс на отдельные професс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«торговой марки», «бренда»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школы, элементах имиджа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обучающихся,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нужна привлекательность О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Там, где нет конкуренци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пится лучше, но живется хуже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что нацелен маркети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ести исследова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ить целевой рынок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довлетворить потреб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стичь конкурентного преимуще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дача маркетинга быть там, где есть аудитор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если наш сегмент все больше времени проводит в Интернете и социальных сетях, значит и думающим руководителям ОУ следует воспользоваться возможностями этих ресурсов, и одновременно понимать какие угрозы порождает это явлен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0:14:54Z</dcterms:modified>
  <cp:revision>61</cp:revision>
  <dc:subject/>
  <dc:title>Технологии повышения привлекательности  образовательной организации</dc:title>
</cp:coreProperties>
</file>