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5AE-38A5-41BB-AA0F-85783FAD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172-E2B5-4069-906E-0F46AA61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6B4-481E-44A5-B548-B4CCA9BC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4ECE-073D-455B-A648-A9337FD2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74A4-7B11-4D3E-938C-DD698FED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D756-4DA2-4EC6-B27A-A64CAA6B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7E22-A988-4427-8E44-B8B8DFEE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64B6-2081-41AC-A6EC-F279FA0E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F386-98D0-4395-BFC4-BDD9AC0B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8546-6B39-476C-9623-EE60BEBD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31C7-3D13-40DB-8A74-15BED82E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28B-3F32-44B6-A14D-50503FBC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3765-2389-4A49-B5A9-1626CDA0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7486-5D6C-4F38-B5B5-1CA3CE9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74E2-EA10-47D9-BA6D-6133B18F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E45D-7503-41EE-A307-001931AA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4661-2C6B-4543-B233-749F9306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3C0-44B0-48BD-AC82-0C9DB702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F77-EE09-452C-AF6F-B78CDC44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B1A-5A1D-4C85-8BD1-564599DF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C30-42CF-4867-8AD9-5E3BD244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BAE-6AFA-4ECC-B49D-2614FB08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C3E-55C3-42BB-B8D1-907D81F1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941-D3D7-45BD-943D-CD1ABB79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A1BE-4955-44E4-8762-6D618CC8F3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D24E-BEC1-420F-954B-DA1318F5A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1&amp;img_url=http%3A%2F%2Fozvest.ru%2Fwp-content%2Fuploads%2F2013%2F02%2Fgagarina_4-300x200.jpg&amp;uinfo=ww-1010-wh-564-fw-785-fh-448-pd-1&amp;p=1&amp;text=&#1087;&#1086;&#1074;&#1099;&#1096;&#1077;&#1085;&#1080;&#1077;%20&#1087;&#1088;&#1080;&#1074;&#1083;&#1077;&#1082;&#1072;&#1090;&#1077;&#1083;&#1100;&#1085;&#1086;&#1089;&#1090;&#1080;%20&#1096;&#1082;&#1086;&#1083;&#1099;&amp;pos=41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</a:t>
            </a:r>
            <a:r>
              <a:rPr b="0" lang="en-US" sz="4400" spc="-1" strike="noStrike">
                <a:solidFill>
                  <a:srgbClr val="000000"/>
                </a:solidFill>
                <a:latin typeface="Mistral"/>
              </a:rPr>
              <a:t>C(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К)ОО; Д/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обострившимся вниманием к внутренней жизни в учреждениях интернатного типа, кроме формирования открытости, необходимо особое внимание уделить развитию т.н. внутреннего маркетинг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.е. если мы хотим, чтобы сотрудники были сосредоточены на индивидуализации развития и поддержке детей, необходимо проявить вниманием к потребностям и развитию сотруд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детей-сирот, а также детей с ОВ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ушается связ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: а) социумом, б) культурой как источником развития; в) родителя и ребенка, т.к. взрослый носитель культуры не знает, каким образом передать тот социальный опыт, который каждый нормально развивающийся ребенок приобретает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к. С(К)ОО имеют дело с большим разнообразием ОВЗ, а Д/д чаще всего с психологически травмированными детьми, значит это требует достаточно глубокой специализации и высокой квалификации кадров, а т.к. с кадрами в РСО вообще туго, то для С(К)ОО и Д/д это сверхсложная проблема, т.к. специалисты такого профиля и уровня зачастую «штучный» товар на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ь маркетинга для С(К)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ами маркетинг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ть условия способствующие оптимизации процесса социализации детей с ОВЗ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формирования необходимых базовых навыков в сфере жизнеобеспечения, самообслуживания, социализации, коммуникации и рекреации, для адаптации их к обществу и интеграции (реинтеграции) в обществ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едства маркетинга: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продвижение; партнерство; внутренний маркетинг; персон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образа открытой организации, в т.ч. через элементы ГОУ, информационной открытости и активности: взаимодействие со СМИ, ведение своего сайта, использование ресурсов соц. с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партнерских отношений: с учреждениями культуры; ОО всех типов: ОДО, ОПО; учреждениями спорта, досуга…; поддержка и инициирование интегративных процессов с социум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артнерстве с другими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5264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для профессионального образования детей, нуждающихся в специальном (коррекционном) образован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возможностей учреждений дополнительного образования детей для оказания помощи детям с ограниченными возможностями здоровь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системы раннего выявления отклонений в развитии и ранней помощи детям с ОВЗ в рамках межведомственного партнер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держка деятельности общественных организаций, занимающихся оказанием помощи и защитой прав детей, нуждающихся в С(К)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ы поддержки выпускников С(К)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е партнерства с семь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отношений с семьей и помощь родителям в освоении приемов и методов работы с детьми с ОВЗ, может быть, в т.ч., через поддержку муниципальных клубов, объединений родителей, имеющих детей с ОВЗ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язательное включение родителей в коррекционный процесс на основе выявления положительных сторон семьи и активизации ее реабилитационного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утренний маркетинг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е персон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268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труда и отдыха, способствующих «ребенкоориентированности» сотрудников (внутренний маркетинг), напр. комнаты психологической разгрузки, помощь психологов по профилактике проф. выгорания, работа с супервизорами; организация региональной/муниципальной службы коучинга специалистов и руководителей С(К)О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и обучение персонала: квалификация и готовность работать с иными деть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товность включает не только соответствующий уровень квалификации, но и мотивацию и ценности работы с детьми, имеющими ОВЗ: доброта, любовь к детям, терпение и терпимость, а не только и не столько стремление работать из-за наличия надбав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эффективного вн. маркетинга гораздо легче выстроить внешний марке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лью связи с общественностью является формирование у широкой общественности позитивного имиджа организации. Работа с общественностью служит созданию доверия и понимания целей и мероприятий, реализуемых организаци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ешний маркетинг направлен на формирование привлекательного образа С(К)ОО, Д\д в глазах социума, т.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собность С(К)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ОПО, субъектов рынка труда – работодателей и потенциальных сотрудников, как привлекательный работодатель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персон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рынка труда: Рабочая сила рассматривается маркетингом с двух сторон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как товар, где главным являются потребительские свойства работников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как покупатель, который покупает рабочее место в обмен на свой тру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и: формирования имиджа ОО, как работодател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ирования субъектов РТ о вакансиях: сегментирование РТ и источников информации, а также позиционирование своей организ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, реклама привлекательности С(К)ОО-работодателя во время учебы/стажировки студентов СПО, В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специальным (коррекционным) образовательным организациям (С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С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, в т.ч. как работодател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ОСПО; ОДОД; ОВПО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im2-tub-ru.yandex.net/i?id=508414093-4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03280" y="1341000"/>
            <a:ext cx="5483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инляндии есть музей, где взрослым предлагается посмотреть на окружающий мир глазами детей: «Дети видят мир на уровне наших коленок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im4-tub-ru.yandex.net/i?id=126237263-58-72&amp;n=21"/>
          <p:cNvPicPr/>
          <p:nvPr/>
        </p:nvPicPr>
        <p:blipFill>
          <a:blip r:embed="rId1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Д/д, С(К)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иссия д.б.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а организация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одной стороны, сохранить свое лицо, с другой – быть в курс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быть успешным  членом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сто и роль ОО в социализации лич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(К)ОО, ОДО, ДОО, ОПО – все работают на решение указанной цели, но каждый из них 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а для детей с ОВЗ С(К)ОО – это инвариантная часть государственных институтов социализации ребенка, обеспечивающая временную и пространственную преемственность и взаимосвязь поколений и регион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нешкольные образовательные учреждения (ДОО; ОДО; ОПО)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вариативная часть государственно-общественных институтов социализации ребе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призваны создавать условия для обеспечения современного для данного общества и актуального для данной личности целостного ее развития (от раннего дошкольного, до профессиональной подготовки в зрелом возрасте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необходимости оказывают социально-психологическую поддержку и осуществляют психолого-педагогическую коррекцию и реабилитацию ребе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(ещё раз зададимся вопросом - кто у нас Клиент?)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процесс - образовательный) и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для С(К)ОО, Д/д в первую очередь, уровень социализации, включенности в социум ребенка (в т.ч. с ОВЗ) на основе формирования необходимых базовых навыков в сфере жизнеобеспечения, самообслуживания и коммуникации)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 точки зрения его Потребител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одителя, ребенка, учредителя, общест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920" y="1267920"/>
            <a:ext cx="84978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организации, соучастия в ее делах, столь важное в наше время чувство социальной принадлежности, позволяет обнаружить то, что отличает сотрудников вашего С(К)ОУ, Д/д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твечая последовательно на эти Зачем? 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У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О в обязательном порядке должен быть согласован с субъектами муниципальной/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С(К)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думаю, что для С(К)ОО это особенно значимая позиц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родной для меня ОДОД – центр «ЛАД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90792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ОУ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асность противоречий между миссией и действитель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или внутренние процессы и отношения в организации вступают в противоречие с заявленным «знаменем», девиз вскоре может превратиться в пустую, бесполезную и даже раздражающую всех фраз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им основные средства, инструменты маркетинг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.н. маркетинг-микс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, могли ясно понять, что это и как это отвечает их потребностя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раты здоровья персонала и обучающихся на то качество услуг («товара»), которое обеспечивается в процессе совместного «производ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– идти от Клиен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с обязательным учетом внешних усло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образовательных услуг на основе его изучения и знания потребностей Клиента, перспектив изменений внешних условий, своей миссии и возможностей коллекти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моуш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й марке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од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ОО: </a:t>
            </a:r>
            <a:r>
              <a:rPr b="0" lang="ru-RU" sz="3100" spc="-1" strike="noStrike">
                <a:solidFill>
                  <a:srgbClr val="0070c0"/>
                </a:solidFill>
                <a:latin typeface="Calibri"/>
              </a:rPr>
              <a:t>общее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907920"/>
          <a:ext cx="8291520" cy="5739120"/>
        </p:xfrm>
        <a:graphic>
          <a:graphicData uri="http://schemas.openxmlformats.org/drawingml/2006/table">
            <a:tbl>
              <a:tblPr/>
              <a:tblGrid>
                <a:gridCol w="2316240"/>
                <a:gridCol w="2987640"/>
                <a:gridCol w="2987640"/>
              </a:tblGrid>
              <a:tr h="72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е для С(К)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никальное для конкретной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4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ОУ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пора на курс «Основы менеджмент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1280" y="1773000"/>
            <a:ext cx="807552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: степень их влияния и вероятность наступ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: вычленить приоритетные направления с помощью которых можно сформировать стратегию ОО на рынке О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С(К)ОО и потребителя (в лице родителя/учредителя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ОО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МР, или активности соседней 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, эффективным образовательным процессом, хорошей МТБ, обеспечение повышенных разрядов выпускников СПО, готовностью педколлектива работать с детьми с ОВЗ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работодателя, повысить имидж образовательного учреждения, освоить пед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ОО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детей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 (КП)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компетентность в новых проектных, исследовательских технологиях; способность к инновациям; роль экспертов в данной технологии; признание в проф. сообществе…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передовых технологий для рынка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УУД, метапредметных, личностных компетенций;  оптимальное сочетание урочной и внеурочной деятельности…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(сайт, СМИ, иные ИК технологии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основного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классов переменного состава…;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ендовые и имиджев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С(К)О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бразовательных услуг в крупных городах (ДОО, СОО; С(К)ОО; ОДО; ОП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сегментирование рынка и позиционирование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интегрированные маркетинговые коммуникации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С(К)ОО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формирования образа открытого, экологичного в широком смысле слова учреждения, повышения репутации и привлекательности организации в глазах родителей (опекунов), учредителя, соци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они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ните, что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С(К)ОО 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моя точка зрения – ГР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и организации до последнего времени имели закрытый характер и ограниченный выход детей в социум, а сейчас речь идет об интеграции не только этих организаций, но и детей (включение, инклюзия), а значит стоит задача выстраивания отношений с другими («дорожная карта» партнерства и интеграц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оме того достаточно остро стоит проблема формирования «бытовой» толерантности, принятия «иных» детей и взрослых в социу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скими сад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С(К)ОО, поздравительных открыток, благодарственных писем родителям, спонсорам, партне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С(К)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ОО и соответствия разработанной стратегии её развит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школы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школ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ль органов государственно-общественного управления С(К)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С(К)ОО может существенную роль играть его Попечительский совет, важнейшей функцией которого является лоббирование интересов О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илу ограниченности имеющихся ресурсов, а также отхода от патерналистской позиции со стороны государства, необходима активизация деятельности, направленной на вовлечение в процесс социализации детей с ОВЗ: меценатов, волонтеров; дополнительные усилия по «лоббированию» интересов СОО, Д\д в ОИ и ЗВ, в т.ч. законодательных изменений; поиск опоры среди работодателей, в бизнесе, системы ПО, …; расширения сфер стимулирования и реализации собственной социальной активности детей, включая детей с ОВ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для ОПО - обеспечение плана набора/конкурс на отдельные професс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позитивное отношение к С(К)ОО и её выпускник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Д/д, и С(К)ОО в настоящее время наблюдается пристальное внимание с точки зрения соблюдения общечеловеческих прав и достоинства детей, обеспечения ухода, обучения и воспитания детей-сирот, а также детей с ОВЗ - это ставит задачу формирования образа открытого, учреждения, готового к сотрудничеству и нацеленного на реализацию интересов детей с учетом их индивидуальных возмож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4:00:13Z</dcterms:modified>
  <cp:revision>81</cp:revision>
  <dc:subject/>
  <dc:title>Технологии повышения привлекательности  образовательной организации</dc:title>
</cp:coreProperties>
</file>