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5.wmf" ContentType="image/x-wmf"/>
  <Override PartName="/ppt/media/image15.jpeg" ContentType="image/jpeg"/>
  <Override PartName="/ppt/media/image2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hammer.wav" ContentType="audio/x-wav"/>
  <Override PartName="/ppt/media/voltage.wav" ContentType="audio/x-wav"/>
  <Override PartName="/ppt/media/image28.wmf" ContentType="image/x-wmf"/>
  <Override PartName="/ppt/media/click.wav" ContentType="audio/x-wav"/>
  <Override PartName="/ppt/media/image26.jpeg" ContentType="image/jpeg"/>
  <Override PartName="/ppt/media/image27.jpeg" ContentType="image/jpeg"/>
  <Override PartName="/ppt/media/image30.wmf" ContentType="image/x-wmf"/>
  <Override PartName="/ppt/media/image6.png" ContentType="image/png"/>
  <Override PartName="/ppt/media/image29.png" ContentType="image/png"/>
  <Override PartName="/ppt/media/image32.wmf" ContentType="image/x-wmf"/>
  <Override PartName="/ppt/media/image31.wmf" ContentType="image/x-wmf"/>
  <Override PartName="/ppt/media/tada.wav" ContentType="audio/x-wav"/>
  <Override PartName="/ppt/media/image34.wmf" ContentType="image/x-wmf"/>
  <Override PartName="/ppt/media/image13.png" ContentType="image/png"/>
  <Override PartName="/ppt/media/image36.wmf" ContentType="image/x-wmf"/>
  <Override PartName="/ppt/media/image16.png" ContentType="image/png"/>
  <Override PartName="/ppt/media/image9.png" ContentType="image/png"/>
  <Override PartName="/ppt/media/image37.wmf" ContentType="image/x-wmf"/>
  <Override PartName="/ppt/media/image38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0.png" ContentType="image/png"/>
  <Override PartName="/ppt/media/image1.jpeg" ContentType="image/jpe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.png" ContentType="image/png"/>
  <Override PartName="/ppt/media/wind.wav" ContentType="audio/x-wav"/>
  <Override PartName="/ppt/media/image3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C225-DE00-45EE-95AA-1D40C29809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BCD7-81C0-4317-94F7-F6E228473E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9BBF-1315-434D-9191-14FD78F1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743-AB44-47E7-A69C-0902C98A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65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34D-77CB-4116-94F8-F9748F24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22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76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22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76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251-D5AD-497F-8BF0-91A3556B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ECC4-5328-40B7-B601-6B1F8BCE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6F5C-8C40-4CF0-AAE0-E40A504A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AD44-37B4-485E-B3C7-D80D8F28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4DBE-25A2-495E-9758-73F76AB7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ECE7-FEC4-423C-81F7-E53CC45C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304560"/>
            <a:ext cx="4876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2C64-FE97-4676-885A-74BBE341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0BC6-525B-4956-B903-B630F12D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0C0A-41C3-4D9D-A15B-9BA03B15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65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084A-C0BF-4E94-B7C7-3E7FBCCA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1BF0-5949-4A9A-A441-FA599291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F16E-3E8F-47DE-AFFA-242937B4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65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73BF-063C-4DEF-A5F1-6093A804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22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76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22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76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F630-9730-4AC0-82FA-A3782A89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F81-BFC5-434E-8F17-25ECB6E0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0D99-A026-43BD-A182-11EEA4CC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4419-0841-4EE2-BEE3-0B2E9C13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304560"/>
            <a:ext cx="4876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C44-C354-4C62-8622-A87A25E8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693-9138-424E-89D5-F0D93BAA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65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DDF-A558-45D7-BE57-D7B569C0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7D4-93F6-4A7F-9AAC-0B233F8F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25EC-A5B4-45D3-AA9B-EAE2A1A3F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5AC5-6311-490E-BDE6-47FEBEDCC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.wmf"/><Relationship Id="rId2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.wmf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tada.wav"/><Relationship Id="rId1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hammer.wav"/><Relationship Id="rId22" Type="http://schemas.openxmlformats.org/officeDocument/2006/relationships/audio" Target="../media/voltage.wav"/><Relationship Id="rId23" Type="http://schemas.openxmlformats.org/officeDocument/2006/relationships/audio" Target="../media/voltage.wav"/><Relationship Id="rId24" Type="http://schemas.openxmlformats.org/officeDocument/2006/relationships/audio" Target="../media/voltage.wav"/><Relationship Id="rId25" Type="http://schemas.openxmlformats.org/officeDocument/2006/relationships/audio" Target="../media/wind.wav"/><Relationship Id="rId26" Type="http://schemas.openxmlformats.org/officeDocument/2006/relationships/audio" Target="../media/hammer.wav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914400" y="304920"/>
            <a:ext cx="737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ия и практика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285920" y="1714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нали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вательная деятельность руководителя, позволяющая проникнуть в суть разнообразных (часто противоречивых) процессов и явлений, выявить причинно-следственные связи, факторы ускорения и торможения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нали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трумент повышения качества управлен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ЧЕМУ? Докаж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пы управленческого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T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етингов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овой анализ (анализ пробл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ко-структур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результатов собственной управлен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управленческого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троспек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лекс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акторный анализ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ый вид управленческого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значимых фа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 их воздействия на систему (в том числе и систему управл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жирование факторов по степени интенсивности вли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актическое задание: ФАКТОР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376360" y="9360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ипология проблем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830880" y="1860480"/>
            <a:ext cx="7728840" cy="459720"/>
            <a:chOff x="830880" y="1860480"/>
            <a:chExt cx="7728840" cy="459720"/>
          </a:xfrm>
        </p:grpSpPr>
        <p:sp>
          <p:nvSpPr>
            <p:cNvPr id="165" name="Text Box 11"/>
            <p:cNvSpPr/>
            <p:nvPr/>
          </p:nvSpPr>
          <p:spPr>
            <a:xfrm>
              <a:off x="830880" y="1860480"/>
              <a:ext cx="13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2"/>
            <p:cNvSpPr/>
            <p:nvPr/>
          </p:nvSpPr>
          <p:spPr>
            <a:xfrm>
              <a:off x="2227320" y="1860480"/>
              <a:ext cx="633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острое противоречие, требующее разреш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13"/>
          <p:cNvGrpSpPr/>
          <p:nvPr/>
        </p:nvGrpSpPr>
        <p:grpSpPr>
          <a:xfrm>
            <a:off x="885960" y="2492280"/>
            <a:ext cx="8257680" cy="825480"/>
            <a:chOff x="885960" y="2492280"/>
            <a:chExt cx="8257680" cy="825480"/>
          </a:xfrm>
        </p:grpSpPr>
        <p:sp>
          <p:nvSpPr>
            <p:cNvPr id="168" name="Text Box 14"/>
            <p:cNvSpPr/>
            <p:nvPr/>
          </p:nvSpPr>
          <p:spPr>
            <a:xfrm>
              <a:off x="885960" y="24922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Факто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5"/>
            <p:cNvSpPr/>
            <p:nvPr/>
          </p:nvSpPr>
          <p:spPr>
            <a:xfrm>
              <a:off x="2386800" y="2492280"/>
              <a:ext cx="675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движущая сила, причина какого либо процесса или явления (лат. faktor – делающий, производящий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Line 16"/>
          <p:cNvSpPr/>
          <p:nvPr/>
        </p:nvSpPr>
        <p:spPr>
          <a:xfrm>
            <a:off x="0" y="1773360"/>
            <a:ext cx="892800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-71280" y="3571920"/>
            <a:ext cx="2484360" cy="2890080"/>
            <a:chOff x="-71280" y="3571920"/>
            <a:chExt cx="2484360" cy="2890080"/>
          </a:xfrm>
        </p:grpSpPr>
        <p:sp>
          <p:nvSpPr>
            <p:cNvPr id="172" name="Text Box 18"/>
            <p:cNvSpPr/>
            <p:nvPr/>
          </p:nvSpPr>
          <p:spPr>
            <a:xfrm>
              <a:off x="-71280" y="600228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33"/>
                  </a:solidFill>
                  <a:latin typeface="Arial Narrow"/>
                </a:rPr>
                <a:t>"независимые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9"/>
            <p:cNvSpPr/>
            <p:nvPr/>
          </p:nvSpPr>
          <p:spPr>
            <a:xfrm>
              <a:off x="-71280" y="3571920"/>
              <a:ext cx="24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33"/>
                  </a:solidFill>
                  <a:latin typeface="Arial Narrow"/>
                </a:rPr>
                <a:t>"результирующие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20"/>
            <p:cNvSpPr/>
            <p:nvPr/>
          </p:nvSpPr>
          <p:spPr>
            <a:xfrm>
              <a:off x="-71280" y="428616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33"/>
                  </a:solidFill>
                  <a:latin typeface="Arial Narrow"/>
                </a:rPr>
                <a:t>"узловые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1"/>
            <p:cNvSpPr/>
            <p:nvPr/>
          </p:nvSpPr>
          <p:spPr>
            <a:xfrm>
              <a:off x="-71280" y="532440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33"/>
                  </a:solidFill>
                  <a:latin typeface="Arial Narrow"/>
                </a:rPr>
                <a:t>"корневые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Text Box 22"/>
          <p:cNvSpPr/>
          <p:nvPr/>
        </p:nvSpPr>
        <p:spPr>
          <a:xfrm>
            <a:off x="1928880" y="602784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– </a:t>
            </a: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проблемы, связи которых с другими проблемами не определе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1428840" y="5324400"/>
            <a:ext cx="76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– </a:t>
            </a: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проблемы, оказывающие влияние на другие пробл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1285920" y="4313160"/>
            <a:ext cx="76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– </a:t>
            </a: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проблемы, оказывающие влияние на одни проблемы, и при этом испытывающие влияние других проб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2357280" y="360828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– </a:t>
            </a: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проблемы, испытывающие влияние других проб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6"/>
          <p:cNvSpPr/>
          <p:nvPr/>
        </p:nvSpPr>
        <p:spPr>
          <a:xfrm>
            <a:off x="108000" y="3571920"/>
            <a:ext cx="892800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26"/>
          <p:cNvSpPr/>
          <p:nvPr/>
        </p:nvSpPr>
        <p:spPr>
          <a:xfrm>
            <a:off x="135000" y="500040"/>
            <a:ext cx="90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облемы и цели связанные категории и те и другие присутствуют в искусственных систем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облемы связывают субъективные ожидания (в форме целей) с объективным состоянием в форме противоречия требующего разреш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376360" y="93600"/>
            <a:ext cx="57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ипология пробле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216000" y="4651200"/>
            <a:ext cx="8497800" cy="405000"/>
            <a:chOff x="216000" y="4651200"/>
            <a:chExt cx="8497800" cy="405000"/>
          </a:xfrm>
        </p:grpSpPr>
        <p:sp>
          <p:nvSpPr>
            <p:cNvPr id="184" name="Text Box 6"/>
            <p:cNvSpPr/>
            <p:nvPr/>
          </p:nvSpPr>
          <p:spPr>
            <a:xfrm>
              <a:off x="216000" y="465120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33"/>
                  </a:solidFill>
                  <a:latin typeface="Arial Narrow"/>
                </a:rPr>
                <a:t>"антитезные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2233440" y="4657320"/>
              <a:ext cx="64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– </a:t>
              </a: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фиксирующие противореч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8"/>
          <p:cNvGrpSpPr/>
          <p:nvPr/>
        </p:nvGrpSpPr>
        <p:grpSpPr>
          <a:xfrm>
            <a:off x="228600" y="1935000"/>
            <a:ext cx="8459640" cy="703800"/>
            <a:chOff x="228600" y="1935000"/>
            <a:chExt cx="8459640" cy="703800"/>
          </a:xfrm>
        </p:grpSpPr>
        <p:sp>
          <p:nvSpPr>
            <p:cNvPr id="187" name="Text Box 9"/>
            <p:cNvSpPr/>
            <p:nvPr/>
          </p:nvSpPr>
          <p:spPr>
            <a:xfrm>
              <a:off x="228600" y="1935000"/>
              <a:ext cx="273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33"/>
                  </a:solidFill>
                  <a:latin typeface="Arial Narrow"/>
                </a:rPr>
                <a:t>"причинно-следственные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2244600" y="1941480"/>
              <a:ext cx="644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– </a:t>
              </a: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содержащие причину и следствие проблемной ситуац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11"/>
          <p:cNvGrpSpPr/>
          <p:nvPr/>
        </p:nvGrpSpPr>
        <p:grpSpPr>
          <a:xfrm>
            <a:off x="187200" y="843120"/>
            <a:ext cx="7993080" cy="398880"/>
            <a:chOff x="187200" y="843120"/>
            <a:chExt cx="7993080" cy="398880"/>
          </a:xfrm>
        </p:grpSpPr>
        <p:sp>
          <p:nvSpPr>
            <p:cNvPr id="190" name="Text Box 12"/>
            <p:cNvSpPr/>
            <p:nvPr/>
          </p:nvSpPr>
          <p:spPr>
            <a:xfrm>
              <a:off x="187200" y="84312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33"/>
                  </a:solidFill>
                  <a:latin typeface="Arial Narrow"/>
                </a:rPr>
                <a:t>"назывные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2203200" y="843120"/>
              <a:ext cx="59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– </a:t>
              </a: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по сути жалоб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14"/>
          <p:cNvGrpSpPr/>
          <p:nvPr/>
        </p:nvGrpSpPr>
        <p:grpSpPr>
          <a:xfrm>
            <a:off x="2676600" y="995400"/>
            <a:ext cx="4724640" cy="776880"/>
            <a:chOff x="2676600" y="995400"/>
            <a:chExt cx="4724640" cy="776880"/>
          </a:xfrm>
        </p:grpSpPr>
        <p:sp>
          <p:nvSpPr>
            <p:cNvPr id="193" name="Text Box 15"/>
            <p:cNvSpPr/>
            <p:nvPr/>
          </p:nvSpPr>
          <p:spPr>
            <a:xfrm>
              <a:off x="2681280" y="995400"/>
              <a:ext cx="4719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 Narrow"/>
                </a:rPr>
                <a:t>Отдел сбыта дублирует работу отдела маркетинга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2676600" y="1434960"/>
              <a:ext cx="447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 Narrow"/>
                </a:rPr>
                <a:t>Сотрудники хотят много получать, мало работ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7"/>
          <p:cNvGrpSpPr/>
          <p:nvPr/>
        </p:nvGrpSpPr>
        <p:grpSpPr>
          <a:xfrm>
            <a:off x="2374920" y="2765520"/>
            <a:ext cx="6769080" cy="1728000"/>
            <a:chOff x="2374920" y="2765520"/>
            <a:chExt cx="6769080" cy="1728000"/>
          </a:xfrm>
        </p:grpSpPr>
        <p:sp>
          <p:nvSpPr>
            <p:cNvPr id="196" name="Text Box 18"/>
            <p:cNvSpPr/>
            <p:nvPr/>
          </p:nvSpPr>
          <p:spPr>
            <a:xfrm>
              <a:off x="2374920" y="2765520"/>
              <a:ext cx="660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Отделы сбыта и маркетинга дублируют дуг друга, т.к. не разработаны должностные инструкц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2374920" y="3484800"/>
              <a:ext cx="6769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Слабая связь между трудовым вкладом и заработной платой не заинтересовывает специалистов к большей трудовой отдач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2303640" y="5048280"/>
            <a:ext cx="6602400" cy="1448280"/>
            <a:chOff x="2303640" y="5048280"/>
            <a:chExt cx="6602400" cy="1448280"/>
          </a:xfrm>
        </p:grpSpPr>
        <p:sp>
          <p:nvSpPr>
            <p:cNvPr id="199" name="Text Box 21"/>
            <p:cNvSpPr/>
            <p:nvPr/>
          </p:nvSpPr>
          <p:spPr>
            <a:xfrm>
              <a:off x="2303640" y="5048280"/>
              <a:ext cx="660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В новой структуре организации предусмотрен отдел маркетинга, но компетенция отдела сбыта не изменен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22"/>
            <p:cNvSpPr/>
            <p:nvPr/>
          </p:nvSpPr>
          <p:spPr>
            <a:xfrm>
              <a:off x="2321280" y="5792760"/>
              <a:ext cx="5731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Производительность труда специалистов падает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а заработная плата раст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49636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Практическое задание: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ФАКТОРНЫЙ АНАЛИЗ</a:t>
            </a:r>
            <a:br>
              <a:rPr sz="3200"/>
            </a:br>
            <a:br>
              <a:rPr sz="3200"/>
            </a:b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1. Выделите факторы внутренней и внешней среды, влияющие на управление ОО (факторы, влияющие на управленческую деятельность)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2. Определите степень и характер их влияния на качество управления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68360" y="2619360"/>
          <a:ext cx="8136000" cy="4259160"/>
        </p:xfrm>
        <a:graphic>
          <a:graphicData uri="http://schemas.openxmlformats.org/drawingml/2006/table">
            <a:tbl>
              <a:tblPr/>
              <a:tblGrid>
                <a:gridCol w="1197000"/>
                <a:gridCol w="2933640"/>
                <a:gridCol w="1531800"/>
                <a:gridCol w="1532160"/>
                <a:gridCol w="941400"/>
              </a:tblGrid>
              <a:tr h="28008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Факто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Существенное обстоятельст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тепень влияния и харак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</a:tr>
              <a:tr h="1678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</a:tr>
              <a:tr h="1730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3038-6369-4FEB-9D35-F45024256AF0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189080" y="30240"/>
            <a:ext cx="74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етод последовательных «почему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2192400" y="2673360"/>
            <a:ext cx="6772320" cy="944280"/>
            <a:chOff x="2192400" y="2673360"/>
            <a:chExt cx="6772320" cy="944280"/>
          </a:xfrm>
        </p:grpSpPr>
        <p:sp>
          <p:nvSpPr>
            <p:cNvPr id="206" name="Text Box 4"/>
            <p:cNvSpPr/>
            <p:nvPr/>
          </p:nvSpPr>
          <p:spPr>
            <a:xfrm>
              <a:off x="2192400" y="26733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6. Сложились традиции, закрепляющиеся из поколения в покол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5"/>
            <p:cNvSpPr/>
            <p:nvPr/>
          </p:nvSpPr>
          <p:spPr>
            <a:xfrm>
              <a:off x="2192400" y="32493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7. Агрессивная реклама употребления алкоголя как элемента жизн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6"/>
          <p:cNvGrpSpPr/>
          <p:nvPr/>
        </p:nvGrpSpPr>
        <p:grpSpPr>
          <a:xfrm>
            <a:off x="2192400" y="4449600"/>
            <a:ext cx="6772320" cy="1119240"/>
            <a:chOff x="2192400" y="4449600"/>
            <a:chExt cx="6772320" cy="1119240"/>
          </a:xfrm>
        </p:grpSpPr>
        <p:sp>
          <p:nvSpPr>
            <p:cNvPr id="209" name="Text Box 7"/>
            <p:cNvSpPr/>
            <p:nvPr/>
          </p:nvSpPr>
          <p:spPr>
            <a:xfrm>
              <a:off x="2192400" y="4449600"/>
              <a:ext cx="6772320" cy="5083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8. Разрушилась советская идеология воспитания молодежи как активного элемента социума ("пионер – всем ребятам пример"), но новая не была созда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8"/>
            <p:cNvSpPr/>
            <p:nvPr/>
          </p:nvSpPr>
          <p:spPr>
            <a:xfrm>
              <a:off x="2192400" y="52005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9. Активное проникновение западной молодежной культу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9"/>
          <p:cNvGrpSpPr/>
          <p:nvPr/>
        </p:nvGrpSpPr>
        <p:grpSpPr>
          <a:xfrm>
            <a:off x="1192320" y="6058080"/>
            <a:ext cx="1346040" cy="574560"/>
            <a:chOff x="1192320" y="6058080"/>
            <a:chExt cx="1346040" cy="574560"/>
          </a:xfrm>
        </p:grpSpPr>
        <p:sp>
          <p:nvSpPr>
            <p:cNvPr id="212" name="Freeform 10"/>
            <p:cNvSpPr/>
            <p:nvPr/>
          </p:nvSpPr>
          <p:spPr>
            <a:xfrm>
              <a:off x="1192320" y="6058080"/>
              <a:ext cx="330120" cy="5745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prstDash val="dash"/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1"/>
            <p:cNvSpPr/>
            <p:nvPr/>
          </p:nvSpPr>
          <p:spPr>
            <a:xfrm>
              <a:off x="1547640" y="6129360"/>
              <a:ext cx="99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12"/>
          <p:cNvGrpSpPr/>
          <p:nvPr/>
        </p:nvGrpSpPr>
        <p:grpSpPr>
          <a:xfrm>
            <a:off x="503280" y="1031760"/>
            <a:ext cx="2016000" cy="4918320"/>
            <a:chOff x="503280" y="1031760"/>
            <a:chExt cx="2016000" cy="4918320"/>
          </a:xfrm>
        </p:grpSpPr>
        <p:sp>
          <p:nvSpPr>
            <p:cNvPr id="215" name="Text Box 13"/>
            <p:cNvSpPr/>
            <p:nvPr/>
          </p:nvSpPr>
          <p:spPr>
            <a:xfrm>
              <a:off x="898560" y="1104840"/>
              <a:ext cx="162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Group 14"/>
            <p:cNvGrpSpPr/>
            <p:nvPr/>
          </p:nvGrpSpPr>
          <p:grpSpPr>
            <a:xfrm>
              <a:off x="503280" y="1031760"/>
              <a:ext cx="360360" cy="4918320"/>
              <a:chOff x="503280" y="1031760"/>
              <a:chExt cx="360360" cy="4918320"/>
            </a:xfrm>
          </p:grpSpPr>
          <p:sp>
            <p:nvSpPr>
              <p:cNvPr id="217" name="Freeform 15"/>
              <p:cNvSpPr/>
              <p:nvPr/>
            </p:nvSpPr>
            <p:spPr>
              <a:xfrm>
                <a:off x="503280" y="1031760"/>
                <a:ext cx="330120" cy="491832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4918320"/>
                  <a:gd name="textAreaBottom" fmla="*/ 4918680 h 4918320"/>
                </a:gdLst>
                <a:ahLst/>
                <a:rect l="textAreaLeft" t="textAreaTop" r="textAreaRight" b="textAreaBottom"/>
                <a:pathLst>
                  <a:path w="1080" h="1440">
                    <a:moveTo>
                      <a:pt x="0" y="0"/>
                    </a:moveTo>
                    <a:lnTo>
                      <a:pt x="0" y="1440"/>
                    </a:lnTo>
                    <a:lnTo>
                      <a:pt x="1080" y="1440"/>
                    </a:ln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Line 16"/>
              <p:cNvSpPr/>
              <p:nvPr/>
            </p:nvSpPr>
            <p:spPr>
              <a:xfrm>
                <a:off x="503280" y="1573200"/>
                <a:ext cx="360360" cy="0"/>
              </a:xfrm>
              <a:prstGeom prst="line">
                <a:avLst/>
              </a:prstGeom>
              <a:ln w="22320">
                <a:solidFill>
                  <a:srgbClr val="8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Group 17"/>
          <p:cNvGrpSpPr/>
          <p:nvPr/>
        </p:nvGrpSpPr>
        <p:grpSpPr>
          <a:xfrm>
            <a:off x="1008000" y="1717560"/>
            <a:ext cx="1386000" cy="2266920"/>
            <a:chOff x="1008000" y="1717560"/>
            <a:chExt cx="1386000" cy="2266920"/>
          </a:xfrm>
        </p:grpSpPr>
        <p:sp>
          <p:nvSpPr>
            <p:cNvPr id="220" name="Text Box 18"/>
            <p:cNvSpPr/>
            <p:nvPr/>
          </p:nvSpPr>
          <p:spPr>
            <a:xfrm>
              <a:off x="1403280" y="1752480"/>
              <a:ext cx="99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9"/>
            <p:cNvSpPr/>
            <p:nvPr/>
          </p:nvSpPr>
          <p:spPr>
            <a:xfrm>
              <a:off x="1008000" y="1717560"/>
              <a:ext cx="330120" cy="2266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6920"/>
                <a:gd name="textAreaBottom" fmla="*/ 2267280 h 226692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1008000" y="222084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21"/>
          <p:cNvGrpSpPr/>
          <p:nvPr/>
        </p:nvGrpSpPr>
        <p:grpSpPr>
          <a:xfrm>
            <a:off x="1835280" y="4057560"/>
            <a:ext cx="1331640" cy="1336680"/>
            <a:chOff x="1835280" y="4057560"/>
            <a:chExt cx="1331640" cy="1336680"/>
          </a:xfrm>
        </p:grpSpPr>
        <p:sp>
          <p:nvSpPr>
            <p:cNvPr id="224" name="Text Box 22"/>
            <p:cNvSpPr/>
            <p:nvPr/>
          </p:nvSpPr>
          <p:spPr>
            <a:xfrm>
              <a:off x="2174760" y="4173480"/>
              <a:ext cx="9921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23"/>
            <p:cNvSpPr/>
            <p:nvPr/>
          </p:nvSpPr>
          <p:spPr>
            <a:xfrm>
              <a:off x="1836720" y="4057560"/>
              <a:ext cx="325440" cy="1336680"/>
            </a:xfrm>
            <a:custGeom>
              <a:avLst/>
              <a:gdLst>
                <a:gd name="textAreaLeft" fmla="*/ 0 w 325440"/>
                <a:gd name="textAreaRight" fmla="*/ 325440 w 32544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24"/>
            <p:cNvSpPr/>
            <p:nvPr/>
          </p:nvSpPr>
          <p:spPr>
            <a:xfrm>
              <a:off x="1835280" y="474192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25"/>
          <p:cNvGrpSpPr/>
          <p:nvPr/>
        </p:nvGrpSpPr>
        <p:grpSpPr>
          <a:xfrm>
            <a:off x="1835280" y="2384280"/>
            <a:ext cx="1331640" cy="1042920"/>
            <a:chOff x="1835280" y="2384280"/>
            <a:chExt cx="1331640" cy="1042920"/>
          </a:xfrm>
        </p:grpSpPr>
        <p:sp>
          <p:nvSpPr>
            <p:cNvPr id="228" name="Text Box 26"/>
            <p:cNvSpPr/>
            <p:nvPr/>
          </p:nvSpPr>
          <p:spPr>
            <a:xfrm>
              <a:off x="2174760" y="2419200"/>
              <a:ext cx="9921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27"/>
            <p:cNvSpPr/>
            <p:nvPr/>
          </p:nvSpPr>
          <p:spPr>
            <a:xfrm>
              <a:off x="1835280" y="2384280"/>
              <a:ext cx="330120" cy="1042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8"/>
            <p:cNvSpPr/>
            <p:nvPr/>
          </p:nvSpPr>
          <p:spPr>
            <a:xfrm>
              <a:off x="1835280" y="285084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30"/>
          <p:cNvGrpSpPr/>
          <p:nvPr/>
        </p:nvGrpSpPr>
        <p:grpSpPr>
          <a:xfrm>
            <a:off x="861840" y="1384200"/>
            <a:ext cx="7928280" cy="4761000"/>
            <a:chOff x="861840" y="1384200"/>
            <a:chExt cx="7928280" cy="4761000"/>
          </a:xfrm>
        </p:grpSpPr>
        <p:sp>
          <p:nvSpPr>
            <p:cNvPr id="232" name="Text Box 31"/>
            <p:cNvSpPr/>
            <p:nvPr/>
          </p:nvSpPr>
          <p:spPr>
            <a:xfrm>
              <a:off x="861840" y="1384200"/>
              <a:ext cx="75265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2. Население злоупотребляет алкоголем, молодежь употребляет наркотики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861840" y="5776920"/>
              <a:ext cx="792828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3. Услуги здравоохранения не оказываются на должном уровн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Text Box 33"/>
          <p:cNvSpPr/>
          <p:nvPr/>
        </p:nvSpPr>
        <p:spPr>
          <a:xfrm>
            <a:off x="366840" y="728640"/>
            <a:ext cx="720540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1. Высокий уровень смертности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34"/>
          <p:cNvGrpSpPr/>
          <p:nvPr/>
        </p:nvGrpSpPr>
        <p:grpSpPr>
          <a:xfrm>
            <a:off x="1357200" y="2021040"/>
            <a:ext cx="6607440" cy="4792680"/>
            <a:chOff x="1357200" y="2021040"/>
            <a:chExt cx="6607440" cy="4792680"/>
          </a:xfrm>
        </p:grpSpPr>
        <p:sp>
          <p:nvSpPr>
            <p:cNvPr id="236" name="Text Box 35"/>
            <p:cNvSpPr/>
            <p:nvPr/>
          </p:nvSpPr>
          <p:spPr>
            <a:xfrm>
              <a:off x="1522440" y="6445440"/>
              <a:ext cx="47894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………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1357200" y="2021040"/>
              <a:ext cx="478944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4. Пьянство – устоявшийся вид отдых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37"/>
            <p:cNvSpPr/>
            <p:nvPr/>
          </p:nvSpPr>
          <p:spPr>
            <a:xfrm>
              <a:off x="1357200" y="3781440"/>
              <a:ext cx="6607440" cy="368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5. Наркотики закрепляются как элемент молодежной культуры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0A4F-8620-402D-81B6-769A7EF253B5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79280" y="302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Метод последовательных «почему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актическое задание (раздаточный материа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2192400" y="2673360"/>
            <a:ext cx="6772320" cy="944280"/>
            <a:chOff x="2192400" y="2673360"/>
            <a:chExt cx="6772320" cy="944280"/>
          </a:xfrm>
        </p:grpSpPr>
        <p:sp>
          <p:nvSpPr>
            <p:cNvPr id="242" name="Text Box 4"/>
            <p:cNvSpPr/>
            <p:nvPr/>
          </p:nvSpPr>
          <p:spPr>
            <a:xfrm>
              <a:off x="2192400" y="26733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6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"/>
            <p:cNvSpPr/>
            <p:nvPr/>
          </p:nvSpPr>
          <p:spPr>
            <a:xfrm>
              <a:off x="2192400" y="32493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7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Group 6"/>
          <p:cNvGrpSpPr/>
          <p:nvPr/>
        </p:nvGrpSpPr>
        <p:grpSpPr>
          <a:xfrm>
            <a:off x="2192400" y="4449600"/>
            <a:ext cx="6772320" cy="1119240"/>
            <a:chOff x="2192400" y="4449600"/>
            <a:chExt cx="6772320" cy="1119240"/>
          </a:xfrm>
        </p:grpSpPr>
        <p:sp>
          <p:nvSpPr>
            <p:cNvPr id="245" name="Text Box 7"/>
            <p:cNvSpPr/>
            <p:nvPr/>
          </p:nvSpPr>
          <p:spPr>
            <a:xfrm>
              <a:off x="2192400" y="4449600"/>
              <a:ext cx="6772320" cy="5083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8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2192400" y="52005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9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9"/>
          <p:cNvGrpSpPr/>
          <p:nvPr/>
        </p:nvGrpSpPr>
        <p:grpSpPr>
          <a:xfrm>
            <a:off x="1192320" y="6058080"/>
            <a:ext cx="1346040" cy="574560"/>
            <a:chOff x="1192320" y="6058080"/>
            <a:chExt cx="1346040" cy="574560"/>
          </a:xfrm>
        </p:grpSpPr>
        <p:sp>
          <p:nvSpPr>
            <p:cNvPr id="248" name="Freeform 10"/>
            <p:cNvSpPr/>
            <p:nvPr/>
          </p:nvSpPr>
          <p:spPr>
            <a:xfrm>
              <a:off x="1192320" y="6058080"/>
              <a:ext cx="330120" cy="5745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prstDash val="dash"/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11"/>
            <p:cNvSpPr/>
            <p:nvPr/>
          </p:nvSpPr>
          <p:spPr>
            <a:xfrm>
              <a:off x="1547640" y="6129360"/>
              <a:ext cx="99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2"/>
          <p:cNvGrpSpPr/>
          <p:nvPr/>
        </p:nvGrpSpPr>
        <p:grpSpPr>
          <a:xfrm>
            <a:off x="503280" y="1031760"/>
            <a:ext cx="2016000" cy="4918320"/>
            <a:chOff x="503280" y="1031760"/>
            <a:chExt cx="2016000" cy="4918320"/>
          </a:xfrm>
        </p:grpSpPr>
        <p:sp>
          <p:nvSpPr>
            <p:cNvPr id="251" name="Text Box 13"/>
            <p:cNvSpPr/>
            <p:nvPr/>
          </p:nvSpPr>
          <p:spPr>
            <a:xfrm>
              <a:off x="898560" y="1104840"/>
              <a:ext cx="162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14"/>
            <p:cNvGrpSpPr/>
            <p:nvPr/>
          </p:nvGrpSpPr>
          <p:grpSpPr>
            <a:xfrm>
              <a:off x="503280" y="1031760"/>
              <a:ext cx="360360" cy="4918320"/>
              <a:chOff x="503280" y="1031760"/>
              <a:chExt cx="360360" cy="4918320"/>
            </a:xfrm>
          </p:grpSpPr>
          <p:sp>
            <p:nvSpPr>
              <p:cNvPr id="253" name="Freeform 15"/>
              <p:cNvSpPr/>
              <p:nvPr/>
            </p:nvSpPr>
            <p:spPr>
              <a:xfrm>
                <a:off x="503280" y="1031760"/>
                <a:ext cx="330120" cy="491832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4918320"/>
                  <a:gd name="textAreaBottom" fmla="*/ 4918680 h 4918320"/>
                </a:gdLst>
                <a:ahLst/>
                <a:rect l="textAreaLeft" t="textAreaTop" r="textAreaRight" b="textAreaBottom"/>
                <a:pathLst>
                  <a:path w="1080" h="1440">
                    <a:moveTo>
                      <a:pt x="0" y="0"/>
                    </a:moveTo>
                    <a:lnTo>
                      <a:pt x="0" y="1440"/>
                    </a:lnTo>
                    <a:lnTo>
                      <a:pt x="1080" y="1440"/>
                    </a:ln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16"/>
              <p:cNvSpPr/>
              <p:nvPr/>
            </p:nvSpPr>
            <p:spPr>
              <a:xfrm>
                <a:off x="503280" y="1573200"/>
                <a:ext cx="360360" cy="0"/>
              </a:xfrm>
              <a:prstGeom prst="line">
                <a:avLst/>
              </a:prstGeom>
              <a:ln w="22320">
                <a:solidFill>
                  <a:srgbClr val="8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" name="Group 17"/>
          <p:cNvGrpSpPr/>
          <p:nvPr/>
        </p:nvGrpSpPr>
        <p:grpSpPr>
          <a:xfrm>
            <a:off x="1008000" y="1717560"/>
            <a:ext cx="1386000" cy="2266920"/>
            <a:chOff x="1008000" y="1717560"/>
            <a:chExt cx="1386000" cy="2266920"/>
          </a:xfrm>
        </p:grpSpPr>
        <p:sp>
          <p:nvSpPr>
            <p:cNvPr id="256" name="Text Box 18"/>
            <p:cNvSpPr/>
            <p:nvPr/>
          </p:nvSpPr>
          <p:spPr>
            <a:xfrm>
              <a:off x="1403280" y="1752480"/>
              <a:ext cx="99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19"/>
            <p:cNvSpPr/>
            <p:nvPr/>
          </p:nvSpPr>
          <p:spPr>
            <a:xfrm>
              <a:off x="1008000" y="1717560"/>
              <a:ext cx="330120" cy="2266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6920"/>
                <a:gd name="textAreaBottom" fmla="*/ 2267280 h 226692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20"/>
            <p:cNvSpPr/>
            <p:nvPr/>
          </p:nvSpPr>
          <p:spPr>
            <a:xfrm>
              <a:off x="1008000" y="222084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21"/>
          <p:cNvGrpSpPr/>
          <p:nvPr/>
        </p:nvGrpSpPr>
        <p:grpSpPr>
          <a:xfrm>
            <a:off x="1835280" y="4057560"/>
            <a:ext cx="1331640" cy="1336680"/>
            <a:chOff x="1835280" y="4057560"/>
            <a:chExt cx="1331640" cy="1336680"/>
          </a:xfrm>
        </p:grpSpPr>
        <p:sp>
          <p:nvSpPr>
            <p:cNvPr id="260" name="Text Box 22"/>
            <p:cNvSpPr/>
            <p:nvPr/>
          </p:nvSpPr>
          <p:spPr>
            <a:xfrm>
              <a:off x="2174760" y="4173480"/>
              <a:ext cx="9921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23"/>
            <p:cNvSpPr/>
            <p:nvPr/>
          </p:nvSpPr>
          <p:spPr>
            <a:xfrm>
              <a:off x="1836720" y="4057560"/>
              <a:ext cx="325440" cy="1336680"/>
            </a:xfrm>
            <a:custGeom>
              <a:avLst/>
              <a:gdLst>
                <a:gd name="textAreaLeft" fmla="*/ 0 w 325440"/>
                <a:gd name="textAreaRight" fmla="*/ 325440 w 32544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24"/>
            <p:cNvSpPr/>
            <p:nvPr/>
          </p:nvSpPr>
          <p:spPr>
            <a:xfrm>
              <a:off x="1835280" y="474192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Group 25"/>
          <p:cNvGrpSpPr/>
          <p:nvPr/>
        </p:nvGrpSpPr>
        <p:grpSpPr>
          <a:xfrm>
            <a:off x="1835280" y="2384280"/>
            <a:ext cx="1331640" cy="1042920"/>
            <a:chOff x="1835280" y="2384280"/>
            <a:chExt cx="1331640" cy="1042920"/>
          </a:xfrm>
        </p:grpSpPr>
        <p:sp>
          <p:nvSpPr>
            <p:cNvPr id="264" name="Text Box 26"/>
            <p:cNvSpPr/>
            <p:nvPr/>
          </p:nvSpPr>
          <p:spPr>
            <a:xfrm>
              <a:off x="2174760" y="2419200"/>
              <a:ext cx="9921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27"/>
            <p:cNvSpPr/>
            <p:nvPr/>
          </p:nvSpPr>
          <p:spPr>
            <a:xfrm>
              <a:off x="1835280" y="2384280"/>
              <a:ext cx="330120" cy="1042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8"/>
            <p:cNvSpPr/>
            <p:nvPr/>
          </p:nvSpPr>
          <p:spPr>
            <a:xfrm>
              <a:off x="1835280" y="285084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30"/>
          <p:cNvGrpSpPr/>
          <p:nvPr/>
        </p:nvGrpSpPr>
        <p:grpSpPr>
          <a:xfrm>
            <a:off x="887400" y="1297080"/>
            <a:ext cx="7927920" cy="4761000"/>
            <a:chOff x="887400" y="1297080"/>
            <a:chExt cx="7927920" cy="4761000"/>
          </a:xfrm>
        </p:grpSpPr>
        <p:sp>
          <p:nvSpPr>
            <p:cNvPr id="268" name="Text Box 31"/>
            <p:cNvSpPr/>
            <p:nvPr/>
          </p:nvSpPr>
          <p:spPr>
            <a:xfrm>
              <a:off x="887400" y="1297080"/>
              <a:ext cx="752616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2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32"/>
            <p:cNvSpPr/>
            <p:nvPr/>
          </p:nvSpPr>
          <p:spPr>
            <a:xfrm>
              <a:off x="887400" y="5689800"/>
              <a:ext cx="79279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3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33"/>
          <p:cNvSpPr/>
          <p:nvPr/>
        </p:nvSpPr>
        <p:spPr>
          <a:xfrm>
            <a:off x="366840" y="728640"/>
            <a:ext cx="720540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Group 34"/>
          <p:cNvGrpSpPr/>
          <p:nvPr/>
        </p:nvGrpSpPr>
        <p:grpSpPr>
          <a:xfrm>
            <a:off x="1357200" y="2021040"/>
            <a:ext cx="6607440" cy="4792680"/>
            <a:chOff x="1357200" y="2021040"/>
            <a:chExt cx="6607440" cy="4792680"/>
          </a:xfrm>
        </p:grpSpPr>
        <p:sp>
          <p:nvSpPr>
            <p:cNvPr id="272" name="Text Box 35"/>
            <p:cNvSpPr/>
            <p:nvPr/>
          </p:nvSpPr>
          <p:spPr>
            <a:xfrm>
              <a:off x="1522440" y="6445440"/>
              <a:ext cx="47894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………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36"/>
            <p:cNvSpPr/>
            <p:nvPr/>
          </p:nvSpPr>
          <p:spPr>
            <a:xfrm>
              <a:off x="1357200" y="2021040"/>
              <a:ext cx="478944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37"/>
            <p:cNvSpPr/>
            <p:nvPr/>
          </p:nvSpPr>
          <p:spPr>
            <a:xfrm>
              <a:off x="1357200" y="3781440"/>
              <a:ext cx="6607440" cy="368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5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0" y="30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ение связей между проблем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3" descr="Связи"/>
          <p:cNvPicPr/>
          <p:nvPr/>
        </p:nvPicPr>
        <p:blipFill>
          <a:blip r:embed="rId1"/>
          <a:stretch/>
        </p:blipFill>
        <p:spPr>
          <a:xfrm>
            <a:off x="1519200" y="1123920"/>
            <a:ext cx="61056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424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знание уму не научае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омоносов М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ject 3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029200" cy="45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690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горитм построения модели анали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447560"/>
            <a:ext cx="857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цели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ретизация (выделение предм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змерителей, определение инструментов, которые будут использоваться на этапе сбора и обработки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последовательности шагов и построение плана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реаль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ение реальной ситуации с эталоном (соотнесение с целью), оценка, обработка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ирование вы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1828800" y="990720"/>
          <a:ext cx="548640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0720"/>
                    <a:ext cx="5486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3"/>
          <p:cNvGraphicFramePr/>
          <p:nvPr/>
        </p:nvGraphicFramePr>
        <p:xfrm>
          <a:off x="906480" y="228600"/>
          <a:ext cx="2438280" cy="601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6480" y="228600"/>
                    <a:ext cx="24382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4"/>
          <p:cNvGraphicFramePr/>
          <p:nvPr/>
        </p:nvGraphicFramePr>
        <p:xfrm>
          <a:off x="914400" y="1219320"/>
          <a:ext cx="7618320" cy="472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1219320"/>
                    <a:ext cx="7618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600" y="2806200"/>
            <a:ext cx="678168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ЦЕЛЬ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2440" y="4419360"/>
            <a:ext cx="83707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Ц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Л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это конечный желаемы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планируемый результа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Object 3" descr=""/>
          <p:cNvPicPr/>
          <p:nvPr/>
        </p:nvPicPr>
        <p:blipFill>
          <a:blip r:embed="rId1"/>
          <a:stretch/>
        </p:blipFill>
        <p:spPr>
          <a:xfrm>
            <a:off x="2808360" y="798480"/>
            <a:ext cx="37782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0920" y="1268280"/>
            <a:ext cx="659304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 один ветер не является попутным дл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абля, который не знает пункт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его назнач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н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Object 3"/>
          <p:cNvGraphicFramePr/>
          <p:nvPr/>
        </p:nvGraphicFramePr>
        <p:xfrm>
          <a:off x="324000" y="1197000"/>
          <a:ext cx="8076960" cy="54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07696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4"/>
          <p:cNvSpPr/>
          <p:nvPr/>
        </p:nvSpPr>
        <p:spPr>
          <a:xfrm>
            <a:off x="5396040" y="249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45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 Хопкинс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99512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ланируйте свое будущ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место того, чтобы волноваться за н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http://www.hdoboi.org/pic/201307/1024x600/hdoboi.org-8712.jpg"/>
          <p:cNvPicPr/>
          <p:nvPr/>
        </p:nvPicPr>
        <p:blipFill>
          <a:blip r:embed="rId1"/>
          <a:stretch/>
        </p:blipFill>
        <p:spPr>
          <a:xfrm>
            <a:off x="5791320" y="98280"/>
            <a:ext cx="32256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сли Вы хотите получить посредственные результаты, то установите посредственные це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400"/>
            </a:br>
            <a:br>
              <a:rPr sz="3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А. Томпсон, А.ДЖ. Стрикленд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тегический менеджмен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Object 3" descr=""/>
          <p:cNvPicPr/>
          <p:nvPr/>
        </p:nvPicPr>
        <p:blipFill>
          <a:blip r:embed="rId1"/>
          <a:stretch/>
        </p:blipFill>
        <p:spPr>
          <a:xfrm>
            <a:off x="2467080" y="3886200"/>
            <a:ext cx="1317600" cy="2755800"/>
          </a:xfrm>
          <a:prstGeom prst="rect">
            <a:avLst/>
          </a:prstGeom>
          <a:ln w="0">
            <a:noFill/>
          </a:ln>
        </p:spPr>
      </p:pic>
      <p:sp>
        <p:nvSpPr>
          <p:cNvPr id="297" name="Freeform 4"/>
          <p:cNvSpPr/>
          <p:nvPr/>
        </p:nvSpPr>
        <p:spPr>
          <a:xfrm>
            <a:off x="5219640" y="2781360"/>
            <a:ext cx="3657600" cy="37339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733920"/>
              <a:gd name="textAreaBottom" fmla="*/ 3734280 h 3733920"/>
            </a:gdLst>
            <a:ahLst/>
            <a:rect l="textAreaLeft" t="textAreaTop" r="textAreaRight" b="textAreaBottom"/>
            <a:pathLst>
              <a:path w="1211" h="1159">
                <a:moveTo>
                  <a:pt x="0" y="147"/>
                </a:moveTo>
                <a:lnTo>
                  <a:pt x="125" y="1159"/>
                </a:lnTo>
                <a:lnTo>
                  <a:pt x="1211" y="1048"/>
                </a:lnTo>
                <a:lnTo>
                  <a:pt x="1136" y="0"/>
                </a:lnTo>
                <a:lnTo>
                  <a:pt x="0" y="147"/>
                </a:lnTo>
                <a:close/>
              </a:path>
            </a:pathLst>
          </a:custGeom>
          <a:solidFill>
            <a:srgbClr val="82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5"/>
          <p:cNvSpPr/>
          <p:nvPr/>
        </p:nvSpPr>
        <p:spPr>
          <a:xfrm>
            <a:off x="5249880" y="3413160"/>
            <a:ext cx="3124080" cy="22716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403" h="1062">
                <a:moveTo>
                  <a:pt x="1394" y="999"/>
                </a:moveTo>
                <a:lnTo>
                  <a:pt x="1090" y="677"/>
                </a:lnTo>
                <a:lnTo>
                  <a:pt x="1064" y="648"/>
                </a:lnTo>
                <a:lnTo>
                  <a:pt x="1037" y="679"/>
                </a:lnTo>
                <a:lnTo>
                  <a:pt x="980" y="742"/>
                </a:lnTo>
                <a:lnTo>
                  <a:pt x="960" y="722"/>
                </a:lnTo>
                <a:lnTo>
                  <a:pt x="939" y="698"/>
                </a:lnTo>
                <a:lnTo>
                  <a:pt x="912" y="720"/>
                </a:lnTo>
                <a:lnTo>
                  <a:pt x="903" y="727"/>
                </a:lnTo>
                <a:lnTo>
                  <a:pt x="720" y="356"/>
                </a:lnTo>
                <a:lnTo>
                  <a:pt x="698" y="313"/>
                </a:lnTo>
                <a:lnTo>
                  <a:pt x="662" y="344"/>
                </a:lnTo>
                <a:lnTo>
                  <a:pt x="623" y="378"/>
                </a:lnTo>
                <a:lnTo>
                  <a:pt x="433" y="58"/>
                </a:lnTo>
                <a:lnTo>
                  <a:pt x="400" y="0"/>
                </a:lnTo>
                <a:lnTo>
                  <a:pt x="368" y="60"/>
                </a:lnTo>
                <a:lnTo>
                  <a:pt x="308" y="180"/>
                </a:lnTo>
                <a:lnTo>
                  <a:pt x="231" y="33"/>
                </a:lnTo>
                <a:lnTo>
                  <a:pt x="214" y="0"/>
                </a:lnTo>
                <a:lnTo>
                  <a:pt x="181" y="17"/>
                </a:lnTo>
                <a:lnTo>
                  <a:pt x="19" y="108"/>
                </a:lnTo>
                <a:lnTo>
                  <a:pt x="7" y="118"/>
                </a:lnTo>
                <a:lnTo>
                  <a:pt x="3" y="132"/>
                </a:lnTo>
                <a:lnTo>
                  <a:pt x="0" y="144"/>
                </a:lnTo>
                <a:lnTo>
                  <a:pt x="5" y="159"/>
                </a:lnTo>
                <a:lnTo>
                  <a:pt x="15" y="171"/>
                </a:lnTo>
                <a:lnTo>
                  <a:pt x="27" y="176"/>
                </a:lnTo>
                <a:lnTo>
                  <a:pt x="41" y="178"/>
                </a:lnTo>
                <a:lnTo>
                  <a:pt x="56" y="173"/>
                </a:lnTo>
                <a:lnTo>
                  <a:pt x="185" y="101"/>
                </a:lnTo>
                <a:lnTo>
                  <a:pt x="277" y="279"/>
                </a:lnTo>
                <a:lnTo>
                  <a:pt x="311" y="342"/>
                </a:lnTo>
                <a:lnTo>
                  <a:pt x="342" y="277"/>
                </a:lnTo>
                <a:lnTo>
                  <a:pt x="404" y="154"/>
                </a:lnTo>
                <a:lnTo>
                  <a:pt x="583" y="455"/>
                </a:lnTo>
                <a:lnTo>
                  <a:pt x="604" y="494"/>
                </a:lnTo>
                <a:lnTo>
                  <a:pt x="638" y="465"/>
                </a:lnTo>
                <a:lnTo>
                  <a:pt x="674" y="431"/>
                </a:lnTo>
                <a:lnTo>
                  <a:pt x="857" y="802"/>
                </a:lnTo>
                <a:lnTo>
                  <a:pt x="876" y="843"/>
                </a:lnTo>
                <a:lnTo>
                  <a:pt x="912" y="814"/>
                </a:lnTo>
                <a:lnTo>
                  <a:pt x="931" y="797"/>
                </a:lnTo>
                <a:lnTo>
                  <a:pt x="956" y="821"/>
                </a:lnTo>
                <a:lnTo>
                  <a:pt x="982" y="848"/>
                </a:lnTo>
                <a:lnTo>
                  <a:pt x="1009" y="819"/>
                </a:lnTo>
                <a:lnTo>
                  <a:pt x="1064" y="756"/>
                </a:lnTo>
                <a:lnTo>
                  <a:pt x="1341" y="1050"/>
                </a:lnTo>
                <a:lnTo>
                  <a:pt x="1353" y="1057"/>
                </a:lnTo>
                <a:lnTo>
                  <a:pt x="1367" y="1062"/>
                </a:lnTo>
                <a:lnTo>
                  <a:pt x="1379" y="1060"/>
                </a:lnTo>
                <a:lnTo>
                  <a:pt x="1391" y="1052"/>
                </a:lnTo>
                <a:lnTo>
                  <a:pt x="1401" y="1040"/>
                </a:lnTo>
                <a:lnTo>
                  <a:pt x="1403" y="1026"/>
                </a:lnTo>
                <a:lnTo>
                  <a:pt x="1401" y="1011"/>
                </a:lnTo>
                <a:lnTo>
                  <a:pt x="1394" y="9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2124000" y="9360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Принципы целеполаг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8687880" y="68400"/>
            <a:ext cx="38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71280" y="1700280"/>
            <a:ext cx="892836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Group 33"/>
          <p:cNvGrpSpPr/>
          <p:nvPr/>
        </p:nvGrpSpPr>
        <p:grpSpPr>
          <a:xfrm>
            <a:off x="1928880" y="2857680"/>
            <a:ext cx="5214960" cy="459720"/>
            <a:chOff x="1928880" y="2857680"/>
            <a:chExt cx="5214960" cy="459720"/>
          </a:xfrm>
        </p:grpSpPr>
        <p:sp>
          <p:nvSpPr>
            <p:cNvPr id="303" name="Text Box 7"/>
            <p:cNvSpPr/>
            <p:nvPr/>
          </p:nvSpPr>
          <p:spPr>
            <a:xfrm>
              <a:off x="1928880" y="2857680"/>
              <a:ext cx="15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pecif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2"/>
            <p:cNvSpPr/>
            <p:nvPr/>
          </p:nvSpPr>
          <p:spPr>
            <a:xfrm>
              <a:off x="4551480" y="2889360"/>
              <a:ext cx="25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Конкретн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Text Box 16"/>
          <p:cNvSpPr/>
          <p:nvPr/>
        </p:nvSpPr>
        <p:spPr>
          <a:xfrm>
            <a:off x="1698480" y="1125360"/>
            <a:ext cx="57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Нельзя управлять тем, чего нельзя измер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34"/>
          <p:cNvGrpSpPr/>
          <p:nvPr/>
        </p:nvGrpSpPr>
        <p:grpSpPr>
          <a:xfrm>
            <a:off x="2071800" y="3500280"/>
            <a:ext cx="5000040" cy="459720"/>
            <a:chOff x="2071800" y="3500280"/>
            <a:chExt cx="5000040" cy="459720"/>
          </a:xfrm>
        </p:grpSpPr>
        <p:sp>
          <p:nvSpPr>
            <p:cNvPr id="307" name="Text Box 6"/>
            <p:cNvSpPr/>
            <p:nvPr/>
          </p:nvSpPr>
          <p:spPr>
            <a:xfrm>
              <a:off x="4624920" y="3532320"/>
              <a:ext cx="24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Измерим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22"/>
            <p:cNvSpPr/>
            <p:nvPr/>
          </p:nvSpPr>
          <p:spPr>
            <a:xfrm>
              <a:off x="2071800" y="3500280"/>
              <a:ext cx="17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easu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35"/>
          <p:cNvGrpSpPr/>
          <p:nvPr/>
        </p:nvGrpSpPr>
        <p:grpSpPr>
          <a:xfrm>
            <a:off x="2041560" y="4165560"/>
            <a:ext cx="5087880" cy="482040"/>
            <a:chOff x="2041560" y="4165560"/>
            <a:chExt cx="5087880" cy="482040"/>
          </a:xfrm>
        </p:grpSpPr>
        <p:sp>
          <p:nvSpPr>
            <p:cNvPr id="310" name="Text Box 13"/>
            <p:cNvSpPr/>
            <p:nvPr/>
          </p:nvSpPr>
          <p:spPr>
            <a:xfrm>
              <a:off x="4859280" y="4165560"/>
              <a:ext cx="22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Согласованн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23"/>
            <p:cNvSpPr/>
            <p:nvPr/>
          </p:nvSpPr>
          <p:spPr>
            <a:xfrm>
              <a:off x="2041560" y="4187880"/>
              <a:ext cx="15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ccord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36"/>
          <p:cNvGrpSpPr/>
          <p:nvPr/>
        </p:nvGrpSpPr>
        <p:grpSpPr>
          <a:xfrm>
            <a:off x="1965240" y="4830840"/>
            <a:ext cx="5167440" cy="470160"/>
            <a:chOff x="1965240" y="4830840"/>
            <a:chExt cx="5167440" cy="470160"/>
          </a:xfrm>
        </p:grpSpPr>
        <p:sp>
          <p:nvSpPr>
            <p:cNvPr id="313" name="Text Box 14"/>
            <p:cNvSpPr/>
            <p:nvPr/>
          </p:nvSpPr>
          <p:spPr>
            <a:xfrm>
              <a:off x="4862520" y="4902120"/>
              <a:ext cx="22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Достижим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24"/>
            <p:cNvSpPr/>
            <p:nvPr/>
          </p:nvSpPr>
          <p:spPr>
            <a:xfrm>
              <a:off x="1965240" y="4830840"/>
              <a:ext cx="15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eal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Group 37"/>
          <p:cNvGrpSpPr/>
          <p:nvPr/>
        </p:nvGrpSpPr>
        <p:grpSpPr>
          <a:xfrm>
            <a:off x="2214720" y="5562720"/>
            <a:ext cx="6499800" cy="459720"/>
            <a:chOff x="2214720" y="5562720"/>
            <a:chExt cx="6499800" cy="459720"/>
          </a:xfrm>
        </p:grpSpPr>
        <p:sp>
          <p:nvSpPr>
            <p:cNvPr id="316" name="Text Box 15"/>
            <p:cNvSpPr/>
            <p:nvPr/>
          </p:nvSpPr>
          <p:spPr>
            <a:xfrm>
              <a:off x="4429080" y="5587920"/>
              <a:ext cx="428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Определенность во времен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25"/>
            <p:cNvSpPr/>
            <p:nvPr/>
          </p:nvSpPr>
          <p:spPr>
            <a:xfrm>
              <a:off x="2214720" y="5562720"/>
              <a:ext cx="175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ime-boun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38"/>
          <p:cNvGrpSpPr/>
          <p:nvPr/>
        </p:nvGrpSpPr>
        <p:grpSpPr>
          <a:xfrm>
            <a:off x="1928880" y="2028960"/>
            <a:ext cx="3605760" cy="3992400"/>
            <a:chOff x="1928880" y="2028960"/>
            <a:chExt cx="3605760" cy="3992400"/>
          </a:xfrm>
        </p:grpSpPr>
        <p:sp>
          <p:nvSpPr>
            <p:cNvPr id="319" name="Text Box 17"/>
            <p:cNvSpPr/>
            <p:nvPr/>
          </p:nvSpPr>
          <p:spPr>
            <a:xfrm>
              <a:off x="1928880" y="282240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1928880" y="347040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1928880" y="414324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20"/>
            <p:cNvSpPr/>
            <p:nvPr/>
          </p:nvSpPr>
          <p:spPr>
            <a:xfrm>
              <a:off x="1928880" y="478620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21"/>
            <p:cNvSpPr/>
            <p:nvPr/>
          </p:nvSpPr>
          <p:spPr>
            <a:xfrm>
              <a:off x="1928880" y="550080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32"/>
            <p:cNvSpPr/>
            <p:nvPr/>
          </p:nvSpPr>
          <p:spPr>
            <a:xfrm>
              <a:off x="2358360" y="2028960"/>
              <a:ext cx="31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a50021"/>
                  </a:solidFill>
                  <a:uFillTx/>
                  <a:latin typeface="Times New Roman"/>
                </a:rPr>
                <a:t>Требования к целям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611280" y="-2700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блемно-целевое управление организац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675000" y="1341360"/>
            <a:ext cx="353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тологии проявляются в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207440" y="1846440"/>
            <a:ext cx="478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худшении финансовых результ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830160" y="184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1222560" y="2349360"/>
            <a:ext cx="487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и охватываемой доли ры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830160" y="234936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1235520" y="2852640"/>
            <a:ext cx="622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астании внутриорганизационной депресс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9"/>
          <p:cNvSpPr/>
          <p:nvPr/>
        </p:nvSpPr>
        <p:spPr>
          <a:xfrm>
            <a:off x="830160" y="184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830160" y="234936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830160" y="184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2"/>
          <p:cNvSpPr/>
          <p:nvPr/>
        </p:nvSpPr>
        <p:spPr>
          <a:xfrm>
            <a:off x="830160" y="2852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3"/>
          <p:cNvSpPr/>
          <p:nvPr/>
        </p:nvSpPr>
        <p:spPr>
          <a:xfrm>
            <a:off x="830160" y="234936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14"/>
          <p:cNvSpPr/>
          <p:nvPr/>
        </p:nvSpPr>
        <p:spPr>
          <a:xfrm>
            <a:off x="830160" y="184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657360" y="3716280"/>
            <a:ext cx="509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ая доля патологий обусловлен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16"/>
          <p:cNvSpPr/>
          <p:nvPr/>
        </p:nvSpPr>
        <p:spPr>
          <a:xfrm>
            <a:off x="830160" y="4149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7"/>
          <p:cNvSpPr/>
          <p:nvPr/>
        </p:nvSpPr>
        <p:spPr>
          <a:xfrm>
            <a:off x="1333440" y="4149720"/>
            <a:ext cx="664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сутствием реакции на изменение внешн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18"/>
          <p:cNvSpPr/>
          <p:nvPr/>
        </p:nvSpPr>
        <p:spPr>
          <a:xfrm>
            <a:off x="830160" y="465300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9"/>
          <p:cNvSpPr/>
          <p:nvPr/>
        </p:nvSpPr>
        <p:spPr>
          <a:xfrm>
            <a:off x="1310040" y="4648320"/>
            <a:ext cx="7047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адекватность реакции на изменения внешн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20"/>
          <p:cNvSpPr/>
          <p:nvPr/>
        </p:nvSpPr>
        <p:spPr>
          <a:xfrm>
            <a:off x="826920" y="5157720"/>
            <a:ext cx="28764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1307160" y="5151600"/>
            <a:ext cx="7779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воевременностью реакции на изменения внешн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22"/>
          <p:cNvSpPr/>
          <p:nvPr/>
        </p:nvSpPr>
        <p:spPr>
          <a:xfrm>
            <a:off x="826920" y="5661000"/>
            <a:ext cx="28764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1287000" y="5656320"/>
            <a:ext cx="677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ной реакцией на изменения внешн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AutoShape 2"/>
          <p:cNvSpPr/>
          <p:nvPr/>
        </p:nvSpPr>
        <p:spPr>
          <a:xfrm>
            <a:off x="3587760" y="82440"/>
            <a:ext cx="901800" cy="825480"/>
          </a:xfrm>
          <a:custGeom>
            <a:avLst/>
            <a:gdLst>
              <a:gd name="textAreaLeft" fmla="*/ 205920 w 901800"/>
              <a:gd name="textAreaRight" fmla="*/ 695880 w 901800"/>
              <a:gd name="textAreaTop" fmla="*/ 188280 h 825480"/>
              <a:gd name="textAreaBottom" fmla="*/ 637200 h 82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3"/>
          <p:cNvSpPr/>
          <p:nvPr/>
        </p:nvSpPr>
        <p:spPr>
          <a:xfrm>
            <a:off x="1149480" y="844560"/>
            <a:ext cx="5778360" cy="5702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4"/>
          <p:cNvSpPr/>
          <p:nvPr/>
        </p:nvSpPr>
        <p:spPr>
          <a:xfrm flipV="1">
            <a:off x="1987560" y="2595960"/>
            <a:ext cx="4102200" cy="2273400"/>
          </a:xfrm>
          <a:custGeom>
            <a:avLst/>
            <a:gdLst>
              <a:gd name="textAreaLeft" fmla="*/ 924120 w 4102200"/>
              <a:gd name="textAreaRight" fmla="*/ 3178080 w 4102200"/>
              <a:gd name="textAreaTop" fmla="*/ 512280 h 2273400"/>
              <a:gd name="textAreaBottom" fmla="*/ 1761120 h 227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133" y="21600"/>
                </a:lnTo>
                <a:lnTo>
                  <a:pt x="1546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3968640" y="6026040"/>
            <a:ext cx="1282680" cy="520920"/>
          </a:xfrm>
          <a:prstGeom prst="rightArrow">
            <a:avLst>
              <a:gd name="adj1" fmla="val 75009"/>
              <a:gd name="adj2" fmla="val 12312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6"/>
          <p:cNvSpPr/>
          <p:nvPr/>
        </p:nvSpPr>
        <p:spPr>
          <a:xfrm rot="2220000">
            <a:off x="4807080" y="3435480"/>
            <a:ext cx="1282680" cy="520560"/>
          </a:xfrm>
          <a:prstGeom prst="rightArrow">
            <a:avLst>
              <a:gd name="adj1" fmla="val 75009"/>
              <a:gd name="adj2" fmla="val 12321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7"/>
          <p:cNvSpPr/>
          <p:nvPr/>
        </p:nvSpPr>
        <p:spPr>
          <a:xfrm rot="19680000">
            <a:off x="3739680" y="2749680"/>
            <a:ext cx="1282680" cy="520560"/>
          </a:xfrm>
          <a:prstGeom prst="rightArrow">
            <a:avLst>
              <a:gd name="adj1" fmla="val 75009"/>
              <a:gd name="adj2" fmla="val 12321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8"/>
          <p:cNvSpPr/>
          <p:nvPr/>
        </p:nvSpPr>
        <p:spPr>
          <a:xfrm>
            <a:off x="2673360" y="4730760"/>
            <a:ext cx="368280" cy="596880"/>
          </a:xfrm>
          <a:prstGeom prst="upArrow">
            <a:avLst>
              <a:gd name="adj1" fmla="val 75009"/>
              <a:gd name="adj2" fmla="val 8102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9"/>
          <p:cNvSpPr/>
          <p:nvPr/>
        </p:nvSpPr>
        <p:spPr>
          <a:xfrm>
            <a:off x="2901960" y="3435480"/>
            <a:ext cx="520560" cy="901440"/>
          </a:xfrm>
          <a:prstGeom prst="downArrow">
            <a:avLst>
              <a:gd name="adj1" fmla="val 75009"/>
              <a:gd name="adj2" fmla="val 8659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10"/>
          <p:cNvSpPr/>
          <p:nvPr/>
        </p:nvSpPr>
        <p:spPr>
          <a:xfrm>
            <a:off x="5568840" y="5340240"/>
            <a:ext cx="368280" cy="673200"/>
          </a:xfrm>
          <a:prstGeom prst="downArrow">
            <a:avLst>
              <a:gd name="adj1" fmla="val 75009"/>
              <a:gd name="adj2" fmla="val 9140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11"/>
          <p:cNvSpPr/>
          <p:nvPr/>
        </p:nvSpPr>
        <p:spPr>
          <a:xfrm>
            <a:off x="5264280" y="6102360"/>
            <a:ext cx="672840" cy="368280"/>
          </a:xfrm>
          <a:prstGeom prst="leftArrow">
            <a:avLst>
              <a:gd name="adj1" fmla="val 75009"/>
              <a:gd name="adj2" fmla="val 9134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12"/>
          <p:cNvSpPr/>
          <p:nvPr/>
        </p:nvSpPr>
        <p:spPr>
          <a:xfrm rot="4560000">
            <a:off x="4261680" y="4885560"/>
            <a:ext cx="906480" cy="409680"/>
          </a:xfrm>
          <a:prstGeom prst="leftArrow">
            <a:avLst>
              <a:gd name="adj1" fmla="val 75009"/>
              <a:gd name="adj2" fmla="val 11062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13"/>
          <p:cNvSpPr/>
          <p:nvPr/>
        </p:nvSpPr>
        <p:spPr>
          <a:xfrm rot="18300000">
            <a:off x="1682640" y="4806360"/>
            <a:ext cx="291960" cy="673200"/>
          </a:xfrm>
          <a:prstGeom prst="upArrow">
            <a:avLst>
              <a:gd name="adj1" fmla="val 75009"/>
              <a:gd name="adj2" fmla="val 11527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14"/>
          <p:cNvSpPr/>
          <p:nvPr/>
        </p:nvSpPr>
        <p:spPr>
          <a:xfrm>
            <a:off x="3359160" y="5492880"/>
            <a:ext cx="368280" cy="672840"/>
          </a:xfrm>
          <a:prstGeom prst="downArrow">
            <a:avLst>
              <a:gd name="adj1" fmla="val 75009"/>
              <a:gd name="adj2" fmla="val 9135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Object 15"/>
          <p:cNvGraphicFramePr/>
          <p:nvPr/>
        </p:nvGraphicFramePr>
        <p:xfrm>
          <a:off x="2647800" y="5181480"/>
          <a:ext cx="4003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7800" y="5181480"/>
                    <a:ext cx="400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16"/>
          <p:cNvGraphicFramePr/>
          <p:nvPr/>
        </p:nvGraphicFramePr>
        <p:xfrm>
          <a:off x="3638520" y="3048120"/>
          <a:ext cx="55260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8520" y="3048120"/>
                    <a:ext cx="552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7"/>
          <p:cNvGraphicFramePr/>
          <p:nvPr/>
        </p:nvGraphicFramePr>
        <p:xfrm>
          <a:off x="3714840" y="6097680"/>
          <a:ext cx="476280" cy="46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5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4840" y="6097680"/>
                    <a:ext cx="476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8"/>
          <p:cNvGraphicFramePr/>
          <p:nvPr/>
        </p:nvGraphicFramePr>
        <p:xfrm>
          <a:off x="5543640" y="5029200"/>
          <a:ext cx="3999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7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3640" y="50292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9"/>
          <p:cNvGraphicFramePr/>
          <p:nvPr/>
        </p:nvGraphicFramePr>
        <p:xfrm>
          <a:off x="3333600" y="5257800"/>
          <a:ext cx="40032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9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33600" y="5257800"/>
                    <a:ext cx="400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20"/>
          <p:cNvGraphicFramePr/>
          <p:nvPr/>
        </p:nvGraphicFramePr>
        <p:xfrm>
          <a:off x="1962000" y="5181480"/>
          <a:ext cx="400320" cy="39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1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2000" y="5181480"/>
                    <a:ext cx="400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21"/>
          <p:cNvGraphicFramePr/>
          <p:nvPr/>
        </p:nvGraphicFramePr>
        <p:xfrm>
          <a:off x="5848200" y="6097680"/>
          <a:ext cx="400320" cy="392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3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48200" y="6097680"/>
                    <a:ext cx="400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22"/>
          <p:cNvGraphicFramePr/>
          <p:nvPr/>
        </p:nvGraphicFramePr>
        <p:xfrm>
          <a:off x="2876400" y="3124080"/>
          <a:ext cx="54324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5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76400" y="3124080"/>
                    <a:ext cx="543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23"/>
          <p:cNvGraphicFramePr/>
          <p:nvPr/>
        </p:nvGraphicFramePr>
        <p:xfrm>
          <a:off x="4629240" y="2971800"/>
          <a:ext cx="55224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7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29240" y="2971800"/>
                    <a:ext cx="552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AutoShape 24"/>
          <p:cNvSpPr/>
          <p:nvPr/>
        </p:nvSpPr>
        <p:spPr>
          <a:xfrm rot="1020000">
            <a:off x="3735000" y="794880"/>
            <a:ext cx="933480" cy="1435320"/>
          </a:xfrm>
          <a:prstGeom prst="upArrow">
            <a:avLst>
              <a:gd name="adj1" fmla="val 75009"/>
              <a:gd name="adj2" fmla="val 7687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Object 25"/>
          <p:cNvGraphicFramePr/>
          <p:nvPr/>
        </p:nvGraphicFramePr>
        <p:xfrm>
          <a:off x="3581280" y="1776240"/>
          <a:ext cx="828720" cy="814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0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81280" y="1776240"/>
                    <a:ext cx="82872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26"/>
          <p:cNvGraphicFramePr/>
          <p:nvPr/>
        </p:nvGraphicFramePr>
        <p:xfrm>
          <a:off x="4648320" y="5292720"/>
          <a:ext cx="404640" cy="411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2" name="Object 2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48320" y="5292720"/>
                    <a:ext cx="4046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2"/>
          <p:cNvSpPr/>
          <p:nvPr/>
        </p:nvSpPr>
        <p:spPr>
          <a:xfrm rot="17820000">
            <a:off x="-315360" y="3299760"/>
            <a:ext cx="6260760" cy="485640"/>
          </a:xfrm>
          <a:prstGeom prst="rightArrow">
            <a:avLst>
              <a:gd name="adj1" fmla="val 75009"/>
              <a:gd name="adj2" fmla="val 64464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3"/>
          <p:cNvSpPr/>
          <p:nvPr/>
        </p:nvSpPr>
        <p:spPr>
          <a:xfrm rot="3720000">
            <a:off x="3270240" y="3281040"/>
            <a:ext cx="6360840" cy="586080"/>
          </a:xfrm>
          <a:prstGeom prst="leftArrow">
            <a:avLst>
              <a:gd name="adj1" fmla="val 75009"/>
              <a:gd name="adj2" fmla="val 54260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4197240" y="82440"/>
            <a:ext cx="749520" cy="673200"/>
          </a:xfrm>
          <a:custGeom>
            <a:avLst/>
            <a:gdLst>
              <a:gd name="textAreaLeft" fmla="*/ 171000 w 749520"/>
              <a:gd name="textAreaRight" fmla="*/ 578520 w 749520"/>
              <a:gd name="textAreaTop" fmla="*/ 153720 h 673200"/>
              <a:gd name="textAreaBottom" fmla="*/ 519480 h 67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5"/>
          <p:cNvGraphicFramePr/>
          <p:nvPr/>
        </p:nvGraphicFramePr>
        <p:xfrm>
          <a:off x="4400640" y="5486400"/>
          <a:ext cx="39996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5010120" y="5486400"/>
          <a:ext cx="39996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01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5695920" y="5486400"/>
          <a:ext cx="39996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59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8"/>
          <p:cNvGraphicFramePr/>
          <p:nvPr/>
        </p:nvGraphicFramePr>
        <p:xfrm>
          <a:off x="6381720" y="5486400"/>
          <a:ext cx="3999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817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9"/>
          <p:cNvGraphicFramePr/>
          <p:nvPr/>
        </p:nvGraphicFramePr>
        <p:xfrm>
          <a:off x="3714840" y="5486400"/>
          <a:ext cx="3999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5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148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10"/>
          <p:cNvGraphicFramePr/>
          <p:nvPr/>
        </p:nvGraphicFramePr>
        <p:xfrm>
          <a:off x="3029040" y="5486400"/>
          <a:ext cx="399960" cy="392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7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290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11"/>
          <p:cNvGraphicFramePr/>
          <p:nvPr/>
        </p:nvGraphicFramePr>
        <p:xfrm>
          <a:off x="2343240" y="5487840"/>
          <a:ext cx="399960" cy="39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9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43240" y="5487840"/>
                    <a:ext cx="39996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Line 12"/>
          <p:cNvSpPr/>
          <p:nvPr/>
        </p:nvSpPr>
        <p:spPr>
          <a:xfrm flipH="1">
            <a:off x="3809520" y="2057400"/>
            <a:ext cx="76212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3"/>
          <p:cNvSpPr/>
          <p:nvPr/>
        </p:nvSpPr>
        <p:spPr>
          <a:xfrm>
            <a:off x="4572000" y="2057400"/>
            <a:ext cx="6858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4"/>
          <p:cNvSpPr/>
          <p:nvPr/>
        </p:nvSpPr>
        <p:spPr>
          <a:xfrm>
            <a:off x="4572000" y="3733920"/>
            <a:ext cx="5335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5"/>
          <p:cNvSpPr/>
          <p:nvPr/>
        </p:nvSpPr>
        <p:spPr>
          <a:xfrm flipH="1">
            <a:off x="3962160" y="3733920"/>
            <a:ext cx="60948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4572000" y="37339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7"/>
          <p:cNvSpPr/>
          <p:nvPr/>
        </p:nvSpPr>
        <p:spPr>
          <a:xfrm flipH="1">
            <a:off x="2666880" y="3733920"/>
            <a:ext cx="9907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8"/>
          <p:cNvSpPr/>
          <p:nvPr/>
        </p:nvSpPr>
        <p:spPr>
          <a:xfrm>
            <a:off x="5334120" y="3733920"/>
            <a:ext cx="45720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5334120" y="3733920"/>
            <a:ext cx="114300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20"/>
          <p:cNvSpPr/>
          <p:nvPr/>
        </p:nvSpPr>
        <p:spPr>
          <a:xfrm flipH="1">
            <a:off x="3276720" y="3733920"/>
            <a:ext cx="38088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21"/>
          <p:cNvGraphicFramePr/>
          <p:nvPr/>
        </p:nvGraphicFramePr>
        <p:xfrm>
          <a:off x="3409920" y="3429000"/>
          <a:ext cx="54288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0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09920" y="3429000"/>
                    <a:ext cx="542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22"/>
          <p:cNvGraphicFramePr/>
          <p:nvPr/>
        </p:nvGraphicFramePr>
        <p:xfrm>
          <a:off x="4324320" y="3429000"/>
          <a:ext cx="55260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2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24320" y="3429000"/>
                    <a:ext cx="552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23"/>
          <p:cNvGraphicFramePr/>
          <p:nvPr/>
        </p:nvGraphicFramePr>
        <p:xfrm>
          <a:off x="5086440" y="3429000"/>
          <a:ext cx="552240" cy="542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4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86440" y="3429000"/>
                    <a:ext cx="552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AutoShape 24"/>
          <p:cNvSpPr/>
          <p:nvPr/>
        </p:nvSpPr>
        <p:spPr>
          <a:xfrm>
            <a:off x="1682640" y="844560"/>
            <a:ext cx="5778720" cy="5702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25"/>
          <p:cNvSpPr/>
          <p:nvPr/>
        </p:nvSpPr>
        <p:spPr>
          <a:xfrm flipV="1">
            <a:off x="2521080" y="2595960"/>
            <a:ext cx="4101840" cy="2273400"/>
          </a:xfrm>
          <a:custGeom>
            <a:avLst/>
            <a:gdLst>
              <a:gd name="textAreaLeft" fmla="*/ 924120 w 4101840"/>
              <a:gd name="textAreaRight" fmla="*/ 3177720 w 4101840"/>
              <a:gd name="textAreaTop" fmla="*/ 512280 h 2273400"/>
              <a:gd name="textAreaBottom" fmla="*/ 1761120 h 227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133" y="21600"/>
                </a:lnTo>
                <a:lnTo>
                  <a:pt x="1546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26"/>
          <p:cNvSpPr/>
          <p:nvPr/>
        </p:nvSpPr>
        <p:spPr>
          <a:xfrm>
            <a:off x="4572000" y="7621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27"/>
          <p:cNvSpPr/>
          <p:nvPr/>
        </p:nvSpPr>
        <p:spPr>
          <a:xfrm>
            <a:off x="4572000" y="2057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Object 28"/>
          <p:cNvGraphicFramePr/>
          <p:nvPr/>
        </p:nvGraphicFramePr>
        <p:xfrm>
          <a:off x="4191120" y="1623960"/>
          <a:ext cx="828720" cy="814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20" name="Object 2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191120" y="1623960"/>
                    <a:ext cx="8287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03080" y="121896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си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ую эффективнос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уководит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1071720" y="42876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р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357880" y="500040"/>
            <a:ext cx="280044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422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БОВАНИЯ К ФОРМУЛИРОВКЕ Ц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427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гола совершенного вид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лагольного существи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итивная формул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значение уровня ответственности или средств дост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8" descr="http://psyh-olog.ru/wp-content/uploads/2015/06/%D0%9A%D0%B0%D0%BA-%D0%B6%D0%B5-%D0%B4%D0%BE%D1%81%D1%82%D0%B8%D1%87%D1%8C-%D0%BB%D1%8E%D0%B1%D0%BE%D0%B9-%D1%86%D0%B5%D0%BB%D0%B8-%D0%B2-%D0%B6%D0%B8%D0%B7%D0%BD%D0%B8.jpg"/>
          <p:cNvPicPr/>
          <p:nvPr/>
        </p:nvPicPr>
        <p:blipFill>
          <a:blip r:embed="rId1"/>
          <a:stretch/>
        </p:blipFill>
        <p:spPr>
          <a:xfrm>
            <a:off x="6012000" y="4581360"/>
            <a:ext cx="286848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ИЧЕСТВО ЦЕЛЕЙ ДЛЯ ОДНОГО СОТРУДНИК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50760">
            <a:solidFill>
              <a:srgbClr val="339966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ксималь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личество -  5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о с максимальным объемом оперативной памя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тим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ичество – 3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Легче определять важность той или иной предстоящей раб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нужденное количество - 0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https://coachingsession.ru/attachments/Image/goals.jpg?template=generic"/>
          <p:cNvPicPr/>
          <p:nvPr/>
        </p:nvPicPr>
        <p:blipFill>
          <a:blip r:embed="rId1"/>
          <a:stretch/>
        </p:blipFill>
        <p:spPr>
          <a:xfrm>
            <a:off x="5580000" y="4149720"/>
            <a:ext cx="34117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6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ИМАЛЬНЫЙ ОБЪЕМ КОНТРОЛИРУЕМЫХ ЗАД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не способен контролировать выпол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ч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дач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пп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933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тически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те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221360" cy="4876920"/>
          </a:xfrm>
          <a:prstGeom prst="rect">
            <a:avLst/>
          </a:prstGeom>
          <a:solidFill>
            <a:srgbClr val="ccffff">
              <a:alpha val="50000"/>
            </a:srgbClr>
          </a:solidFill>
          <a:ln w="57240">
            <a:solidFill>
              <a:srgbClr val="006666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41760" y="1371240"/>
            <a:ext cx="4221360" cy="4876920"/>
          </a:xfrm>
          <a:prstGeom prst="rect">
            <a:avLst/>
          </a:prstGeom>
          <a:solidFill>
            <a:srgbClr val="ccffff">
              <a:alpha val="50000"/>
            </a:srgbClr>
          </a:solidFill>
          <a:ln w="57240">
            <a:solidFill>
              <a:srgbClr val="006666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2"/>
          <p:cNvSpPr/>
          <p:nvPr/>
        </p:nvSpPr>
        <p:spPr>
          <a:xfrm>
            <a:off x="1828800" y="1143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7620120" y="1143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6629400" y="36576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4038480" y="38862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2209680" y="40384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533520" y="3581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4267080" y="1295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5791320" y="5029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7162920" y="571500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11"/>
          <p:cNvSpPr/>
          <p:nvPr/>
        </p:nvSpPr>
        <p:spPr>
          <a:xfrm>
            <a:off x="990720" y="571500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12"/>
          <p:cNvSpPr/>
          <p:nvPr/>
        </p:nvSpPr>
        <p:spPr>
          <a:xfrm>
            <a:off x="1523880" y="2895480"/>
            <a:ext cx="1047960" cy="914400"/>
          </a:xfrm>
          <a:custGeom>
            <a:avLst/>
            <a:gdLst>
              <a:gd name="textAreaLeft" fmla="*/ 244440 w 1047960"/>
              <a:gd name="textAreaRight" fmla="*/ 803520 w 104796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13"/>
          <p:cNvSpPr/>
          <p:nvPr/>
        </p:nvSpPr>
        <p:spPr>
          <a:xfrm>
            <a:off x="5562720" y="213372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14"/>
          <p:cNvSpPr/>
          <p:nvPr/>
        </p:nvSpPr>
        <p:spPr>
          <a:xfrm>
            <a:off x="3276720" y="5715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15"/>
          <p:cNvSpPr/>
          <p:nvPr/>
        </p:nvSpPr>
        <p:spPr>
          <a:xfrm>
            <a:off x="457200" y="1523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16"/>
          <p:cNvSpPr/>
          <p:nvPr/>
        </p:nvSpPr>
        <p:spPr>
          <a:xfrm>
            <a:off x="7467480" y="2895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17"/>
          <p:cNvSpPr/>
          <p:nvPr/>
        </p:nvSpPr>
        <p:spPr>
          <a:xfrm>
            <a:off x="4572000" y="54100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79280" y="151920"/>
            <a:ext cx="58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 ХАОСА К КОНТРОЛЮ СИТУАЦИ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Object 3" descr=""/>
          <p:cNvPicPr/>
          <p:nvPr/>
        </p:nvPicPr>
        <p:blipFill>
          <a:blip r:embed="rId1"/>
          <a:stretch/>
        </p:blipFill>
        <p:spPr>
          <a:xfrm>
            <a:off x="2176560" y="1295280"/>
            <a:ext cx="4600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2"/>
          <p:cNvSpPr/>
          <p:nvPr/>
        </p:nvSpPr>
        <p:spPr>
          <a:xfrm>
            <a:off x="5791320" y="12193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7620120" y="12193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5791320" y="2666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7620120" y="25909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304920" y="2743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676520" y="1295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8"/>
          <p:cNvSpPr/>
          <p:nvPr/>
        </p:nvSpPr>
        <p:spPr>
          <a:xfrm>
            <a:off x="304920" y="1295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1676520" y="2743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10"/>
          <p:cNvSpPr/>
          <p:nvPr/>
        </p:nvSpPr>
        <p:spPr>
          <a:xfrm>
            <a:off x="1676520" y="533412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228600" y="533412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12"/>
          <p:cNvSpPr/>
          <p:nvPr/>
        </p:nvSpPr>
        <p:spPr>
          <a:xfrm>
            <a:off x="1676520" y="403848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13"/>
          <p:cNvSpPr/>
          <p:nvPr/>
        </p:nvSpPr>
        <p:spPr>
          <a:xfrm>
            <a:off x="228600" y="403848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4"/>
          <p:cNvSpPr/>
          <p:nvPr/>
        </p:nvSpPr>
        <p:spPr>
          <a:xfrm>
            <a:off x="5791320" y="3962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15"/>
          <p:cNvSpPr/>
          <p:nvPr/>
        </p:nvSpPr>
        <p:spPr>
          <a:xfrm>
            <a:off x="7696080" y="5334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16"/>
          <p:cNvSpPr/>
          <p:nvPr/>
        </p:nvSpPr>
        <p:spPr>
          <a:xfrm>
            <a:off x="7696080" y="3962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17"/>
          <p:cNvSpPr/>
          <p:nvPr/>
        </p:nvSpPr>
        <p:spPr>
          <a:xfrm>
            <a:off x="5867280" y="5334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791856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 объединяются в группы для выполнения работы, которую нельзя сделать в одиночку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этого надо решить две задачи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аспределить выполняемые функции между участниками совместной работ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скоординировать действия участников для достижения общей це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971280" y="5229360"/>
            <a:ext cx="828036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енькова Е.В., Долгоруков А.М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тегическое управление бизнес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.: Импра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Объект 1"/>
          <p:cNvGraphicFramePr/>
          <p:nvPr/>
        </p:nvGraphicFramePr>
        <p:xfrm>
          <a:off x="7596360" y="115920"/>
          <a:ext cx="115236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115920"/>
                    <a:ext cx="11523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1332000" y="2205000"/>
            <a:ext cx="6083280" cy="43452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1332000" y="1762200"/>
            <a:ext cx="6083280" cy="2425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1325520" y="6556320"/>
            <a:ext cx="6705720" cy="0"/>
          </a:xfrm>
          <a:prstGeom prst="line">
            <a:avLst/>
          </a:prstGeom>
          <a:ln w="12708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1325520" y="1146240"/>
            <a:ext cx="0" cy="5410080"/>
          </a:xfrm>
          <a:prstGeom prst="line">
            <a:avLst/>
          </a:prstGeom>
          <a:ln w="12708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4962600" y="2379600"/>
            <a:ext cx="171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ОЧ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4866840" y="4894200"/>
            <a:ext cx="191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ВА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ОЧ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1739880" y="489420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ВА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СРОЧ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1739880" y="237960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СРОЧ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0" name="Object 10"/>
          <p:cNvGraphicFramePr/>
          <p:nvPr/>
        </p:nvGraphicFramePr>
        <p:xfrm>
          <a:off x="7951680" y="5106960"/>
          <a:ext cx="60984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1680" y="5106960"/>
                    <a:ext cx="60984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11"/>
          <p:cNvGraphicFramePr/>
          <p:nvPr/>
        </p:nvGraphicFramePr>
        <p:xfrm>
          <a:off x="539640" y="287280"/>
          <a:ext cx="716040" cy="7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87280"/>
                    <a:ext cx="71604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Line 12"/>
          <p:cNvSpPr/>
          <p:nvPr/>
        </p:nvSpPr>
        <p:spPr>
          <a:xfrm>
            <a:off x="4297320" y="175572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3"/>
          <p:cNvSpPr/>
          <p:nvPr/>
        </p:nvSpPr>
        <p:spPr>
          <a:xfrm>
            <a:off x="1979640" y="2602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рица Эйзенхауэ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ДНАЗНАЧЕНИЕ МЕНЕДЖ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5105160"/>
            <a:ext cx="74678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правлять - значит привод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 успеху других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итер Друкер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ject 4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876560" cy="31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ишком много важных срочных д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роки и даты упра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ют В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ас одолевают постоянные авра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 Вас нет времени на перспективные планы?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равильно расставлены приор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ытаетесь все сделать сами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смотреть приор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учиться делег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Объект 1"/>
          <p:cNvGraphicFramePr/>
          <p:nvPr/>
        </p:nvGraphicFramePr>
        <p:xfrm>
          <a:off x="53964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ишком много неважных  срочных д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полняете самую неважную часть раб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то это устрои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то за Вас делает остальное?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х задач Вы выбрали самые нева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 отказались от планирования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смотреть приор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ть план выполнения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Объект 1"/>
          <p:cNvGraphicFramePr/>
          <p:nvPr/>
        </p:nvGraphicFramePr>
        <p:xfrm>
          <a:off x="468360" y="260280"/>
          <a:ext cx="716040" cy="7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71604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424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ишком много неважных несрочных д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219200" y="1981080"/>
            <a:ext cx="471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а что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лат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арплату?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Object 4" descr=""/>
          <p:cNvPicPr/>
          <p:nvPr/>
        </p:nvPicPr>
        <p:blipFill>
          <a:blip r:embed="rId1"/>
          <a:stretch/>
        </p:blipFill>
        <p:spPr>
          <a:xfrm>
            <a:off x="281160" y="2139840"/>
            <a:ext cx="3773160" cy="379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7" name="Объект 1"/>
          <p:cNvGraphicFramePr/>
          <p:nvPr/>
        </p:nvGraphicFramePr>
        <p:xfrm>
          <a:off x="324000" y="189000"/>
          <a:ext cx="715680" cy="73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8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89000"/>
                    <a:ext cx="715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центрация на важных несрочных дел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можность сосредоточить усилия на главном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я на перспективе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не на проблем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Объект 1"/>
          <p:cNvGraphicFramePr/>
          <p:nvPr/>
        </p:nvGraphicFramePr>
        <p:xfrm>
          <a:off x="250920" y="260280"/>
          <a:ext cx="716040" cy="7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71604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281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ланирование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ак функция менеджмен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для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Объект 1"/>
          <p:cNvGraphicFramePr/>
          <p:nvPr/>
        </p:nvGraphicFramePr>
        <p:xfrm>
          <a:off x="324000" y="11160"/>
          <a:ext cx="7156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160"/>
                    <a:ext cx="715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281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ланирование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ак функция менеджмен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ьность выполнения задач с учетом состояния    ресурсов   результат:    план   действий   для подчиненных/исполни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Объект 1"/>
          <p:cNvGraphicFramePr/>
          <p:nvPr/>
        </p:nvGraphicFramePr>
        <p:xfrm>
          <a:off x="25092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586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ы план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2050920"/>
            <a:ext cx="80010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атегическое планир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ектное планир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ративное 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Объект 1"/>
          <p:cNvGraphicFramePr/>
          <p:nvPr/>
        </p:nvGraphicFramePr>
        <p:xfrm>
          <a:off x="53964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ма Га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1225440" y="2139840"/>
            <a:ext cx="63720" cy="3340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1225440" y="5492880"/>
            <a:ext cx="654048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1301760" y="2139840"/>
            <a:ext cx="113040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2444760" y="2444760"/>
            <a:ext cx="74916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3206880" y="2749680"/>
            <a:ext cx="11300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3587760" y="3054240"/>
            <a:ext cx="189216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4349880" y="3359160"/>
            <a:ext cx="173988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0"/>
          <p:cNvSpPr/>
          <p:nvPr/>
        </p:nvSpPr>
        <p:spPr>
          <a:xfrm>
            <a:off x="4883040" y="3664080"/>
            <a:ext cx="288288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4425840" y="4273560"/>
            <a:ext cx="181620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2"/>
          <p:cNvSpPr/>
          <p:nvPr/>
        </p:nvSpPr>
        <p:spPr>
          <a:xfrm>
            <a:off x="6330960" y="4883040"/>
            <a:ext cx="52056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3"/>
          <p:cNvSpPr/>
          <p:nvPr/>
        </p:nvSpPr>
        <p:spPr>
          <a:xfrm>
            <a:off x="6864480" y="5187960"/>
            <a:ext cx="9014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"/>
          <p:cNvSpPr/>
          <p:nvPr/>
        </p:nvSpPr>
        <p:spPr>
          <a:xfrm>
            <a:off x="5645160" y="3968640"/>
            <a:ext cx="113040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5"/>
          <p:cNvSpPr/>
          <p:nvPr/>
        </p:nvSpPr>
        <p:spPr>
          <a:xfrm>
            <a:off x="5721480" y="4578480"/>
            <a:ext cx="11300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иаграмма Га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дин из наиболее популярных способов графического представления плана проекта и графика работ. Диаграмма представляет собой изображение задач в виде отрезков на шкале времен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рамма Ганта позволяе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зуально оценить последовательность задач, их относительную длительность и протяженность проекта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ь планируемый и реальный ход выполнения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ально проанализировать реальный ход выполнения задач. На план-графике отображаются интервалы времени, в течение которых задача: выполнялась, была приостановлена, возвращалась на доработку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Объект 1"/>
          <p:cNvGraphicFramePr/>
          <p:nvPr/>
        </p:nvGraphicFramePr>
        <p:xfrm>
          <a:off x="53964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58560" y="259920"/>
            <a:ext cx="8785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Организация как функция менеджмен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еделение и постановка задач перед подчиненными, формирование мотив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ение ответственност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оздание календарных планов исполн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системы обратной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системы мотив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: понятые и принятые исполнителями зада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Объект 1"/>
          <p:cNvGraphicFramePr/>
          <p:nvPr/>
        </p:nvGraphicFramePr>
        <p:xfrm>
          <a:off x="53964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2511360" y="1895400"/>
            <a:ext cx="3903840" cy="2678040"/>
          </a:xfrm>
          <a:prstGeom prst="triangle">
            <a:avLst>
              <a:gd name="adj" fmla="val 49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599640" y="3220920"/>
            <a:ext cx="172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984480" y="1382760"/>
            <a:ext cx="95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707640" y="4565520"/>
            <a:ext cx="151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 МЕНЕДЖМ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ГЛЯ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ИТЕЛ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ЧИНЕННЫХ НА ВЫПОЛНЯЕМЫЕ 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2673360" y="2666880"/>
            <a:ext cx="2179800" cy="2590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4994280" y="1828800"/>
            <a:ext cx="340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ят руководител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идят подчин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1752840" y="198108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1822680" y="556272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2673360" y="1676520"/>
            <a:ext cx="2179800" cy="10159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2673360" y="5257800"/>
            <a:ext cx="2179800" cy="10159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1752840" y="36576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10"/>
          <p:cNvSpPr/>
          <p:nvPr/>
        </p:nvSpPr>
        <p:spPr>
          <a:xfrm>
            <a:off x="4992480" y="5410080"/>
            <a:ext cx="347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ят подчиненн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идят руковод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11"/>
          <p:cNvSpPr/>
          <p:nvPr/>
        </p:nvSpPr>
        <p:spPr>
          <a:xfrm>
            <a:off x="4926240" y="3429000"/>
            <a:ext cx="398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й взгляд на задач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емые персонал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ПЫ В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иционна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снована на положении в организации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а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снована на личной хариз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министр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умает, как поощрить персонал лучше рабо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м принимает реше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мело берется решать сложные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рпим к открытому несогла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рет вину на себ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ожительно отзывается о своих сотрудниках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дователен и честен по отношению к подчине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24280" y="137124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умает о личном вознаграждении, стату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чего не решает без руко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ходит от решения сложных проб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ерпим к любому несогла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щет “козла отпущения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алуется на отсутствие компетентных работников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ет размытую (неизвестную подчиненным) систему це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Object 5"/>
          <p:cNvGraphicFramePr/>
          <p:nvPr/>
        </p:nvGraphicFramePr>
        <p:xfrm>
          <a:off x="3564000" y="0"/>
          <a:ext cx="152064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0"/>
                    <a:ext cx="152064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3714840" y="5265720"/>
            <a:ext cx="2789280" cy="638280"/>
            <a:chOff x="3714840" y="5265720"/>
            <a:chExt cx="2789280" cy="638280"/>
          </a:xfrm>
        </p:grpSpPr>
        <p:sp>
          <p:nvSpPr>
            <p:cNvPr id="555" name="AutoShape 3"/>
            <p:cNvSpPr/>
            <p:nvPr/>
          </p:nvSpPr>
          <p:spPr>
            <a:xfrm>
              <a:off x="3714840" y="5265720"/>
              <a:ext cx="2789280" cy="638280"/>
            </a:xfrm>
            <a:custGeom>
              <a:avLst/>
              <a:gdLst>
                <a:gd name="textAreaLeft" fmla="*/ 507960 w 2789280"/>
                <a:gd name="textAreaRight" fmla="*/ 2281320 w 2789280"/>
                <a:gd name="textAreaTop" fmla="*/ 95040 h 638280"/>
                <a:gd name="textAreaBottom" fmla="*/ 543240 h 6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224"/>
                  </a:moveTo>
                  <a:lnTo>
                    <a:pt x="15991" y="3224"/>
                  </a:lnTo>
                  <a:lnTo>
                    <a:pt x="15991" y="0"/>
                  </a:lnTo>
                  <a:lnTo>
                    <a:pt x="21600" y="10800"/>
                  </a:lnTo>
                  <a:lnTo>
                    <a:pt x="15991" y="21600"/>
                  </a:lnTo>
                  <a:lnTo>
                    <a:pt x="15991" y="18376"/>
                  </a:lnTo>
                  <a:lnTo>
                    <a:pt x="0" y="18376"/>
                  </a:lnTo>
                  <a:lnTo>
                    <a:pt x="3935" y="10800"/>
                  </a:lnTo>
                  <a:lnTo>
                    <a:pt x="0" y="3224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4"/>
            <p:cNvSpPr/>
            <p:nvPr/>
          </p:nvSpPr>
          <p:spPr>
            <a:xfrm>
              <a:off x="4246560" y="5288040"/>
              <a:ext cx="2163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Делегирование полномоч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5"/>
          <p:cNvSpPr/>
          <p:nvPr/>
        </p:nvSpPr>
        <p:spPr>
          <a:xfrm>
            <a:off x="2097000" y="187956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8950"/>
                </a:solidFill>
                <a:latin typeface="Arial"/>
                <a:ea typeface="Arial"/>
              </a:rPr>
              <a:t>Цель: </a:t>
            </a:r>
            <a:r>
              <a:rPr b="1" lang="ru-RU" sz="1800" spc="-1" strike="noStrike">
                <a:solidFill>
                  <a:srgbClr val="ff9933"/>
                </a:solidFill>
                <a:latin typeface="Arial"/>
                <a:ea typeface="Arial"/>
              </a:rPr>
              <a:t>навыки выбора стиля лидерства под конкретную задачу в зависимости от профессионализма и мотивации подчиненного</a:t>
            </a:r>
            <a:r>
              <a:rPr b="0" lang="ru-RU" sz="1800" spc="-1" strike="noStrike">
                <a:solidFill>
                  <a:srgbClr val="ff99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902960" y="304920"/>
            <a:ext cx="638964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туационное лидерств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7" descr="atwrk008"/>
          <p:cNvPicPr/>
          <p:nvPr/>
        </p:nvPicPr>
        <p:blipFill>
          <a:blip r:embed="rId1"/>
          <a:stretch/>
        </p:blipFill>
        <p:spPr>
          <a:xfrm>
            <a:off x="682560" y="1614600"/>
            <a:ext cx="1217520" cy="1000080"/>
          </a:xfrm>
          <a:prstGeom prst="rect">
            <a:avLst/>
          </a:prstGeom>
          <a:ln w="0">
            <a:noFill/>
          </a:ln>
        </p:spPr>
      </p:pic>
      <p:grpSp>
        <p:nvGrpSpPr>
          <p:cNvPr id="560" name="Group 8"/>
          <p:cNvGrpSpPr/>
          <p:nvPr/>
        </p:nvGrpSpPr>
        <p:grpSpPr>
          <a:xfrm>
            <a:off x="404640" y="2938320"/>
            <a:ext cx="3232080" cy="671400"/>
            <a:chOff x="404640" y="2938320"/>
            <a:chExt cx="3232080" cy="671400"/>
          </a:xfrm>
        </p:grpSpPr>
        <p:pic>
          <p:nvPicPr>
            <p:cNvPr id="561" name="Picture 9" descr="j0078740"/>
            <p:cNvPicPr/>
            <p:nvPr/>
          </p:nvPicPr>
          <p:blipFill>
            <a:blip r:embed="rId2"/>
            <a:stretch/>
          </p:blipFill>
          <p:spPr>
            <a:xfrm>
              <a:off x="569520" y="2938320"/>
              <a:ext cx="31644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10"/>
            <p:cNvSpPr/>
            <p:nvPr/>
          </p:nvSpPr>
          <p:spPr>
            <a:xfrm>
              <a:off x="998280" y="3210840"/>
              <a:ext cx="25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 может - не хоч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11"/>
            <p:cNvSpPr/>
            <p:nvPr/>
          </p:nvSpPr>
          <p:spPr>
            <a:xfrm>
              <a:off x="404640" y="3090240"/>
              <a:ext cx="3232080" cy="5126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12"/>
          <p:cNvGrpSpPr/>
          <p:nvPr/>
        </p:nvGrpSpPr>
        <p:grpSpPr>
          <a:xfrm>
            <a:off x="388800" y="3722760"/>
            <a:ext cx="3206520" cy="668160"/>
            <a:chOff x="388800" y="3722760"/>
            <a:chExt cx="3206520" cy="668160"/>
          </a:xfrm>
        </p:grpSpPr>
        <p:pic>
          <p:nvPicPr>
            <p:cNvPr id="565" name="Picture 13" descr="j0078744"/>
            <p:cNvPicPr/>
            <p:nvPr/>
          </p:nvPicPr>
          <p:blipFill>
            <a:blip r:embed="rId3"/>
            <a:stretch/>
          </p:blipFill>
          <p:spPr>
            <a:xfrm>
              <a:off x="436320" y="3779640"/>
              <a:ext cx="57168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 Box 14"/>
            <p:cNvSpPr/>
            <p:nvPr/>
          </p:nvSpPr>
          <p:spPr>
            <a:xfrm>
              <a:off x="1093680" y="3851280"/>
              <a:ext cx="234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очет - не может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15"/>
            <p:cNvSpPr/>
            <p:nvPr/>
          </p:nvSpPr>
          <p:spPr>
            <a:xfrm>
              <a:off x="388800" y="3722760"/>
              <a:ext cx="320652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6"/>
          <p:cNvGrpSpPr/>
          <p:nvPr/>
        </p:nvGrpSpPr>
        <p:grpSpPr>
          <a:xfrm>
            <a:off x="388800" y="4471920"/>
            <a:ext cx="3206520" cy="668160"/>
            <a:chOff x="388800" y="4471920"/>
            <a:chExt cx="3206520" cy="668160"/>
          </a:xfrm>
        </p:grpSpPr>
        <p:pic>
          <p:nvPicPr>
            <p:cNvPr id="569" name="Picture 17" descr="j0288982"/>
            <p:cNvPicPr/>
            <p:nvPr/>
          </p:nvPicPr>
          <p:blipFill>
            <a:blip r:embed="rId4"/>
            <a:stretch/>
          </p:blipFill>
          <p:spPr>
            <a:xfrm>
              <a:off x="450720" y="4582800"/>
              <a:ext cx="699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18"/>
            <p:cNvSpPr/>
            <p:nvPr/>
          </p:nvSpPr>
          <p:spPr>
            <a:xfrm>
              <a:off x="1270800" y="463068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ет - не хоч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19"/>
            <p:cNvSpPr/>
            <p:nvPr/>
          </p:nvSpPr>
          <p:spPr>
            <a:xfrm>
              <a:off x="388800" y="4471920"/>
              <a:ext cx="320652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Group 20"/>
          <p:cNvGrpSpPr/>
          <p:nvPr/>
        </p:nvGrpSpPr>
        <p:grpSpPr>
          <a:xfrm>
            <a:off x="388800" y="5221440"/>
            <a:ext cx="3206880" cy="668160"/>
            <a:chOff x="388800" y="5221440"/>
            <a:chExt cx="3206880" cy="668160"/>
          </a:xfrm>
        </p:grpSpPr>
        <p:pic>
          <p:nvPicPr>
            <p:cNvPr id="573" name="Picture 21" descr="j0078748"/>
            <p:cNvPicPr/>
            <p:nvPr/>
          </p:nvPicPr>
          <p:blipFill>
            <a:blip r:embed="rId5"/>
            <a:stretch/>
          </p:blipFill>
          <p:spPr>
            <a:xfrm>
              <a:off x="568440" y="5248440"/>
              <a:ext cx="3711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22"/>
            <p:cNvSpPr/>
            <p:nvPr/>
          </p:nvSpPr>
          <p:spPr>
            <a:xfrm>
              <a:off x="1267920" y="5364000"/>
              <a:ext cx="20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ет - и хоч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23"/>
            <p:cNvSpPr/>
            <p:nvPr/>
          </p:nvSpPr>
          <p:spPr>
            <a:xfrm>
              <a:off x="388800" y="5221440"/>
              <a:ext cx="320688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24"/>
          <p:cNvGrpSpPr/>
          <p:nvPr/>
        </p:nvGrpSpPr>
        <p:grpSpPr>
          <a:xfrm>
            <a:off x="3713040" y="3019320"/>
            <a:ext cx="2789280" cy="593640"/>
            <a:chOff x="3713040" y="3019320"/>
            <a:chExt cx="2789280" cy="593640"/>
          </a:xfrm>
        </p:grpSpPr>
        <p:sp>
          <p:nvSpPr>
            <p:cNvPr id="577" name="AutoShape 25"/>
            <p:cNvSpPr/>
            <p:nvPr/>
          </p:nvSpPr>
          <p:spPr>
            <a:xfrm>
              <a:off x="3713040" y="3019320"/>
              <a:ext cx="2789280" cy="59364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320 h 593640"/>
                <a:gd name="textAreaBottom" fmla="*/ 44532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26"/>
            <p:cNvSpPr/>
            <p:nvPr/>
          </p:nvSpPr>
          <p:spPr>
            <a:xfrm>
              <a:off x="4005360" y="3112920"/>
              <a:ext cx="22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инструктир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Group 27"/>
          <p:cNvGrpSpPr/>
          <p:nvPr/>
        </p:nvGrpSpPr>
        <p:grpSpPr>
          <a:xfrm>
            <a:off x="3714840" y="3787920"/>
            <a:ext cx="2789280" cy="595080"/>
            <a:chOff x="3714840" y="3787920"/>
            <a:chExt cx="2789280" cy="595080"/>
          </a:xfrm>
        </p:grpSpPr>
        <p:sp>
          <p:nvSpPr>
            <p:cNvPr id="580" name="AutoShape 28"/>
            <p:cNvSpPr/>
            <p:nvPr/>
          </p:nvSpPr>
          <p:spPr>
            <a:xfrm>
              <a:off x="3714840" y="3787920"/>
              <a:ext cx="2789280" cy="59508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680 h 595080"/>
                <a:gd name="textAreaBottom" fmla="*/ 44640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2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29"/>
            <p:cNvSpPr/>
            <p:nvPr/>
          </p:nvSpPr>
          <p:spPr>
            <a:xfrm>
              <a:off x="4091760" y="388152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наставниче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30"/>
          <p:cNvGrpSpPr/>
          <p:nvPr/>
        </p:nvGrpSpPr>
        <p:grpSpPr>
          <a:xfrm>
            <a:off x="3714840" y="4584600"/>
            <a:ext cx="2789280" cy="595440"/>
            <a:chOff x="3714840" y="4584600"/>
            <a:chExt cx="2789280" cy="595440"/>
          </a:xfrm>
        </p:grpSpPr>
        <p:sp>
          <p:nvSpPr>
            <p:cNvPr id="583" name="AutoShape 31"/>
            <p:cNvSpPr/>
            <p:nvPr/>
          </p:nvSpPr>
          <p:spPr>
            <a:xfrm>
              <a:off x="3714840" y="4584600"/>
              <a:ext cx="2789280" cy="59544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680 h 595440"/>
                <a:gd name="textAreaBottom" fmla="*/ 44676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32"/>
            <p:cNvSpPr/>
            <p:nvPr/>
          </p:nvSpPr>
          <p:spPr>
            <a:xfrm>
              <a:off x="4206600" y="469260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мотив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WordArt 33"/>
          <p:cNvSpPr txBox="1"/>
          <p:nvPr/>
        </p:nvSpPr>
        <p:spPr>
          <a:xfrm>
            <a:off x="6700680" y="5149800"/>
            <a:ext cx="18655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зульта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86" name="Picture 35" descr="perform"/>
          <p:cNvPicPr/>
          <p:nvPr/>
        </p:nvPicPr>
        <p:blipFill>
          <a:blip r:embed="rId6"/>
          <a:stretch/>
        </p:blipFill>
        <p:spPr>
          <a:xfrm>
            <a:off x="6678720" y="3003480"/>
            <a:ext cx="19875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92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192" fill="hold"/>
                                        <p:tgtEl>
                                          <p:spTgt spid="5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192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192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385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85" fill="hold"/>
                                        <p:tgtEl>
                                          <p:spTgt spid="5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385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385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56908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А ПОСТАНОВКИ И ПРИНЯТИЯ 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шите конечный результат, который Вы хотите полу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ите степень ответ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ясните, зачем должно быть выполнено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жите конечный срок исполнения и назначьте точки промежуточно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тализируйте задание в зависимости от компетентности подчин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ейтесь единого понимания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говоритесь о требуемом уровне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680920" y="304560"/>
            <a:ext cx="44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ставничест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3" descr="PE01561_"/>
          <p:cNvPicPr/>
          <p:nvPr/>
        </p:nvPicPr>
        <p:blipFill>
          <a:blip r:embed="rId1"/>
          <a:stretch/>
        </p:blipFill>
        <p:spPr>
          <a:xfrm>
            <a:off x="2590920" y="2057400"/>
            <a:ext cx="5486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пределение наставниче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82844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ставничеств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цесс закрепления на практик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дальнейшей поддержки полученных зн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Качеств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хорошего настав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Знает интересы и личностные особенности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являет интерес к специалис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Выявляет потенциал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ляет уверенность в специалис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Строит обучение в соответств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со стандартами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680920" y="304560"/>
            <a:ext cx="44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Навыки настав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0570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блюд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уш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ждать, оказывать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правлять и мотивир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ощрять, оказывать эмоциональную поддерж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внутренних и внешних движущих сил, которые побуждают  человека к деятельности для достижения целей орган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3860640"/>
            <a:ext cx="8001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ффективность - отношение результат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ресур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ивность - отношение целе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результ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ономичность - отношение ресурсо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цел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3492360" y="1916280"/>
            <a:ext cx="1898640" cy="1600200"/>
          </a:xfrm>
          <a:prstGeom prst="triangle">
            <a:avLst>
              <a:gd name="adj" fmla="val 49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5603040" y="3135240"/>
            <a:ext cx="172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984480" y="1382760"/>
            <a:ext cx="95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693080" y="3141720"/>
            <a:ext cx="151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 МЕНЕДЖМ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нестатистическая демотивац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44480" y="2206440"/>
            <a:ext cx="800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ритика, отсутствие признания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компетентный руководител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тсутствие информации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ерегруженность / недогруженно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удачи в работ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ясность функций / цел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че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реднестатистическая мотивац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06400" y="1447560"/>
            <a:ext cx="7291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изнание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ложительный результат работы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Цель как таковая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рамотный руководител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Хороший коллектив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формированно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еткая постановка задач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че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765000" y="5410080"/>
            <a:ext cx="77709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3"/>
          <p:cNvSpPr/>
          <p:nvPr/>
        </p:nvSpPr>
        <p:spPr>
          <a:xfrm>
            <a:off x="685800" y="5410080"/>
            <a:ext cx="4800600" cy="914400"/>
          </a:xfrm>
          <a:prstGeom prst="cube">
            <a:avLst>
              <a:gd name="adj" fmla="val 3524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иолог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4"/>
          <p:cNvSpPr/>
          <p:nvPr/>
        </p:nvSpPr>
        <p:spPr>
          <a:xfrm>
            <a:off x="1409760" y="4457880"/>
            <a:ext cx="4800600" cy="914400"/>
          </a:xfrm>
          <a:prstGeom prst="cube">
            <a:avLst>
              <a:gd name="adj" fmla="val 35245"/>
            </a:avLst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2133720" y="3505320"/>
            <a:ext cx="4800600" cy="914400"/>
          </a:xfrm>
          <a:prstGeom prst="cube">
            <a:avLst>
              <a:gd name="adj" fmla="val 35245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2857680" y="2552760"/>
            <a:ext cx="4800600" cy="914400"/>
          </a:xfrm>
          <a:prstGeom prst="cube">
            <a:avLst>
              <a:gd name="adj" fmla="val 35245"/>
            </a:avLst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зн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7"/>
          <p:cNvSpPr/>
          <p:nvPr/>
        </p:nvSpPr>
        <p:spPr>
          <a:xfrm>
            <a:off x="3581280" y="1600200"/>
            <a:ext cx="4800600" cy="914400"/>
          </a:xfrm>
          <a:prstGeom prst="cube">
            <a:avLst>
              <a:gd name="adj" fmla="val 35245"/>
            </a:avLst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ЕРАРХИЯ ПОТРЕБНОСТЕ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 А.МАСЛО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4120" y="56664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ять потребностей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аших подчине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874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его я хочу от начальника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304920" y="2835360"/>
            <a:ext cx="87436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сните, что я должен делать и какие результаты от меня ожидаютс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мне ресурсы и возможность выполнения работ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мне знать о том, как у меня идут дел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ьте мне необходимый инструктаж и тренин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радите меня в соответствии с моим вкладо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9" dur="1" fill="hold"/>
                                  <p:tgtEl>
                                    <p:spTgt spid="6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09320" y="304920"/>
            <a:ext cx="487692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пасибо за работу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Предлагаю изучить следующую литерату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reeform 2"/>
          <p:cNvSpPr/>
          <p:nvPr/>
        </p:nvSpPr>
        <p:spPr>
          <a:xfrm>
            <a:off x="558720" y="1943280"/>
            <a:ext cx="7780320" cy="3585960"/>
          </a:xfrm>
          <a:custGeom>
            <a:avLst/>
            <a:gdLst>
              <a:gd name="textAreaLeft" fmla="*/ 0 w 7780320"/>
              <a:gd name="textAreaRight" fmla="*/ 7780680 w 7780320"/>
              <a:gd name="textAreaTop" fmla="*/ 0 h 3585960"/>
              <a:gd name="textAreaBottom" fmla="*/ 3586320 h 3585960"/>
            </a:gdLst>
            <a:ahLst/>
            <a:rect l="textAreaLeft" t="textAreaTop" r="textAreaRight" b="textAreaBottom"/>
            <a:pathLst>
              <a:path w="4901" h="2259">
                <a:moveTo>
                  <a:pt x="4632" y="2232"/>
                </a:moveTo>
                <a:cubicBezTo>
                  <a:pt x="4624" y="1960"/>
                  <a:pt x="4615" y="2192"/>
                  <a:pt x="4640" y="1960"/>
                </a:cubicBezTo>
                <a:cubicBezTo>
                  <a:pt x="4677" y="1757"/>
                  <a:pt x="4901" y="1116"/>
                  <a:pt x="4704" y="824"/>
                </a:cubicBezTo>
                <a:cubicBezTo>
                  <a:pt x="4547" y="529"/>
                  <a:pt x="4168" y="311"/>
                  <a:pt x="3696" y="192"/>
                </a:cubicBezTo>
                <a:cubicBezTo>
                  <a:pt x="3224" y="73"/>
                  <a:pt x="2445" y="92"/>
                  <a:pt x="1872" y="112"/>
                </a:cubicBezTo>
                <a:cubicBezTo>
                  <a:pt x="1299" y="132"/>
                  <a:pt x="512" y="0"/>
                  <a:pt x="256" y="312"/>
                </a:cubicBezTo>
                <a:cubicBezTo>
                  <a:pt x="0" y="624"/>
                  <a:pt x="72" y="1296"/>
                  <a:pt x="48" y="1568"/>
                </a:cubicBezTo>
                <a:cubicBezTo>
                  <a:pt x="24" y="1840"/>
                  <a:pt x="185" y="2052"/>
                  <a:pt x="936" y="2160"/>
                </a:cubicBezTo>
                <a:cubicBezTo>
                  <a:pt x="1389" y="2259"/>
                  <a:pt x="2856" y="2220"/>
                  <a:pt x="3472" y="2232"/>
                </a:cubicBezTo>
                <a:cubicBezTo>
                  <a:pt x="4032" y="2224"/>
                  <a:pt x="4103" y="2112"/>
                  <a:pt x="4296" y="2112"/>
                </a:cubicBezTo>
                <a:cubicBezTo>
                  <a:pt x="4489" y="2112"/>
                  <a:pt x="4562" y="2207"/>
                  <a:pt x="4632" y="223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e7dc"/>
              </a:gs>
            </a:gsLst>
            <a:lin ang="0"/>
          </a:gradFill>
          <a:ln w="63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774720" y="3670200"/>
            <a:ext cx="2819520" cy="889200"/>
          </a:xfrm>
          <a:prstGeom prst="cube">
            <a:avLst>
              <a:gd name="adj" fmla="val 464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ровень оперативного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590400"/>
            <a:ext cx="691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Осуществление управленческого цикла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 , функции руководителя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4275000" y="2649600"/>
            <a:ext cx="1117440" cy="1559880"/>
            <a:chOff x="4275000" y="2649600"/>
            <a:chExt cx="1117440" cy="1559880"/>
          </a:xfrm>
        </p:grpSpPr>
        <p:sp>
          <p:nvSpPr>
            <p:cNvPr id="115" name="Freeform 6"/>
            <p:cNvSpPr/>
            <p:nvPr/>
          </p:nvSpPr>
          <p:spPr>
            <a:xfrm>
              <a:off x="4275000" y="3051000"/>
              <a:ext cx="676440" cy="11188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118880"/>
                <a:gd name="textAreaBottom" fmla="*/ 1119240 h 1118880"/>
              </a:gdLst>
              <a:ahLst/>
              <a:rect l="textAreaLeft" t="textAreaTop" r="textAreaRight" b="textAreaBottom"/>
              <a:pathLst>
                <a:path w="612" h="1020">
                  <a:moveTo>
                    <a:pt x="600" y="180"/>
                  </a:moveTo>
                  <a:lnTo>
                    <a:pt x="612" y="12"/>
                  </a:lnTo>
                  <a:lnTo>
                    <a:pt x="402" y="0"/>
                  </a:lnTo>
                  <a:lnTo>
                    <a:pt x="462" y="60"/>
                  </a:lnTo>
                  <a:cubicBezTo>
                    <a:pt x="416" y="127"/>
                    <a:pt x="196" y="244"/>
                    <a:pt x="126" y="402"/>
                  </a:cubicBezTo>
                  <a:cubicBezTo>
                    <a:pt x="0" y="624"/>
                    <a:pt x="33" y="922"/>
                    <a:pt x="42" y="1008"/>
                  </a:cubicBezTo>
                  <a:lnTo>
                    <a:pt x="240" y="954"/>
                  </a:lnTo>
                  <a:lnTo>
                    <a:pt x="408" y="1020"/>
                  </a:lnTo>
                  <a:cubicBezTo>
                    <a:pt x="430" y="945"/>
                    <a:pt x="352" y="651"/>
                    <a:pt x="372" y="504"/>
                  </a:cubicBezTo>
                  <a:cubicBezTo>
                    <a:pt x="392" y="357"/>
                    <a:pt x="490" y="192"/>
                    <a:pt x="528" y="138"/>
                  </a:cubicBezTo>
                  <a:lnTo>
                    <a:pt x="600" y="180"/>
                  </a:lnTo>
                  <a:close/>
                </a:path>
              </a:pathLst>
            </a:custGeom>
            <a:gradFill rotWithShape="0">
              <a:gsLst>
                <a:gs pos="0">
                  <a:srgbClr val="89b9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WordArt 7"/>
            <p:cNvSpPr txBox="1"/>
            <p:nvPr/>
          </p:nvSpPr>
          <p:spPr>
            <a:xfrm rot="16973400">
              <a:off x="4459680" y="3287160"/>
              <a:ext cx="885240" cy="802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7587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ценка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17" name="Picture 8" descr="BD10301_"/>
            <p:cNvPicPr/>
            <p:nvPr/>
          </p:nvPicPr>
          <p:blipFill>
            <a:blip r:embed="rId1"/>
            <a:stretch/>
          </p:blipFill>
          <p:spPr>
            <a:xfrm>
              <a:off x="4834800" y="2649600"/>
              <a:ext cx="122760" cy="13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9"/>
          <p:cNvGrpSpPr/>
          <p:nvPr/>
        </p:nvGrpSpPr>
        <p:grpSpPr>
          <a:xfrm>
            <a:off x="5253120" y="2496960"/>
            <a:ext cx="1868040" cy="719640"/>
            <a:chOff x="5253120" y="2496960"/>
            <a:chExt cx="1868040" cy="719640"/>
          </a:xfrm>
        </p:grpSpPr>
        <p:sp>
          <p:nvSpPr>
            <p:cNvPr id="119" name="Freeform 10"/>
            <p:cNvSpPr/>
            <p:nvPr/>
          </p:nvSpPr>
          <p:spPr>
            <a:xfrm>
              <a:off x="5253120" y="2496960"/>
              <a:ext cx="1647720" cy="436680"/>
            </a:xfrm>
            <a:custGeom>
              <a:avLst/>
              <a:gdLst>
                <a:gd name="textAreaLeft" fmla="*/ 0 w 1647720"/>
                <a:gd name="textAreaRight" fmla="*/ 1648080 w 164772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1140" h="343">
                  <a:moveTo>
                    <a:pt x="1014" y="306"/>
                  </a:moveTo>
                  <a:lnTo>
                    <a:pt x="1140" y="246"/>
                  </a:lnTo>
                  <a:lnTo>
                    <a:pt x="1128" y="138"/>
                  </a:lnTo>
                  <a:lnTo>
                    <a:pt x="1086" y="192"/>
                  </a:lnTo>
                  <a:cubicBezTo>
                    <a:pt x="1005" y="175"/>
                    <a:pt x="924" y="72"/>
                    <a:pt x="642" y="36"/>
                  </a:cubicBezTo>
                  <a:cubicBezTo>
                    <a:pt x="360" y="0"/>
                    <a:pt x="77" y="99"/>
                    <a:pt x="0" y="138"/>
                  </a:cubicBezTo>
                  <a:lnTo>
                    <a:pt x="102" y="228"/>
                  </a:lnTo>
                  <a:lnTo>
                    <a:pt x="78" y="342"/>
                  </a:lnTo>
                  <a:cubicBezTo>
                    <a:pt x="151" y="343"/>
                    <a:pt x="380" y="250"/>
                    <a:pt x="540" y="234"/>
                  </a:cubicBezTo>
                  <a:cubicBezTo>
                    <a:pt x="700" y="218"/>
                    <a:pt x="959" y="234"/>
                    <a:pt x="1038" y="246"/>
                  </a:cubicBezTo>
                  <a:lnTo>
                    <a:pt x="1014" y="306"/>
                  </a:lnTo>
                  <a:close/>
                </a:path>
              </a:pathLst>
            </a:custGeom>
            <a:gradFill rotWithShape="0">
              <a:gsLst>
                <a:gs pos="0">
                  <a:srgbClr val="adc7fb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WordArt 11"/>
            <p:cNvSpPr txBox="1"/>
            <p:nvPr/>
          </p:nvSpPr>
          <p:spPr>
            <a:xfrm rot="21249600">
              <a:off x="5392440" y="2660400"/>
              <a:ext cx="1155600" cy="498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46414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нализ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21" name="Picture 12" descr="BD10298_"/>
            <p:cNvPicPr/>
            <p:nvPr/>
          </p:nvPicPr>
          <p:blipFill>
            <a:blip r:embed="rId2"/>
            <a:stretch/>
          </p:blipFill>
          <p:spPr>
            <a:xfrm>
              <a:off x="6956280" y="2782800"/>
              <a:ext cx="164880" cy="14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3"/>
          <p:cNvGrpSpPr/>
          <p:nvPr/>
        </p:nvGrpSpPr>
        <p:grpSpPr>
          <a:xfrm>
            <a:off x="4446720" y="4138560"/>
            <a:ext cx="1764000" cy="1244160"/>
            <a:chOff x="4446720" y="4138560"/>
            <a:chExt cx="1764000" cy="1244160"/>
          </a:xfrm>
        </p:grpSpPr>
        <p:sp>
          <p:nvSpPr>
            <p:cNvPr id="123" name="Freeform 14"/>
            <p:cNvSpPr/>
            <p:nvPr/>
          </p:nvSpPr>
          <p:spPr>
            <a:xfrm>
              <a:off x="4497120" y="4375080"/>
              <a:ext cx="1534680" cy="975960"/>
            </a:xfrm>
            <a:custGeom>
              <a:avLst/>
              <a:gdLst>
                <a:gd name="textAreaLeft" fmla="*/ 0 w 1534680"/>
                <a:gd name="textAreaRight" fmla="*/ 1535040 w 1534680"/>
                <a:gd name="textAreaTop" fmla="*/ 0 h 975960"/>
                <a:gd name="textAreaBottom" fmla="*/ 976320 h 975960"/>
              </a:gdLst>
              <a:ahLst/>
              <a:rect l="textAreaLeft" t="textAreaTop" r="textAreaRight" b="textAreaBottom"/>
              <a:pathLst>
                <a:path w="1062" h="768">
                  <a:moveTo>
                    <a:pt x="270" y="24"/>
                  </a:moveTo>
                  <a:lnTo>
                    <a:pt x="54" y="0"/>
                  </a:lnTo>
                  <a:lnTo>
                    <a:pt x="0" y="150"/>
                  </a:lnTo>
                  <a:lnTo>
                    <a:pt x="60" y="120"/>
                  </a:lnTo>
                  <a:cubicBezTo>
                    <a:pt x="126" y="183"/>
                    <a:pt x="246" y="420"/>
                    <a:pt x="396" y="528"/>
                  </a:cubicBezTo>
                  <a:cubicBezTo>
                    <a:pt x="510" y="624"/>
                    <a:pt x="853" y="739"/>
                    <a:pt x="960" y="768"/>
                  </a:cubicBezTo>
                  <a:lnTo>
                    <a:pt x="960" y="636"/>
                  </a:lnTo>
                  <a:lnTo>
                    <a:pt x="1062" y="540"/>
                  </a:lnTo>
                  <a:cubicBezTo>
                    <a:pt x="1000" y="496"/>
                    <a:pt x="735" y="449"/>
                    <a:pt x="588" y="372"/>
                  </a:cubicBezTo>
                  <a:cubicBezTo>
                    <a:pt x="474" y="324"/>
                    <a:pt x="221" y="128"/>
                    <a:pt x="180" y="78"/>
                  </a:cubicBezTo>
                  <a:lnTo>
                    <a:pt x="270" y="24"/>
                  </a:lnTo>
                  <a:close/>
                </a:path>
              </a:pathLst>
            </a:custGeom>
            <a:gradFill rotWithShape="0">
              <a:gsLst>
                <a:gs pos="0">
                  <a:srgbClr val="f7d2f8">
                    <a:alpha val="73333"/>
                  </a:srgbClr>
                </a:gs>
                <a:gs pos="100000">
                  <a:srgbClr val="badedd">
                    <a:alpha val="7607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WordArt 15"/>
            <p:cNvSpPr txBox="1"/>
            <p:nvPr/>
          </p:nvSpPr>
          <p:spPr>
            <a:xfrm rot="1880400">
              <a:off x="4698360" y="4480920"/>
              <a:ext cx="1474560" cy="558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4067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ординация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25" name="Picture 16" descr="BD10302_"/>
            <p:cNvPicPr/>
            <p:nvPr/>
          </p:nvPicPr>
          <p:blipFill>
            <a:blip r:embed="rId3"/>
            <a:stretch/>
          </p:blipFill>
          <p:spPr>
            <a:xfrm>
              <a:off x="4446720" y="4199040"/>
              <a:ext cx="15516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17"/>
          <p:cNvGrpSpPr/>
          <p:nvPr/>
        </p:nvGrpSpPr>
        <p:grpSpPr>
          <a:xfrm>
            <a:off x="6089760" y="4201920"/>
            <a:ext cx="1877400" cy="1057320"/>
            <a:chOff x="6089760" y="4201920"/>
            <a:chExt cx="1877400" cy="1057320"/>
          </a:xfrm>
        </p:grpSpPr>
        <p:sp>
          <p:nvSpPr>
            <p:cNvPr id="127" name="Freeform 18"/>
            <p:cNvSpPr/>
            <p:nvPr/>
          </p:nvSpPr>
          <p:spPr>
            <a:xfrm>
              <a:off x="6319800" y="4245120"/>
              <a:ext cx="1647360" cy="1014120"/>
            </a:xfrm>
            <a:custGeom>
              <a:avLst/>
              <a:gdLst>
                <a:gd name="textAreaLeft" fmla="*/ 0 w 1647360"/>
                <a:gd name="textAreaRight" fmla="*/ 1647720 w 164736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1140" h="798">
                  <a:moveTo>
                    <a:pt x="66" y="582"/>
                  </a:moveTo>
                  <a:lnTo>
                    <a:pt x="0" y="720"/>
                  </a:lnTo>
                  <a:lnTo>
                    <a:pt x="126" y="798"/>
                  </a:lnTo>
                  <a:lnTo>
                    <a:pt x="126" y="744"/>
                  </a:lnTo>
                  <a:cubicBezTo>
                    <a:pt x="229" y="704"/>
                    <a:pt x="575" y="672"/>
                    <a:pt x="744" y="558"/>
                  </a:cubicBezTo>
                  <a:cubicBezTo>
                    <a:pt x="1020" y="372"/>
                    <a:pt x="1077" y="171"/>
                    <a:pt x="1140" y="60"/>
                  </a:cubicBezTo>
                  <a:lnTo>
                    <a:pt x="924" y="36"/>
                  </a:lnTo>
                  <a:lnTo>
                    <a:pt x="810" y="0"/>
                  </a:lnTo>
                  <a:cubicBezTo>
                    <a:pt x="753" y="58"/>
                    <a:pt x="701" y="277"/>
                    <a:pt x="582" y="384"/>
                  </a:cubicBezTo>
                  <a:cubicBezTo>
                    <a:pt x="463" y="491"/>
                    <a:pt x="182" y="609"/>
                    <a:pt x="96" y="642"/>
                  </a:cubicBezTo>
                  <a:lnTo>
                    <a:pt x="66" y="582"/>
                  </a:lnTo>
                  <a:close/>
                </a:path>
              </a:pathLst>
            </a:custGeom>
            <a:gradFill rotWithShape="0">
              <a:gsLst>
                <a:gs pos="0">
                  <a:srgbClr val="fdad97"/>
                </a:gs>
                <a:gs pos="100000">
                  <a:srgbClr val="badedd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WordArt 19"/>
            <p:cNvSpPr txBox="1"/>
            <p:nvPr/>
          </p:nvSpPr>
          <p:spPr>
            <a:xfrm rot="19311600">
              <a:off x="6662520" y="4506840"/>
              <a:ext cx="1103040" cy="333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65047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29" name="Picture 20" descr="BD10297_"/>
            <p:cNvPicPr/>
            <p:nvPr/>
          </p:nvPicPr>
          <p:blipFill>
            <a:blip r:embed="rId4"/>
            <a:stretch/>
          </p:blipFill>
          <p:spPr>
            <a:xfrm>
              <a:off x="6089760" y="5118120"/>
              <a:ext cx="129960" cy="11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21"/>
          <p:cNvGrpSpPr/>
          <p:nvPr/>
        </p:nvGrpSpPr>
        <p:grpSpPr>
          <a:xfrm>
            <a:off x="6915240" y="2798640"/>
            <a:ext cx="1069560" cy="1319040"/>
            <a:chOff x="6915240" y="2798640"/>
            <a:chExt cx="1069560" cy="1319040"/>
          </a:xfrm>
        </p:grpSpPr>
        <p:sp>
          <p:nvSpPr>
            <p:cNvPr id="131" name="Freeform 22"/>
            <p:cNvSpPr/>
            <p:nvPr/>
          </p:nvSpPr>
          <p:spPr>
            <a:xfrm>
              <a:off x="6915240" y="2798640"/>
              <a:ext cx="1069560" cy="1290240"/>
            </a:xfrm>
            <a:custGeom>
              <a:avLst/>
              <a:gdLst>
                <a:gd name="textAreaLeft" fmla="*/ 0 w 1069560"/>
                <a:gd name="textAreaRight" fmla="*/ 1069920 w 1069560"/>
                <a:gd name="textAreaTop" fmla="*/ 0 h 1290240"/>
                <a:gd name="textAreaBottom" fmla="*/ 1290600 h 1290240"/>
              </a:gdLst>
              <a:ahLst/>
              <a:rect l="textAreaLeft" t="textAreaTop" r="textAreaRight" b="textAreaBottom"/>
              <a:pathLst>
                <a:path w="738" h="1056">
                  <a:moveTo>
                    <a:pt x="480" y="960"/>
                  </a:moveTo>
                  <a:lnTo>
                    <a:pt x="588" y="1056"/>
                  </a:lnTo>
                  <a:lnTo>
                    <a:pt x="738" y="972"/>
                  </a:lnTo>
                  <a:lnTo>
                    <a:pt x="684" y="972"/>
                  </a:lnTo>
                  <a:cubicBezTo>
                    <a:pt x="668" y="899"/>
                    <a:pt x="717" y="696"/>
                    <a:pt x="642" y="534"/>
                  </a:cubicBezTo>
                  <a:cubicBezTo>
                    <a:pt x="543" y="267"/>
                    <a:pt x="317" y="67"/>
                    <a:pt x="234" y="0"/>
                  </a:cubicBezTo>
                  <a:lnTo>
                    <a:pt x="144" y="132"/>
                  </a:lnTo>
                  <a:lnTo>
                    <a:pt x="0" y="186"/>
                  </a:lnTo>
                  <a:cubicBezTo>
                    <a:pt x="45" y="258"/>
                    <a:pt x="326" y="436"/>
                    <a:pt x="414" y="564"/>
                  </a:cubicBezTo>
                  <a:cubicBezTo>
                    <a:pt x="502" y="692"/>
                    <a:pt x="517" y="888"/>
                    <a:pt x="528" y="954"/>
                  </a:cubicBezTo>
                  <a:lnTo>
                    <a:pt x="480" y="96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da89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WordArt 23"/>
            <p:cNvSpPr txBox="1"/>
            <p:nvPr/>
          </p:nvSpPr>
          <p:spPr>
            <a:xfrm rot="3926400">
              <a:off x="7001280" y="3330720"/>
              <a:ext cx="1017720" cy="379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ланирование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33" name="Picture 24" descr="BD21294_"/>
            <p:cNvPicPr/>
            <p:nvPr/>
          </p:nvPicPr>
          <p:blipFill>
            <a:blip r:embed="rId5"/>
            <a:stretch/>
          </p:blipFill>
          <p:spPr>
            <a:xfrm>
              <a:off x="7671240" y="4007880"/>
              <a:ext cx="117720" cy="10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25" descr="dartgoal"/>
          <p:cNvPicPr/>
          <p:nvPr/>
        </p:nvPicPr>
        <p:blipFill>
          <a:blip r:embed="rId6"/>
          <a:stretch/>
        </p:blipFill>
        <p:spPr>
          <a:xfrm>
            <a:off x="7843680" y="5178600"/>
            <a:ext cx="933480" cy="933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6" descr="buzzy063"/>
          <p:cNvPicPr/>
          <p:nvPr/>
        </p:nvPicPr>
        <p:blipFill>
          <a:blip r:embed="rId7"/>
          <a:stretch/>
        </p:blipFill>
        <p:spPr>
          <a:xfrm>
            <a:off x="5052960" y="2576520"/>
            <a:ext cx="1698840" cy="17334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27"/>
          <p:cNvSpPr/>
          <p:nvPr/>
        </p:nvSpPr>
        <p:spPr>
          <a:xfrm>
            <a:off x="1066680" y="2997360"/>
            <a:ext cx="3098880" cy="888840"/>
          </a:xfrm>
          <a:prstGeom prst="cube">
            <a:avLst>
              <a:gd name="adj" fmla="val 464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ровень тактическо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8"/>
          <p:cNvSpPr/>
          <p:nvPr/>
        </p:nvSpPr>
        <p:spPr>
          <a:xfrm>
            <a:off x="1422360" y="2324160"/>
            <a:ext cx="3098880" cy="888840"/>
          </a:xfrm>
          <a:prstGeom prst="cube">
            <a:avLst>
              <a:gd name="adj" fmla="val 46430"/>
            </a:avLst>
          </a:prstGeom>
          <a:solidFill>
            <a:srgbClr val="fdad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ровень стратегическог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29"/>
          <p:cNvGrpSpPr/>
          <p:nvPr/>
        </p:nvGrpSpPr>
        <p:grpSpPr>
          <a:xfrm>
            <a:off x="2043000" y="2324160"/>
            <a:ext cx="5406480" cy="3068640"/>
            <a:chOff x="2043000" y="2324160"/>
            <a:chExt cx="5406480" cy="3068640"/>
          </a:xfrm>
        </p:grpSpPr>
        <p:sp>
          <p:nvSpPr>
            <p:cNvPr id="139" name="WordArt 30"/>
            <p:cNvSpPr txBox="1"/>
            <p:nvPr/>
          </p:nvSpPr>
          <p:spPr>
            <a:xfrm>
              <a:off x="5141880" y="4373640"/>
              <a:ext cx="511200" cy="66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?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0" name="WordArt 31"/>
            <p:cNvSpPr txBox="1"/>
            <p:nvPr/>
          </p:nvSpPr>
          <p:spPr>
            <a:xfrm>
              <a:off x="4595760" y="2354400"/>
              <a:ext cx="549360" cy="76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0"/>
                    <a:srcRect/>
                    <a:tile tx="0" ty="0" sx="100000" sy="100000" algn="ctr"/>
                  </a:blipFill>
                  <a:latin typeface="Arial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sp>
          <p:nvSpPr>
            <p:cNvPr id="141" name="WordArt 32"/>
            <p:cNvSpPr txBox="1"/>
            <p:nvPr/>
          </p:nvSpPr>
          <p:spPr>
            <a:xfrm>
              <a:off x="5929200" y="2709720"/>
              <a:ext cx="2574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cbcbcb"/>
                      </a:gs>
                      <a:gs pos="100000">
                        <a:srgbClr val="eaeaea"/>
                      </a:gs>
                    </a:gsLst>
                    <a:lin ang="5400000"/>
                  </a:gradFill>
                  <a:latin typeface="Times New Roman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142" name="WordArt 33"/>
            <p:cNvSpPr txBox="1"/>
            <p:nvPr/>
          </p:nvSpPr>
          <p:spPr>
            <a:xfrm rot="21157200">
              <a:off x="3668760" y="3026880"/>
              <a:ext cx="396720" cy="81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?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3" name="WordArt 34"/>
            <p:cNvSpPr txBox="1"/>
            <p:nvPr/>
          </p:nvSpPr>
          <p:spPr>
            <a:xfrm rot="21137400">
              <a:off x="7046640" y="2379240"/>
              <a:ext cx="37152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3069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882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?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8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4" name="WordArt 35"/>
            <p:cNvSpPr txBox="1"/>
            <p:nvPr/>
          </p:nvSpPr>
          <p:spPr>
            <a:xfrm>
              <a:off x="2639880" y="4183200"/>
              <a:ext cx="409680" cy="68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?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5" name="WordArt 36"/>
            <p:cNvSpPr txBox="1"/>
            <p:nvPr/>
          </p:nvSpPr>
          <p:spPr>
            <a:xfrm>
              <a:off x="2043000" y="2938320"/>
              <a:ext cx="2574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2"/>
                    <a:srcRect/>
                    <a:tile tx="0" ty="0" sx="100000" sy="100000" algn="ctr"/>
                  </a:blipFill>
                  <a:latin typeface="Arial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sp>
          <p:nvSpPr>
            <p:cNvPr id="146" name="WordArt 37"/>
            <p:cNvSpPr txBox="1"/>
            <p:nvPr/>
          </p:nvSpPr>
          <p:spPr>
            <a:xfrm>
              <a:off x="4037040" y="448776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4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7" name="WordArt 38"/>
            <p:cNvSpPr txBox="1"/>
            <p:nvPr/>
          </p:nvSpPr>
          <p:spPr>
            <a:xfrm>
              <a:off x="6246720" y="4869000"/>
              <a:ext cx="2574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?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8" name="WordArt 39"/>
            <p:cNvSpPr txBox="1"/>
            <p:nvPr/>
          </p:nvSpPr>
          <p:spPr>
            <a:xfrm rot="20402400">
              <a:off x="2855520" y="2450880"/>
              <a:ext cx="901800" cy="898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50093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9" name="WordArt 40"/>
            <p:cNvSpPr txBox="1"/>
            <p:nvPr/>
          </p:nvSpPr>
          <p:spPr>
            <a:xfrm>
              <a:off x="4976640" y="3510000"/>
              <a:ext cx="2574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Times New Roman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  <p:sp>
        <p:nvSpPr>
          <p:cNvPr id="150" name="Text Box 41"/>
          <p:cNvSpPr/>
          <p:nvPr/>
        </p:nvSpPr>
        <p:spPr>
          <a:xfrm>
            <a:off x="3427920" y="355680"/>
            <a:ext cx="29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SimSun"/>
                <a:ea typeface="Arial"/>
              </a:rPr>
              <a:t>Базовые навыки менеджер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amm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32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40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41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50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59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67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68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 для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– это одна из функций 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необходим 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новки целей  для достижения результата в условиях ограничен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7:24:46Z</dcterms:created>
  <dc:creator>Елена</dc:creator>
  <dc:description/>
  <dc:language>en-US</dc:language>
  <cp:lastModifiedBy>Валентина Геннадьевна Константинова</cp:lastModifiedBy>
  <cp:lastPrinted>2016-02-08T08:41:19Z</cp:lastPrinted>
  <dcterms:modified xsi:type="dcterms:W3CDTF">2016-02-08T08:57:33Z</dcterms:modified>
  <cp:revision>123</cp:revision>
  <dc:subject/>
  <dc:title>Презентация PowerPoint</dc:title>
</cp:coreProperties>
</file>