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6.gif" ContentType="image/gif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50D-C3FB-4A5D-85C7-0325436E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13E-F37F-46F2-9B19-1B4ECC3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BFC-A1A6-45BF-9A43-1497D213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2B7-12F5-4C6E-8464-2BDE83BF0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D0CE4-9D05-4A18-A902-9EC57351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0B38-E9BE-4825-97D2-64FD82AA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84A78-CCA0-4B09-8D05-6834FA17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043AC-36CE-43C9-9949-B5F1D95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ED5D-F48E-47C2-A0F6-3A093EDB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3025-E051-4755-A919-9F5C86E7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F51AF-AC43-4DD7-93B9-EC48F18B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18B-BA2E-4529-908B-3E665CC6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D6BC0-F4DB-4E0B-954D-C7154183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865BE-2FFB-4017-9ED9-4BE3546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71CD-D844-4368-A847-880B3CE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74FF-7A61-4297-8AF8-24CCB602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2EA5C-C295-4FF1-8CEB-65D2F521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C680B-0269-4ABE-8967-D95C567A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E4478-0195-4DB6-B741-4770740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FD096-3629-4C24-9D7D-CCB3AFD9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4DDE6-EAEB-4B2F-BEAB-3C4CCCFD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586AB-AA66-44E2-A014-32689C0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D557-728F-4819-A723-6465ECB1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15F8C-BF7E-4660-956F-FD441F9A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98EB2-99E5-410A-B359-D1AA0412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CC0DD-D8B1-40AF-8252-241D96E5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3C608-EE18-4FB8-8D8F-77CD9E6D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AFEB6F-78D3-4329-9A29-5CEE1791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64315-5225-4CFE-AEFD-4464F32F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C2CEA8-E9D4-4DCA-83F6-ABA3665C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1F1455-13CC-4C11-B8D8-9A73FDCB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02DED-1BF6-45BC-9C0C-6C3D2FFC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D2380-C04C-4B3E-855A-892F82D2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058-6756-45DF-A64F-49B73C36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3630F-92E2-4E04-BCAD-BDC72AEE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A9FE3-37D8-4167-AF54-B5D8E393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48267-659D-4576-863B-4AE09969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300F7-E9D9-4626-AFA8-FEF92911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EE1ED-BB27-4D4C-929A-28A7962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15B5D-2434-42DA-99AF-17DFC81A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92A32-3B95-4A14-A137-BCCAB41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A81F55-BC7B-442C-93FB-DD03F0DF9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02E4AB-13BB-4576-9DC8-3B46BE63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9A6EE-7408-4A00-9269-D9335747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FD9-7AEF-4885-A6E3-81EE2706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CE24D-366C-4467-A109-B0830E85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9FC43-3F71-42F9-A646-81F932EC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B09FF-2BBB-43F6-B30B-FB7911F4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6B17D-0BE9-4002-8010-2FBCABAA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7204E-BC11-46D3-B714-D4A5CE31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D20053-D283-4E3F-89FB-6252C3F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9BABC-6F22-451B-991D-196C6D0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A9D91-281C-4051-9079-3BA2C7AB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56F97-E838-4EA3-9373-3E3D62EC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96A25-5A91-481F-8B37-697AEC6D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D64E-5A13-445F-BB73-6586FD16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55BE5-6EBF-4D38-8995-F3688D08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017-F954-49C7-BA8F-172DDF2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C7C-E80F-47D0-8002-39942180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9140-84AA-45EB-AF32-704B6CC8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B146-B63E-4CB0-A16F-724B99C988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5D1B-9988-4AC1-8A7F-F1DD68EB0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BEC-C3D6-4B91-BB55-42620A0BE5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1B13-0179-43CD-BBD7-2B5AD76AF6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BF5D-380D-4DB2-9ABF-238AE599D7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ЧЕСКИ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356920" y="4581000"/>
            <a:ext cx="6527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зор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фимов Евгений Фед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выборе метода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 ли проблема комплексного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блема или возмо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лассифицировать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ально существующая или надуманная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финансовая проблема или она связана с отношениями между люд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зойдет, если не принимать никакого ре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уникальность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последовательность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Задачи руководителя при продумывании 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уг лиц, способных разработать и реализовать способы ее решения и получения положительного ис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рок разрешения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 утвердить способы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ть выделение требуемых средств решения проблемы (трудовых, материальных, финансов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внутренние элементы проблемы, установить степень их влияния на реше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критерию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1100880" y="1007640"/>
            <a:ext cx="67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выражаться чи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принимать одно из следующих знач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243080" y="1628640"/>
            <a:ext cx="5829120" cy="2521080"/>
            <a:chOff x="1243080" y="1628640"/>
            <a:chExt cx="5829120" cy="2521080"/>
          </a:xfrm>
        </p:grpSpPr>
        <p:sp>
          <p:nvSpPr>
            <p:cNvPr id="332" name="AutoShape 38"/>
            <p:cNvSpPr/>
            <p:nvPr/>
          </p:nvSpPr>
          <p:spPr>
            <a:xfrm>
              <a:off x="1243080" y="1628640"/>
              <a:ext cx="582912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35"/>
            <p:cNvGrpSpPr/>
            <p:nvPr/>
          </p:nvGrpSpPr>
          <p:grpSpPr>
            <a:xfrm>
              <a:off x="1700280" y="2035440"/>
              <a:ext cx="1142280" cy="1382400"/>
              <a:chOff x="1700280" y="2035440"/>
              <a:chExt cx="1142280" cy="1382400"/>
            </a:xfrm>
          </p:grpSpPr>
          <p:sp>
            <p:nvSpPr>
              <p:cNvPr id="334" name="Line 37"/>
              <p:cNvSpPr/>
              <p:nvPr/>
            </p:nvSpPr>
            <p:spPr>
              <a:xfrm flipV="1">
                <a:off x="170028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>
                <a:off x="170028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2"/>
            <p:cNvGrpSpPr/>
            <p:nvPr/>
          </p:nvGrpSpPr>
          <p:grpSpPr>
            <a:xfrm>
              <a:off x="3529440" y="2035440"/>
              <a:ext cx="1142280" cy="1382400"/>
              <a:chOff x="3529440" y="2035440"/>
              <a:chExt cx="1142280" cy="1382400"/>
            </a:xfrm>
          </p:grpSpPr>
          <p:sp>
            <p:nvSpPr>
              <p:cNvPr id="337" name="Line 34"/>
              <p:cNvSpPr/>
              <p:nvPr/>
            </p:nvSpPr>
            <p:spPr>
              <a:xfrm flipV="1">
                <a:off x="352944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52944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9"/>
            <p:cNvGrpSpPr/>
            <p:nvPr/>
          </p:nvGrpSpPr>
          <p:grpSpPr>
            <a:xfrm>
              <a:off x="5472360" y="2035440"/>
              <a:ext cx="1142280" cy="1382400"/>
              <a:chOff x="5472360" y="2035440"/>
              <a:chExt cx="1142280" cy="1382400"/>
            </a:xfrm>
          </p:grpSpPr>
          <p:sp>
            <p:nvSpPr>
              <p:cNvPr id="340" name="Line 31"/>
              <p:cNvSpPr/>
              <p:nvPr/>
            </p:nvSpPr>
            <p:spPr>
              <a:xfrm flipV="1">
                <a:off x="547236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0"/>
              <p:cNvSpPr/>
              <p:nvPr/>
            </p:nvSpPr>
            <p:spPr>
              <a:xfrm>
                <a:off x="547236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8"/>
            <p:cNvSpPr/>
            <p:nvPr/>
          </p:nvSpPr>
          <p:spPr>
            <a:xfrm>
              <a:off x="1800720" y="2474280"/>
              <a:ext cx="819360" cy="79524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290" h="1760">
                  <a:moveTo>
                    <a:pt x="0" y="1670"/>
                  </a:moveTo>
                  <a:cubicBezTo>
                    <a:pt x="133" y="1470"/>
                    <a:pt x="54" y="1622"/>
                    <a:pt x="75" y="1190"/>
                  </a:cubicBezTo>
                  <a:cubicBezTo>
                    <a:pt x="80" y="1090"/>
                    <a:pt x="60" y="980"/>
                    <a:pt x="105" y="890"/>
                  </a:cubicBezTo>
                  <a:cubicBezTo>
                    <a:pt x="141" y="818"/>
                    <a:pt x="161" y="804"/>
                    <a:pt x="210" y="755"/>
                  </a:cubicBezTo>
                  <a:cubicBezTo>
                    <a:pt x="222" y="719"/>
                    <a:pt x="246" y="687"/>
                    <a:pt x="255" y="650"/>
                  </a:cubicBezTo>
                  <a:cubicBezTo>
                    <a:pt x="265" y="611"/>
                    <a:pt x="257" y="568"/>
                    <a:pt x="270" y="530"/>
                  </a:cubicBezTo>
                  <a:cubicBezTo>
                    <a:pt x="284" y="489"/>
                    <a:pt x="326" y="463"/>
                    <a:pt x="345" y="425"/>
                  </a:cubicBezTo>
                  <a:cubicBezTo>
                    <a:pt x="357" y="401"/>
                    <a:pt x="369" y="342"/>
                    <a:pt x="375" y="320"/>
                  </a:cubicBezTo>
                  <a:cubicBezTo>
                    <a:pt x="400" y="232"/>
                    <a:pt x="376" y="318"/>
                    <a:pt x="420" y="230"/>
                  </a:cubicBezTo>
                  <a:cubicBezTo>
                    <a:pt x="443" y="183"/>
                    <a:pt x="426" y="172"/>
                    <a:pt x="465" y="125"/>
                  </a:cubicBezTo>
                  <a:cubicBezTo>
                    <a:pt x="477" y="111"/>
                    <a:pt x="495" y="105"/>
                    <a:pt x="510" y="95"/>
                  </a:cubicBezTo>
                  <a:cubicBezTo>
                    <a:pt x="553" y="30"/>
                    <a:pt x="567" y="47"/>
                    <a:pt x="630" y="5"/>
                  </a:cubicBezTo>
                  <a:cubicBezTo>
                    <a:pt x="685" y="12"/>
                    <a:pt x="751" y="0"/>
                    <a:pt x="795" y="35"/>
                  </a:cubicBezTo>
                  <a:cubicBezTo>
                    <a:pt x="827" y="61"/>
                    <a:pt x="846" y="142"/>
                    <a:pt x="855" y="170"/>
                  </a:cubicBezTo>
                  <a:cubicBezTo>
                    <a:pt x="877" y="235"/>
                    <a:pt x="892" y="293"/>
                    <a:pt x="930" y="350"/>
                  </a:cubicBezTo>
                  <a:cubicBezTo>
                    <a:pt x="947" y="468"/>
                    <a:pt x="967" y="597"/>
                    <a:pt x="1005" y="710"/>
                  </a:cubicBezTo>
                  <a:cubicBezTo>
                    <a:pt x="1015" y="740"/>
                    <a:pt x="1029" y="769"/>
                    <a:pt x="1035" y="800"/>
                  </a:cubicBezTo>
                  <a:cubicBezTo>
                    <a:pt x="1062" y="933"/>
                    <a:pt x="1067" y="1061"/>
                    <a:pt x="1110" y="1190"/>
                  </a:cubicBezTo>
                  <a:cubicBezTo>
                    <a:pt x="1116" y="1207"/>
                    <a:pt x="1132" y="1219"/>
                    <a:pt x="1140" y="1235"/>
                  </a:cubicBezTo>
                  <a:cubicBezTo>
                    <a:pt x="1174" y="1302"/>
                    <a:pt x="1194" y="1373"/>
                    <a:pt x="1215" y="1445"/>
                  </a:cubicBezTo>
                  <a:cubicBezTo>
                    <a:pt x="1224" y="1475"/>
                    <a:pt x="1235" y="1505"/>
                    <a:pt x="1245" y="1535"/>
                  </a:cubicBezTo>
                  <a:cubicBezTo>
                    <a:pt x="1250" y="1550"/>
                    <a:pt x="1260" y="1580"/>
                    <a:pt x="1260" y="1580"/>
                  </a:cubicBezTo>
                  <a:cubicBezTo>
                    <a:pt x="1240" y="1600"/>
                    <a:pt x="1206" y="1612"/>
                    <a:pt x="1200" y="1640"/>
                  </a:cubicBezTo>
                  <a:cubicBezTo>
                    <a:pt x="1197" y="1656"/>
                    <a:pt x="1236" y="1642"/>
                    <a:pt x="1245" y="1655"/>
                  </a:cubicBezTo>
                  <a:cubicBezTo>
                    <a:pt x="1263" y="1681"/>
                    <a:pt x="1265" y="1715"/>
                    <a:pt x="1275" y="1745"/>
                  </a:cubicBezTo>
                  <a:cubicBezTo>
                    <a:pt x="1277" y="1752"/>
                    <a:pt x="1285" y="1755"/>
                    <a:pt x="1290" y="17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3632040" y="2313720"/>
              <a:ext cx="1102680" cy="96120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736" h="2127">
                  <a:moveTo>
                    <a:pt x="56" y="0"/>
                  </a:moveTo>
                  <a:cubicBezTo>
                    <a:pt x="0" y="167"/>
                    <a:pt x="50" y="313"/>
                    <a:pt x="101" y="465"/>
                  </a:cubicBezTo>
                  <a:cubicBezTo>
                    <a:pt x="124" y="533"/>
                    <a:pt x="128" y="595"/>
                    <a:pt x="161" y="660"/>
                  </a:cubicBezTo>
                  <a:cubicBezTo>
                    <a:pt x="64" y="806"/>
                    <a:pt x="142" y="963"/>
                    <a:pt x="191" y="1110"/>
                  </a:cubicBezTo>
                  <a:cubicBezTo>
                    <a:pt x="151" y="1231"/>
                    <a:pt x="242" y="1348"/>
                    <a:pt x="311" y="1440"/>
                  </a:cubicBezTo>
                  <a:cubicBezTo>
                    <a:pt x="339" y="1478"/>
                    <a:pt x="357" y="1523"/>
                    <a:pt x="386" y="1560"/>
                  </a:cubicBezTo>
                  <a:cubicBezTo>
                    <a:pt x="408" y="1588"/>
                    <a:pt x="438" y="1609"/>
                    <a:pt x="461" y="1635"/>
                  </a:cubicBezTo>
                  <a:cubicBezTo>
                    <a:pt x="521" y="1703"/>
                    <a:pt x="554" y="1791"/>
                    <a:pt x="611" y="1860"/>
                  </a:cubicBezTo>
                  <a:cubicBezTo>
                    <a:pt x="643" y="1898"/>
                    <a:pt x="681" y="1930"/>
                    <a:pt x="716" y="1965"/>
                  </a:cubicBezTo>
                  <a:cubicBezTo>
                    <a:pt x="776" y="2025"/>
                    <a:pt x="811" y="2087"/>
                    <a:pt x="896" y="2115"/>
                  </a:cubicBezTo>
                  <a:cubicBezTo>
                    <a:pt x="961" y="2108"/>
                    <a:pt x="1040" y="2127"/>
                    <a:pt x="1091" y="2085"/>
                  </a:cubicBezTo>
                  <a:cubicBezTo>
                    <a:pt x="1110" y="2069"/>
                    <a:pt x="1120" y="2044"/>
                    <a:pt x="1136" y="2025"/>
                  </a:cubicBezTo>
                  <a:cubicBezTo>
                    <a:pt x="1283" y="1853"/>
                    <a:pt x="1087" y="2089"/>
                    <a:pt x="1226" y="1950"/>
                  </a:cubicBezTo>
                  <a:cubicBezTo>
                    <a:pt x="1259" y="1917"/>
                    <a:pt x="1286" y="1880"/>
                    <a:pt x="1316" y="1845"/>
                  </a:cubicBezTo>
                  <a:cubicBezTo>
                    <a:pt x="1416" y="1724"/>
                    <a:pt x="1266" y="1887"/>
                    <a:pt x="1376" y="1740"/>
                  </a:cubicBezTo>
                  <a:cubicBezTo>
                    <a:pt x="1393" y="1717"/>
                    <a:pt x="1416" y="1700"/>
                    <a:pt x="1436" y="1680"/>
                  </a:cubicBezTo>
                  <a:cubicBezTo>
                    <a:pt x="1446" y="1650"/>
                    <a:pt x="1451" y="1618"/>
                    <a:pt x="1466" y="1590"/>
                  </a:cubicBezTo>
                  <a:cubicBezTo>
                    <a:pt x="1476" y="1571"/>
                    <a:pt x="1502" y="1564"/>
                    <a:pt x="1511" y="1545"/>
                  </a:cubicBezTo>
                  <a:cubicBezTo>
                    <a:pt x="1557" y="1454"/>
                    <a:pt x="1560" y="1389"/>
                    <a:pt x="1616" y="1305"/>
                  </a:cubicBezTo>
                  <a:cubicBezTo>
                    <a:pt x="1628" y="1138"/>
                    <a:pt x="1628" y="967"/>
                    <a:pt x="1691" y="810"/>
                  </a:cubicBezTo>
                  <a:cubicBezTo>
                    <a:pt x="1705" y="680"/>
                    <a:pt x="1736" y="551"/>
                    <a:pt x="1736" y="4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>
              <a:off x="5610600" y="2191680"/>
              <a:ext cx="1200600" cy="109116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890" h="2415">
                  <a:moveTo>
                    <a:pt x="0" y="0"/>
                  </a:moveTo>
                  <a:cubicBezTo>
                    <a:pt x="10" y="30"/>
                    <a:pt x="17" y="61"/>
                    <a:pt x="30" y="90"/>
                  </a:cubicBezTo>
                  <a:cubicBezTo>
                    <a:pt x="37" y="106"/>
                    <a:pt x="53" y="118"/>
                    <a:pt x="60" y="135"/>
                  </a:cubicBezTo>
                  <a:cubicBezTo>
                    <a:pt x="78" y="179"/>
                    <a:pt x="79" y="231"/>
                    <a:pt x="105" y="270"/>
                  </a:cubicBezTo>
                  <a:cubicBezTo>
                    <a:pt x="150" y="337"/>
                    <a:pt x="167" y="409"/>
                    <a:pt x="210" y="480"/>
                  </a:cubicBezTo>
                  <a:cubicBezTo>
                    <a:pt x="274" y="587"/>
                    <a:pt x="319" y="699"/>
                    <a:pt x="375" y="810"/>
                  </a:cubicBezTo>
                  <a:cubicBezTo>
                    <a:pt x="401" y="940"/>
                    <a:pt x="464" y="1061"/>
                    <a:pt x="510" y="1185"/>
                  </a:cubicBezTo>
                  <a:cubicBezTo>
                    <a:pt x="538" y="1260"/>
                    <a:pt x="537" y="1336"/>
                    <a:pt x="570" y="1410"/>
                  </a:cubicBezTo>
                  <a:cubicBezTo>
                    <a:pt x="593" y="1461"/>
                    <a:pt x="612" y="1515"/>
                    <a:pt x="645" y="1560"/>
                  </a:cubicBezTo>
                  <a:cubicBezTo>
                    <a:pt x="674" y="1600"/>
                    <a:pt x="735" y="1680"/>
                    <a:pt x="735" y="1680"/>
                  </a:cubicBezTo>
                  <a:cubicBezTo>
                    <a:pt x="730" y="1700"/>
                    <a:pt x="713" y="1720"/>
                    <a:pt x="720" y="1740"/>
                  </a:cubicBezTo>
                  <a:cubicBezTo>
                    <a:pt x="736" y="1787"/>
                    <a:pt x="780" y="1820"/>
                    <a:pt x="810" y="1860"/>
                  </a:cubicBezTo>
                  <a:cubicBezTo>
                    <a:pt x="855" y="1920"/>
                    <a:pt x="892" y="1987"/>
                    <a:pt x="945" y="2040"/>
                  </a:cubicBezTo>
                  <a:cubicBezTo>
                    <a:pt x="1085" y="2180"/>
                    <a:pt x="930" y="1985"/>
                    <a:pt x="1050" y="2145"/>
                  </a:cubicBezTo>
                  <a:cubicBezTo>
                    <a:pt x="1040" y="2160"/>
                    <a:pt x="1015" y="2173"/>
                    <a:pt x="1020" y="2190"/>
                  </a:cubicBezTo>
                  <a:cubicBezTo>
                    <a:pt x="1042" y="2266"/>
                    <a:pt x="1131" y="2257"/>
                    <a:pt x="1185" y="2265"/>
                  </a:cubicBezTo>
                  <a:cubicBezTo>
                    <a:pt x="1205" y="2275"/>
                    <a:pt x="1228" y="2281"/>
                    <a:pt x="1245" y="2295"/>
                  </a:cubicBezTo>
                  <a:cubicBezTo>
                    <a:pt x="1278" y="2322"/>
                    <a:pt x="1295" y="2372"/>
                    <a:pt x="1335" y="2385"/>
                  </a:cubicBezTo>
                  <a:cubicBezTo>
                    <a:pt x="1365" y="2395"/>
                    <a:pt x="1425" y="2415"/>
                    <a:pt x="1425" y="2415"/>
                  </a:cubicBezTo>
                  <a:cubicBezTo>
                    <a:pt x="1548" y="2394"/>
                    <a:pt x="1639" y="2334"/>
                    <a:pt x="1755" y="2295"/>
                  </a:cubicBezTo>
                  <a:cubicBezTo>
                    <a:pt x="1760" y="2280"/>
                    <a:pt x="1759" y="2261"/>
                    <a:pt x="1770" y="2250"/>
                  </a:cubicBezTo>
                  <a:cubicBezTo>
                    <a:pt x="1781" y="2239"/>
                    <a:pt x="1802" y="2244"/>
                    <a:pt x="1815" y="2235"/>
                  </a:cubicBezTo>
                  <a:cubicBezTo>
                    <a:pt x="1833" y="2223"/>
                    <a:pt x="1846" y="2206"/>
                    <a:pt x="1860" y="2190"/>
                  </a:cubicBezTo>
                  <a:cubicBezTo>
                    <a:pt x="1872" y="2176"/>
                    <a:pt x="1890" y="2145"/>
                    <a:pt x="1890" y="2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5"/>
            <p:cNvSpPr/>
            <p:nvPr/>
          </p:nvSpPr>
          <p:spPr>
            <a:xfrm flipV="1">
              <a:off x="6158160" y="2197080"/>
              <a:ext cx="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4"/>
            <p:cNvSpPr/>
            <p:nvPr/>
          </p:nvSpPr>
          <p:spPr>
            <a:xfrm flipH="1">
              <a:off x="6157800" y="2197440"/>
              <a:ext cx="1141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H="1">
              <a:off x="6158160" y="227916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6158160" y="23605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 flipH="1">
              <a:off x="6158160" y="244188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H="1">
              <a:off x="6158160" y="2523240"/>
              <a:ext cx="11304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H="1">
              <a:off x="6158160" y="260424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H="1">
              <a:off x="6158160" y="3011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H="1">
              <a:off x="6158160" y="2930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>
              <a:off x="6158160" y="284832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H="1">
              <a:off x="6158160" y="2767320"/>
              <a:ext cx="11304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6158160" y="268596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H="1">
              <a:off x="6158160" y="32551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6158160" y="325512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 flipH="1">
              <a:off x="6158160" y="317376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 flipH="1">
              <a:off x="6158160" y="3092400"/>
              <a:ext cx="113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6500520" y="2197440"/>
              <a:ext cx="343080" cy="81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грани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5472360" y="3580920"/>
              <a:ext cx="1255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 на огранич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1586160" y="3580920"/>
              <a:ext cx="1254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ксималь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3414240" y="3580920"/>
              <a:ext cx="125532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имальное 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44"/>
          <p:cNvSpPr/>
          <p:nvPr/>
        </p:nvSpPr>
        <p:spPr>
          <a:xfrm>
            <a:off x="1111320" y="4547880"/>
            <a:ext cx="6972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многокритериальной задачи необходимо частные критерии свернуть в од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= ∑ а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есовой коэффици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-  значение частного кри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РАЗРАБОТКИ УПРАВЛЕНЧЕСКИ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395280" y="1413000"/>
            <a:ext cx="8353440" cy="5111280"/>
            <a:chOff x="395280" y="1413000"/>
            <a:chExt cx="8353440" cy="5111280"/>
          </a:xfrm>
        </p:grpSpPr>
        <p:sp>
          <p:nvSpPr>
            <p:cNvPr id="368" name="AutoShape 6"/>
            <p:cNvSpPr/>
            <p:nvPr/>
          </p:nvSpPr>
          <p:spPr>
            <a:xfrm>
              <a:off x="395280" y="1413000"/>
              <a:ext cx="8353440" cy="51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558360" y="1413000"/>
              <a:ext cx="8188200" cy="4544280"/>
              <a:chOff x="558360" y="1413000"/>
              <a:chExt cx="8188200" cy="454428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3342960" y="1413000"/>
                <a:ext cx="262044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оды разработки управленческих реш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9"/>
              <p:cNvSpPr/>
              <p:nvPr/>
            </p:nvSpPr>
            <p:spPr>
              <a:xfrm>
                <a:off x="558360" y="4253760"/>
                <a:ext cx="262080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Экономико-математические методы и моде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0"/>
              <p:cNvSpPr/>
              <p:nvPr/>
            </p:nvSpPr>
            <p:spPr>
              <a:xfrm>
                <a:off x="3342960" y="4253760"/>
                <a:ext cx="262044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600" spc="-1" strike="noStrike">
                    <a:solidFill>
                      <a:srgbClr val="000000"/>
                    </a:solidFill>
                    <a:latin typeface="Arial"/>
                  </a:rPr>
                  <a:t>Эвристические методы (методы активизации мышлен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6127200" y="4253760"/>
                <a:ext cx="261936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татистические мет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 flipH="1">
                <a:off x="1868760" y="3116520"/>
                <a:ext cx="278460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653720" y="3116520"/>
                <a:ext cx="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4653720" y="3116520"/>
                <a:ext cx="278424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Экономико-математические методы и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50920" y="66780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методы и модели дают количественную характеристику проблемы и служат основой для принятия управленческого решения при поиске оптимального варианта. Разработка решения такими методами может быть представлена последовательностью основных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ановка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пределение критерия эффективности анализируемой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изменение факторов, влияющих на исследуемую опер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роение математической модели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решение модели и нахождение оптимальн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оверка адекватности модели и найденного решения анализируем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рректировка и обновлен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числу наиболее распространенных типов моделей относятся модели теории игр, модели теории очередей, модели управления запасами и модели линейного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вристические методы (методы активизации мышле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79280" y="1413000"/>
          <a:ext cx="8713800" cy="544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правила мозгового штур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ris7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у последовательно решают 2 группы людей (оптимальный состав каждой 6—12 человек). Первая группа — «генераторы идей» — выдвигает различные идеи (рис. 1). В ней желательно иметь людей, склонных к абстрагированию, с бурной фантазией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 «штурмуется» в течение 20—40 минут. Вторая группа — «эксперты» — по окончании штурма выносит суждение о ценности выдвинутых идей. В ее составе лучше работают люди с аналитическим, критическим складом ума. Условия задачи перед ее штурмом формулируются только в общих понят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группа генераторов идей"/>
          <p:cNvPicPr/>
          <p:nvPr/>
        </p:nvPicPr>
        <p:blipFill>
          <a:blip r:embed="rId1"/>
          <a:stretch/>
        </p:blipFill>
        <p:spPr>
          <a:xfrm>
            <a:off x="457200" y="2455920"/>
            <a:ext cx="40384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езультат анализа, прогнозирования, оптимизации, экономического обоснования и выбора альтернативы из множества вариантов достижения конкретной цели системы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А.Фатхутд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ыбор одного из возможных альтернативных вариантов, осуществляемых лицом, принимающим решения (ЛПР), и направленный на достижение поставленной цели. Один из основных этапов процесса управления, организационный 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Лит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едприятии представляет собой творческий акт субъекта управления (индивидуального или группового лица), определяющий программу деятельности коллектива по эффективному разрешению назревшей проблемы на основе знания объективных законов функционирования управляемой системы и анализа информации о ее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.Юк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Морфологического ящ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981080"/>
          <a:ext cx="8229600" cy="392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группов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320" y="980640"/>
            <a:ext cx="895824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Круговой сбор иде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руководитель предлагает каждому отдельно обдумать проблему, сформулировать несколько вариантов решения и всем по очереди высказывать мнения о них с фиксацией на дос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вободных ассоциац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ключается в том, что руководитель пишет на бумаге слово (фразу), которое имеет отношение к данной проблеме, а каждый из участников дополняет запись своими. В результате возникает мыслительная цепочка, раскрывающая проблему с разных сторо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равнительных оцено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участники дают характеристику в условных баллах (от 1 до 5) тому или иному параметру проблемы. Затем выводится их средняя оценка, на основе которой члены группы разбиваются на две половины (одна с оценками ниже средней, а другая ѕ выше), пытаясь доказать друг другу свою правот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расстановки элементов проблемы по значим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участники ранжируют их по важности, продолжительности работы над ними и т. п. Все предложения записываются на доске и обсуждаются в форме конференц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63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после постановки проблемы каждый из 6 участников получает возможность обдумать ее несколько дней. Затем, собравшись вместе, они проводят 5 раундов мозговой атаки на бумаге. Продолжительность первого 5 мин, а каждого последующего на одну минуту больше. Поскольку каждый раз на карточку необходимо записать по 3 идеи, в конечном итоге можно получить 108 предложен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синекти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обен мозговой атаке. Проблема рассматривается группой из 9 человек. Руководитель объясняет проблему, а участники предлагают варианты решения, которые тот анализирует, оценивает и при необходимости ставит новые задач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татис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исло этих методов входят «семь инструментов качества», среди которых при разработке решений использ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аре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Исика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 простых инструментов контроля ка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расссе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Пар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диаграмма Ишикав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й л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7tools-2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арето для повышения качества государственных у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Парето позволяет распределить усилия для разрешения возникающих проблем и установить основные факторы, с которых нужно начинать действовать с целью преодоления возникающих проб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 вида диаграмм Пар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диаграмма Парето по результатам деятельности и диаграмма Парето по причин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льфредо Парето (1848—192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7 году итальянский экономист Вильфредо Парето (1848—1923) предложил формулу, показывающую,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а распределяются неравномер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же теория была проиллюстрирована американским экономистом М. Лоренцом в 1907 г. на диаграмме. Оба ученых показали, что в большинстве случае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ибольшая доля благ (доходов) принадлежит небольшому числу люд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01sld4"/>
          <p:cNvPicPr/>
          <p:nvPr/>
        </p:nvPicPr>
        <p:blipFill>
          <a:blip r:embed="rId1"/>
          <a:stretch/>
        </p:blipFill>
        <p:spPr>
          <a:xfrm>
            <a:off x="1017720" y="1981080"/>
            <a:ext cx="291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дился 24 декабря 1904 г. в городе Браила, в Румынии в семье сапожника. Его семья проживала в городе Карпатия до 1912 г., а затем эмигрировала в СШ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.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женился в 1926 г. Он имеет четырех сыновей, девятерых внуков и пятерых правнуков. Дж. Джуран получил степень бакалавра электротехники в Минесотском университете и степень доктора юриспруденции в Университете Лойолы в Чикаго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Ettor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94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своей многолетней карьеры Дж. Джуран работал инженером, руководящим работником промышленного предприятия, государственным управляющим, университетским профессором, третейским судьей в трудовых спорах, президентом корпорации и консультантом по проблемам менеджмен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Jura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88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0"/>
          <p:cNvPicPr/>
          <p:nvPr/>
        </p:nvPicPr>
        <p:blipFill>
          <a:blip r:embed="rId1"/>
          <a:stretch/>
        </p:blipFill>
        <p:spPr>
          <a:xfrm>
            <a:off x="5238720" y="2143080"/>
            <a:ext cx="28576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начала следует реш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облемы необходимо исследовать (например, дефектные изделия, потери в деньгах, несчастные случа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анные нужно собрать и как их классифицировать (например, по видам дефектов, по месту их появления, по процессам, по станкам, по рабочим, по технологическим причинам, по оборудованию, по методам измерения и применяемым измерительным средствам; нечасто встречающиеся признаки объединяют под общим заголовком «прочие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тод и период сбор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контрольного листка для регистрации данных с перечнем видов собираем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полнение листка регистрации данных и подсчет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таблицы для проверок данных с графами для итогов по каждому проверяемому признаку в отдельности, накопленной суммы числа дефектов, процентов к общему итогу и накопленных проц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оложение данных, полученных по каждому проверяемому признаку, в порядке значимости и заполнение таб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j0299125"/>
          <p:cNvPicPr/>
          <p:nvPr/>
        </p:nvPicPr>
        <p:blipFill>
          <a:blip r:embed="rId1"/>
          <a:stretch/>
        </p:blipFill>
        <p:spPr>
          <a:xfrm>
            <a:off x="6732720" y="260280"/>
            <a:ext cx="2089080" cy="18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84360" y="620640"/>
            <a:ext cx="57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́ма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.-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προβλήμα) —             положение, причинность, условие, вопрос, объект, который создаёт затруднение, побуждает к действию и связан с избыточностью или недостатком чего-либо для сознания субъекта, например: процессора (движителя, калькулятора, компьютера, специалиста), знаний, ресурсов, регламента (упорядоченности, алгоритма, программы) и побуждает к действию или ограничивает его и соответственно неразрешён или нежела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476280"/>
          <a:ext cx="9144000" cy="6396120"/>
        </p:xfrm>
        <a:graphic>
          <a:graphicData uri="http://schemas.openxmlformats.org/drawingml/2006/table">
            <a:tbl>
              <a:tblPr/>
              <a:tblGrid>
                <a:gridCol w="1452600"/>
                <a:gridCol w="965160"/>
                <a:gridCol w="2016000"/>
                <a:gridCol w="3400560"/>
                <a:gridCol w="1309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ая сумма числа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числа дефектов по каждому признаку к общей су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ка у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чка кры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в поликлин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несение горизонтальной и вертикальной о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ая ось содержи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горизонтальная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рв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числ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зонтальную ось разбивают на интервалы в соответствии с количеств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троение столбиковой диа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 Рисунок 1. Диаграмма Парето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дение на диаграмме кумулятивной кривой (кривой Парето)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несение на диаграмму всех обозначений и надписей, касающихся диаграммы (название, разметка числовых значений на осях, наименование контролируемого изделия, имя составителя диаграммы), и данных (период сбора информации, объект исследования и место его проведения, общее число объектов контро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7tools-7"/>
          <p:cNvPicPr/>
          <p:nvPr/>
        </p:nvPicPr>
        <p:blipFill>
          <a:blip r:embed="rId1"/>
          <a:stretch/>
        </p:blipFill>
        <p:spPr>
          <a:xfrm>
            <a:off x="324000" y="198900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-анализ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А — наиболее важные, существенные проблемы, причины, дефекты. Относительный процент группы А в общем количестве дефектов (причин) обычно составляет от 60 до 80%. Соответственно устранение причин группы Л имеет большой приоритет, а связанные с этим мероприятия — самую высокую эффе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В — причины, которые в сумме имеют не более 2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С — самые многочисленные, но при этом наименее значимые причины и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Рисунок 3. АВС-анализ в рамках диаграммы Парето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ору Исикава (1915-1990) – известный японский ученый в области управления качеством, с именем которого также связывают возрождение и развитие японской экономик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Исикава ввел в мировую практику новый оригинальный практический метод анализа причинно-следственных связей, получивший название диаграммы Исискавы («рыбья кость Исикавы») и вошедший в состав инструментов контроля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il_fi" descr="Kaoru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«рыбий ске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Гистограмма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равила постро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остроению диаграммы, все участники должны прийти к единому мнению относительно формулировки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мая проблема записывается с правой стороны в середине чистого листа бумаги и заключается в рамку, к которой слева подходит основная горизонтальная стрелка - "хребет" (диаграмму Исикавы из-за внешнего вида часто называют "рыбьим скелетом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сятся главные причины (причины уровня 1), влияющие на проблему, - "большие кости". Они заключаются в рамки и соединяются наклонными стрелками с "хребто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наносятся вторичные причины (причины уровня 2), которые влияют на главные причины ("большие кости"), а те, в свою очередь, являются следствием вторичных причин. Вторичные причины записываются и располагаются в виде "средних костей", примыкающих к "большим". Причины уровня 3, которые влияют на причины уровня 2, располагаются в виде "мелких костей", примыкающих к "средним", и т. д. (Если на диаграмме приведены не все причины, то одна стрелка оставляется пуст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нализе должны выявляться и фиксироваться все факторы, даже те, которые кажутся незначительными, так как цель схемы - отыскать наиболее правильный путь и эффективный способ решения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(факторы) оцениваются и ранжируются по их значимости, выделяя особо важные, которые предположительно оказывают наибольшее влияние на показатель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иаграмму вносится вся необходимая информация: ее название; наименование изделия; имена участников; дата и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79280" y="162756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д качеством управленческих ре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ется совокупность свойств, обеспечивающих их успешное выполнение и получение определенного эффекта для организации. К числу таких свойств относятся обоснованность решения, эффективность, своевременность, непротиворечивость, правомочность, полномочность, конкретность, просто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основа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ческого решения проявляется в необходимости учета всей совокупности факторов и условий, связанных с его разработкой. При этом важное место отводится качеству используемой информации, ее достоверности и полноте, своевременности е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вленческого решения подчеркивает обязательность соотношения ожидаемого и достигнутого экономического и социального эффекта с затратами на его разработку и реа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= Эффект/Затраты на разработку и реализацию 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ктике деятельности предприятий находит применение показатель, косвенно характеризующий качество управленческих ре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к = ((Рв – Рн)/ Рп) х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Кк – коэффициент качества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 – количество выполненных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н – количество выполненных некачественн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п – общее количество приняты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войства качественных решений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еврем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казатель, отражающий важность принятия решения в установленный срок, поскольку несвоевременно принятое решение либо теряет свою значимость, либо требует пересмотра ситуации, в которой возникла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выражает необходимость его предварительного согласования с ранее принятыми в данной организации, а также проверки соответствия нормативно-правовым доку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м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состоит в том, что оно должно приниматься на том уровне управления, который имеет на это соответствующие полномочия (законное право, осн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проявляется в четком указании: кто, что и когда должен вы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блемы (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Шевыреву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0" y="1413000"/>
            <a:ext cx="8748720" cy="5445000"/>
            <a:chOff x="0" y="1413000"/>
            <a:chExt cx="8748720" cy="5445000"/>
          </a:xfrm>
        </p:grpSpPr>
        <p:sp>
          <p:nvSpPr>
            <p:cNvPr id="213" name="AutoShape 6"/>
            <p:cNvSpPr/>
            <p:nvPr/>
          </p:nvSpPr>
          <p:spPr>
            <a:xfrm>
              <a:off x="0" y="1413000"/>
              <a:ext cx="8748720" cy="54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93120" y="1465560"/>
              <a:ext cx="7855560" cy="5238000"/>
              <a:chOff x="393120" y="1465560"/>
              <a:chExt cx="7855560" cy="5238000"/>
            </a:xfrm>
          </p:grpSpPr>
          <p:sp>
            <p:nvSpPr>
              <p:cNvPr id="215" name="Rectangle 8"/>
              <p:cNvSpPr/>
              <p:nvPr/>
            </p:nvSpPr>
            <p:spPr>
              <a:xfrm>
                <a:off x="2836800" y="1465560"/>
                <a:ext cx="3090240" cy="16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Внешняя сре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9"/>
              <p:cNvSpPr/>
              <p:nvPr/>
            </p:nvSpPr>
            <p:spPr>
              <a:xfrm>
                <a:off x="3146400" y="2000520"/>
                <a:ext cx="2470320" cy="10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Внутреняя структура проблемы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Объект, субъект, цель, предмет, средства, ограни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393120" y="3298320"/>
                <a:ext cx="207900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хник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1"/>
              <p:cNvSpPr/>
              <p:nvPr/>
            </p:nvSpPr>
            <p:spPr>
              <a:xfrm>
                <a:off x="6170040" y="331452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сихология 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3430800" y="476604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ыш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3"/>
              <p:cNvSpPr/>
              <p:nvPr/>
            </p:nvSpPr>
            <p:spPr>
              <a:xfrm>
                <a:off x="3403800" y="6111720"/>
                <a:ext cx="2213280" cy="59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 flipH="1" flipV="1">
                <a:off x="4064040" y="5901120"/>
                <a:ext cx="1404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4901400" y="58924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 flipV="1">
                <a:off x="5509440" y="4433040"/>
                <a:ext cx="1726560" cy="125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 flipH="1" flipV="1">
                <a:off x="1527120" y="4417200"/>
                <a:ext cx="191592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 flipV="1">
                <a:off x="1351800" y="2568600"/>
                <a:ext cx="1808640" cy="73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5617080" y="2576520"/>
                <a:ext cx="1632960" cy="73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ОКИ И ВИДЫ НЕОПРЕДЕ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преде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как не вполне отчетливая, неточная, неясная или уклончивая информация о каком либо объекте или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ритерию определенности различают решения, принятые в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ой определенности (рис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ости (ненаде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ятие решения в условиях определенности увеличивает оперативность разработки, снижает затраты на выбор целесообразн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колич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обусловленная значительным числом объектов или элементов в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недостатком информации или ее неточностью по техническим, социальным или другим причи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тоимос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-за слишком высокой или недоступной платы за опреде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професс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едствие недостаточного профессионализма Л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граничи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ограничениями в ситуации принятия решения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внешней 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вязанная с ее изменением или реакцией конкурента на принятое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епени неопределенности информации о проблемной ситуации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ходно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заранее накопленной, априор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ератив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текущие сведения о состоян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– связанная с невозможностью получения объективных знаний об объ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ервы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незначительно, есть возможность их предвидения, а следовательно, и подготовки к разрешению возникающих проблем. Эти ситуации разрешаются методами ситуационного управления, для чего разрабатываются специальные стандарты решений по выходу из экстремаль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торо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велико, что исключает предварительную подготовку к разрешению конкретных проблем. Для принятия решений, адекватных сложившейся ситуации, важное значение имеет специальная подготовка персонала, учитывающая временной цейтнот и психологическую перегру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рети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епрогнозируемые ситуации. Выход из таких ситуаций полностью определяется действиями ЛПР, их интуитивными реш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рис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мается вероятность наступления событий, в результате которых возможны непредвиденные потери дохода, имущества, денежных средст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им образом, принятие решений в условиях риска означает выбор варианта решения в условиях, когда каждое действие приводит к одному из множества возможных частных исходов, причём каждый исход имеет вычисляемую или экспертно определяемую вероятность по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сфера государственного регулирования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роли случайных факторов при взаимодействии организации с внешне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ая соб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ентная борьба товаропроизв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возникновения рисковых ситуаций на отдельных этапах жизненного цикл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ристков по источнику возникнов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1353600"/>
            <a:ext cx="8640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иродно-естестве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роявлением стихийных сил природы (землетрясение, наводнение, буря, пожар, эпидемия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Эколог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загрязне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лит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олитической ситуацией в стране и деятельностью государства. Политические риски возникают при нарушении условий производственно- торгового процесса по причинам, непосредственно не зависящим от хозяйствующего субъ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анспорт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еревозками грузов транспортом: автомобильным, морским, речным, железнодорож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а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ммер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опасность потерь в процессе финансово-хозяйственной деятельности. Они могут появиться в результате снижения уровня продаж на рынке, повышения тарифов на перевозку грузов, колебания валютного к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коммерческих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Имуще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вероятностью потерь имущества предпринимателя по причине кражи, диверсии, халатности, перенапряжения технической и технологической систем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Проuзвод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убытком от остановки производства вследствие воздействия различных факторов и, прежде всего, с гибелью или повреждением основных и оборотных фондов (оборудование, сырьё, транспорт и т.п.), а также риски, связанные с внедрением в производство новой техники и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Торг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дставляют собой риски, связанные с убытком по причине задержки платежей, отказа от платежа в период транспортировки товара, непоставки товара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Финанс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заны с вероятностью потерь финансовых ресур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р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устим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имеется угроза полной потери прибыли от реализации планируемого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о непоступление прибыли и выручки, а также покрытие убытков за счёт средств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строф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ы потеря капитала, имущества и банкротство предприним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Статис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статистическом анализе потерь, наблюдавшихся в аналогичных   видах хозяйственной деятельности, установлении их уровней и частоты появ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Экспертны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сборе и обработке мнений опытных предпринимателей, менеджеров и специалистов, дающих свои оценки вероятности возникновения определённых уровней потерь в конкретных коммерческих опер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Расчётно-анали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зируется на математических моделях, предлагаемых теорией вероятностей, теорией игр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"/>
          <p:cNvGrpSpPr/>
          <p:nvPr/>
        </p:nvGrpSpPr>
        <p:grpSpPr>
          <a:xfrm>
            <a:off x="71280" y="142920"/>
            <a:ext cx="8858160" cy="6571800"/>
            <a:chOff x="71280" y="142920"/>
            <a:chExt cx="8858160" cy="6571800"/>
          </a:xfrm>
        </p:grpSpPr>
        <p:sp>
          <p:nvSpPr>
            <p:cNvPr id="228" name="Rectangle 6"/>
            <p:cNvSpPr/>
            <p:nvPr/>
          </p:nvSpPr>
          <p:spPr>
            <a:xfrm>
              <a:off x="71280" y="3037680"/>
              <a:ext cx="1283040" cy="10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ы управленческих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417040" y="142920"/>
              <a:ext cx="231696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сточник возникнов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2432160" y="915480"/>
              <a:ext cx="23317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пособ доведения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2433240" y="17917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убъект принятия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2417040" y="24703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тепень новизны (уникаль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2401920" y="3211920"/>
              <a:ext cx="233028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Налич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2433240" y="4001400"/>
              <a:ext cx="2330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Методы разработки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433240" y="471960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Целевая направле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2464920" y="551664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одержание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2449800" y="6210720"/>
              <a:ext cx="232776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ери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776600" y="379080"/>
              <a:ext cx="16200" cy="60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347480" y="358236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776600" y="38736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776600" y="1191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1776600" y="203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1776600" y="272268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1776600" y="4260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776600" y="497124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792800" y="574416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792800" y="644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6"/>
            <p:cNvSpPr/>
            <p:nvPr/>
          </p:nvSpPr>
          <p:spPr>
            <a:xfrm>
              <a:off x="5807160" y="158400"/>
              <a:ext cx="303012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ици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7"/>
            <p:cNvSpPr/>
            <p:nvPr/>
          </p:nvSpPr>
          <p:spPr>
            <a:xfrm>
              <a:off x="5807160" y="42624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 предписан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8"/>
            <p:cNvSpPr/>
            <p:nvPr/>
          </p:nvSpPr>
          <p:spPr>
            <a:xfrm>
              <a:off x="5792040" y="907560"/>
              <a:ext cx="30276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9"/>
            <p:cNvSpPr/>
            <p:nvPr/>
          </p:nvSpPr>
          <p:spPr>
            <a:xfrm>
              <a:off x="5792040" y="1206720"/>
              <a:ext cx="302760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0"/>
            <p:cNvSpPr/>
            <p:nvPr/>
          </p:nvSpPr>
          <p:spPr>
            <a:xfrm>
              <a:off x="5807160" y="17910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дивиду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5807160" y="20988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ле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5823720" y="24775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ради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5825160" y="275328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5825160" y="304524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>
              <a:off x="5856840" y="330552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ероятно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5856840" y="355860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е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5840280" y="39999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иче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5840280" y="4323240"/>
              <a:ext cx="30243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врис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5856840" y="47181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дн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0"/>
            <p:cNvSpPr/>
            <p:nvPr/>
          </p:nvSpPr>
          <p:spPr>
            <a:xfrm>
              <a:off x="5870520" y="49867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ног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1"/>
            <p:cNvSpPr/>
            <p:nvPr/>
          </p:nvSpPr>
          <p:spPr>
            <a:xfrm>
              <a:off x="5887080" y="52470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5887080" y="54993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5887080" y="57441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5903640" y="59886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рганиз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5903640" y="624924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лго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6"/>
            <p:cNvSpPr/>
            <p:nvPr/>
          </p:nvSpPr>
          <p:spPr>
            <a:xfrm>
              <a:off x="5888160" y="6532560"/>
              <a:ext cx="302328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ер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4775040" y="6336000"/>
              <a:ext cx="11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>
              <a:off x="4791600" y="660384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>
              <a:off x="5347080" y="534960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4791600" y="5752080"/>
              <a:ext cx="55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1"/>
            <p:cNvSpPr/>
            <p:nvPr/>
          </p:nvSpPr>
          <p:spPr>
            <a:xfrm>
              <a:off x="5347080" y="535716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2"/>
            <p:cNvSpPr/>
            <p:nvPr/>
          </p:nvSpPr>
          <p:spPr>
            <a:xfrm>
              <a:off x="5347080" y="559440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3"/>
            <p:cNvSpPr/>
            <p:nvPr/>
          </p:nvSpPr>
          <p:spPr>
            <a:xfrm>
              <a:off x="5347080" y="583884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4"/>
            <p:cNvSpPr/>
            <p:nvPr/>
          </p:nvSpPr>
          <p:spPr>
            <a:xfrm>
              <a:off x="5361840" y="60912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4760280" y="480492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6"/>
            <p:cNvSpPr/>
            <p:nvPr/>
          </p:nvSpPr>
          <p:spPr>
            <a:xfrm>
              <a:off x="4760280" y="5073480"/>
              <a:ext cx="11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4760280" y="40716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4760280" y="443448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5283720" y="3132720"/>
              <a:ext cx="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0"/>
            <p:cNvSpPr/>
            <p:nvPr/>
          </p:nvSpPr>
          <p:spPr>
            <a:xfrm>
              <a:off x="4727160" y="34243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1"/>
            <p:cNvSpPr/>
            <p:nvPr/>
          </p:nvSpPr>
          <p:spPr>
            <a:xfrm>
              <a:off x="5298840" y="3140640"/>
              <a:ext cx="540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2"/>
            <p:cNvSpPr/>
            <p:nvPr/>
          </p:nvSpPr>
          <p:spPr>
            <a:xfrm>
              <a:off x="5283720" y="339300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3"/>
            <p:cNvSpPr/>
            <p:nvPr/>
          </p:nvSpPr>
          <p:spPr>
            <a:xfrm>
              <a:off x="5283720" y="3652560"/>
              <a:ext cx="570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4"/>
            <p:cNvSpPr/>
            <p:nvPr/>
          </p:nvSpPr>
          <p:spPr>
            <a:xfrm>
              <a:off x="4743720" y="254916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5"/>
            <p:cNvSpPr/>
            <p:nvPr/>
          </p:nvSpPr>
          <p:spPr>
            <a:xfrm>
              <a:off x="4743720" y="284832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6"/>
            <p:cNvSpPr/>
            <p:nvPr/>
          </p:nvSpPr>
          <p:spPr>
            <a:xfrm>
              <a:off x="4760280" y="1877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7"/>
            <p:cNvSpPr/>
            <p:nvPr/>
          </p:nvSpPr>
          <p:spPr>
            <a:xfrm>
              <a:off x="4760280" y="2201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8"/>
            <p:cNvSpPr/>
            <p:nvPr/>
          </p:nvSpPr>
          <p:spPr>
            <a:xfrm>
              <a:off x="4727160" y="22140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9"/>
            <p:cNvSpPr/>
            <p:nvPr/>
          </p:nvSpPr>
          <p:spPr>
            <a:xfrm>
              <a:off x="4727160" y="52128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0"/>
            <p:cNvSpPr/>
            <p:nvPr/>
          </p:nvSpPr>
          <p:spPr>
            <a:xfrm>
              <a:off x="4760280" y="101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1"/>
            <p:cNvSpPr/>
            <p:nvPr/>
          </p:nvSpPr>
          <p:spPr>
            <a:xfrm>
              <a:off x="4760280" y="13024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риск-менедж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Риск-менеджмент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пециальная форма предпринимательской деятельности, которая направлена на управление рисками в организ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ыми задачами риск-менеджмент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выявление и классификация основных видов р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счёт адекватной и легко интерпретируемой количественной меры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принятие решений об уменьшении или увеличении выявленных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зработка и реализация процедур контроля за рисками текущих 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снижения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жание риска - уклонения от мероприятия, связанного с р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ание риска - оставление риска за инвестором (предполагая покрытие возможных убытков за счёт резервных средств инвесто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риска - передача ответственности за риск, например, страховой комп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степени риска - уменьшение вероятности потерь и сокращение ожидаемого их объё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тегии снижения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щательная предварительная эксперт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иантов принимаемого решения и оценка соответствующих уровней р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ределение риска между несколькими объектами, видами деятельност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эффективных систем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зволяющих своевременно выявлять и предотвращать возможные поте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р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деление риска между участникам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ми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становление предельных сумм расходов, продажи товаров в кредит, сумм вложения капитала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на среднюю норму прибы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к. постоянное  стремление к более высокой прибыли существенно увеличивает р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о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чёт создания натуральных и денежных резервных (страховых) фон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исков в страховых организа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8360" y="2349000"/>
            <a:ext cx="3736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826920" y="765000"/>
            <a:ext cx="7201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9" name="Picture 7" descr="j0234657"/>
          <p:cNvPicPr/>
          <p:nvPr/>
        </p:nvPicPr>
        <p:blipFill>
          <a:blip r:embed="rId1"/>
          <a:stretch/>
        </p:blipFill>
        <p:spPr>
          <a:xfrm>
            <a:off x="4859280" y="2421000"/>
            <a:ext cx="3816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нный цикл управленческ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"/>
          <p:cNvGrpSpPr/>
          <p:nvPr/>
        </p:nvGrpSpPr>
        <p:grpSpPr>
          <a:xfrm>
            <a:off x="324000" y="720720"/>
            <a:ext cx="8496000" cy="5948280"/>
            <a:chOff x="324000" y="720720"/>
            <a:chExt cx="8496000" cy="5948280"/>
          </a:xfrm>
        </p:grpSpPr>
        <p:sp>
          <p:nvSpPr>
            <p:cNvPr id="296" name="AutoShape 6"/>
            <p:cNvSpPr/>
            <p:nvPr/>
          </p:nvSpPr>
          <p:spPr>
            <a:xfrm>
              <a:off x="324000" y="720720"/>
              <a:ext cx="8496000" cy="59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6598080" y="2347560"/>
              <a:ext cx="2221560" cy="95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нализ эффективности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формирования банка данны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4295880" y="1259640"/>
              <a:ext cx="250740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ализация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1520" y="2871000"/>
              <a:ext cx="2247480" cy="60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нятие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1544040" y="4460760"/>
              <a:ext cx="2166120" cy="63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373320" y="5720400"/>
              <a:ext cx="2451960" cy="67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никновение 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 flipV="1">
              <a:off x="1666440" y="5100480"/>
              <a:ext cx="1036080" cy="64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3165480" y="3448800"/>
              <a:ext cx="463680" cy="99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 flipV="1">
              <a:off x="3901680" y="1906920"/>
              <a:ext cx="1442880" cy="9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6081120" y="1893240"/>
              <a:ext cx="171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585080" y="1246320"/>
              <a:ext cx="5994360" cy="2808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808000"/>
                <a:gd name="textAreaBottom" fmla="*/ 2808000 h 2808000"/>
              </a:gdLst>
              <a:ahLst/>
              <a:rect l="textAreaLeft" t="textAreaTop" r="textAreaRight" b="textAreaBottom"/>
              <a:pathLst>
                <a:path w="6600" h="6120">
                  <a:moveTo>
                    <a:pt x="0" y="6120"/>
                  </a:moveTo>
                  <a:cubicBezTo>
                    <a:pt x="450" y="6117"/>
                    <a:pt x="900" y="6115"/>
                    <a:pt x="1350" y="6030"/>
                  </a:cubicBezTo>
                  <a:cubicBezTo>
                    <a:pt x="1800" y="5945"/>
                    <a:pt x="2245" y="5830"/>
                    <a:pt x="2700" y="5610"/>
                  </a:cubicBezTo>
                  <a:cubicBezTo>
                    <a:pt x="3155" y="5390"/>
                    <a:pt x="3695" y="5120"/>
                    <a:pt x="4080" y="4710"/>
                  </a:cubicBezTo>
                  <a:cubicBezTo>
                    <a:pt x="4465" y="4300"/>
                    <a:pt x="4720" y="3675"/>
                    <a:pt x="5010" y="3150"/>
                  </a:cubicBezTo>
                  <a:cubicBezTo>
                    <a:pt x="5300" y="2625"/>
                    <a:pt x="5555" y="2085"/>
                    <a:pt x="5820" y="1560"/>
                  </a:cubicBezTo>
                  <a:cubicBezTo>
                    <a:pt x="6085" y="1035"/>
                    <a:pt x="6470" y="255"/>
                    <a:pt x="66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324000" y="3269880"/>
              <a:ext cx="1234080" cy="10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вая 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РАБОТКИ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755640" y="973080"/>
            <a:ext cx="7919640" cy="5624640"/>
            <a:chOff x="755640" y="973080"/>
            <a:chExt cx="7919640" cy="5624640"/>
          </a:xfrm>
        </p:grpSpPr>
        <p:sp>
          <p:nvSpPr>
            <p:cNvPr id="310" name="Rectangle 6"/>
            <p:cNvSpPr/>
            <p:nvPr/>
          </p:nvSpPr>
          <p:spPr>
            <a:xfrm>
              <a:off x="937440" y="973080"/>
              <a:ext cx="7630560" cy="5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912600" y="1699200"/>
              <a:ext cx="763056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критериев решения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885240" y="2666520"/>
              <a:ext cx="77083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бор полной, достоверной и своевременной 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07840" y="3624480"/>
              <a:ext cx="77605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точне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780120" y="4739760"/>
              <a:ext cx="779040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аботка альтернативных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755640" y="5730840"/>
              <a:ext cx="791964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енка эффективности вариантов с точки зрения достижимости критериев, возможных рисков и их последствий, затраты на реализ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4780080" y="146880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4807800" y="226152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4833000" y="3286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4833000" y="431820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4885200" y="5400360"/>
              <a:ext cx="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продумыва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ение проблемы на ч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ение основных и второстепенных характеристик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 по всем возможным вариантам решения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ирование и анализ требуем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рекомендаций к дей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продумывании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уменьшить объем проблемы, упростить 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поминает ситуация (какие ассоциации вызыва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ли аналоги в практике хозяйств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прецеденты в деятельности предприя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изменение сроков, кач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заменить, сжать, уплотн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остоит ри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ресурсы для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возможные варианты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26:28Z</dcterms:created>
  <dc:creator>иван</dc:creator>
  <dc:description/>
  <dc:language>en-US</dc:language>
  <cp:lastModifiedBy>egor</cp:lastModifiedBy>
  <dcterms:modified xsi:type="dcterms:W3CDTF">2011-06-23T11:44:45Z</dcterms:modified>
  <cp:revision>24</cp:revision>
  <dc:subject/>
  <dc:title>УПРАВЛЕНЧЕСКИЕ РЕШЕНИЯ</dc:title>
</cp:coreProperties>
</file>