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BAA-04AC-45EC-B223-42394CEC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F6F-4A0D-4FEA-8CFA-98010BC2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264-3AE5-41D3-ACF0-EA9F405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749-5166-488B-BBE4-2A43D61C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5A4-3EBD-464E-818F-F1503862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47D-28FC-4C52-8230-541D68BC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3028-1809-41B2-A3F4-E788738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E58-0E58-4793-B686-639E2B9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0EB7-13BE-48B9-ADFB-971EACA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16E-DA42-496E-AA09-FC0A074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A4C-2732-4746-B8B2-B608878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C8A-90F5-4C1A-BD13-A557BB4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8DC-7063-4062-A532-6678BD9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6482-AC94-4E30-B30B-5E3092B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DBC-7264-479E-814D-61A458D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C3D-54B3-4A2C-ADC2-757F18C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D796-9797-40D6-8560-71EDD3F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32186-7476-49EC-AD3E-B2CEAA4D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C4865-7E2C-488F-906F-62DDD25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D572D-E598-470F-BDCF-BBC096AC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8652F-B155-489B-B42A-A4DBFBC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B5669-A401-4C4A-A57C-2C8889D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342-3C1A-43DA-A635-6947322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1E398-842F-4A0F-9A15-13CA576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2D3B6-9269-4463-A9BF-ECE04DE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A72E3-6608-4D04-90BE-5CEC6DD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2DCDA-60BA-4266-8153-F4E80DA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90078-A6C5-4089-86AA-4D0BCB3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6AAB7-7531-4BF7-9ED6-DF956714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57930-0842-49D3-8A0E-2A4D8A20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8236-1C72-42C3-AD41-BB2087BE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F368-C283-4363-B8C2-B9DECCA0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C08E-853A-4CFD-96D1-2CDB15C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A27-FC0F-4340-94FC-5176913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06EF-CB9C-4137-8FB0-26890259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341E-2197-40BE-9E5F-904065CA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782F-C30D-45C6-8F21-A8CD1D0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419A-DA54-42AB-AE39-D854570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1399-BC85-412E-BE3A-8E3DF0B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76F7C-0716-48AB-B320-7999040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0457-E9FF-4575-A344-6CAB024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BF12-5E18-4D3B-83C7-5A6C3516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90D5-C85D-485C-950F-A5EC4E3A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5019C-99C5-453E-8B6C-F2A3AFB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B72-3112-4E29-8908-A5FBD6B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DFF49-0917-4F36-BE21-91D8024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69404-C2AF-4560-80D9-6671B83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F01C9-1647-4222-881E-AD8CDF59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05B58-DCEA-4AA5-9BFB-95D1796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1032C-7097-4A2E-9D17-036FFCB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DE0C1-E986-4432-AF1D-B837690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75D4A-9737-4408-A7F1-A6D4A82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B5242-D98F-4303-9006-CD88AC0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CA1BB-09AC-41D0-8DFF-0B26477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0EBBB-1FF1-4DDB-8682-4391A1FB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2DC-C372-419B-9783-BE13DBC3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35BEC-7CA1-4EC2-B8AF-6426E3DE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22E11-8189-4F83-BE19-BC45E79A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98201-7209-4989-9AAE-AF97E52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AF7B6-816A-45D7-AB67-25DDEC83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8A15C-FCC5-4CC2-BE8E-30C8CD9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8358E-EFA6-4570-A547-50B6351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9278D-E2EC-4A2B-8CCE-B912316E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DC630-8B8D-466A-AFC4-BB1244FE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ABD73-BFB2-4E49-B7B1-5FCC431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2880A-E033-4320-B68C-B84E2955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034-E7DC-4E77-B33C-DA30A50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6223C-F94B-4720-9C4E-7FFD096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760BD-357B-4B11-92FA-69541C80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782D6-8C22-4194-93B9-ACC6BB3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65EBA-168A-40B1-A8C4-F9CD87B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0A7E2-CA91-4041-94A3-33E969C4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1EB97-CF6D-48C4-9083-7FC81FE7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8CB53-9E4D-4564-97E1-68CEEF2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4FBE8-9749-4E5D-AE99-6A3C2587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373F3-4F4E-4B58-84D3-7BFC5A14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8A347-6F33-41A1-A092-98E52BB2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0F3-863E-49CE-8B69-2C3F3FD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E8D8F-7774-4E23-B95A-6A5D177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66442-5A03-42FD-B7CD-8BA904D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72E01-1E49-498B-9B59-2A33080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ECE35-D407-4B17-9A6C-8EC5316C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F94DC-6BC9-44CE-AD6E-024B2097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92D-49C1-40A7-91EA-554A72D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AF9-B8DC-4B82-B464-866234322A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A4B8-2357-4DC5-9EC9-06A60814E6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7EB8-0D38-46EE-B525-41B43F0898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8782-F31D-40F1-98DF-2D0AEABD46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959B-105F-4E8C-ABBD-16978ED7A8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11F-B832-4FBD-A144-01D25B6DE8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F2A9-24DB-4ED6-B08E-70FC81DCF8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2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76280"/>
            <a:ext cx="617220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1"/>
              </a:rPr>
              <a:t>2.1 СОДЕРЖАНИЕ </a:t>
            </a: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2"/>
              </a:rPr>
              <a:t>И ЗНАЧЕНИЕ ФИНАНСОВОГО КОНТРОЛЯ, ВИДЫ ФИНАНСОВОГО КОНТРОЛЯ, ЕГО РОЛЬ В ЭКОНОМИКЕ СТРАН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884240" y="47628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Тема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Финансовый 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—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видов государственного контроля над образованием, распределением и использованием ресурсов всех звеньев финансовой систем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направлен на проверку расходования государственных средств, своевременности и полноты мобилизации государственных ресурсов, законности расходов и доходов всех звеньев финансовой системы, соблюдения правил учета и отче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В ЗАВИСИМОСТИ ОТ ОРГАНОВ, ЕГО ОСУЩЕСТВЛЯЮЩИХ, ФИНАНСОВЫЙ КОНТРОЛЬ ПОДРАЗДЕЛЯЕТСЯ НА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, внутрихозяйственный, ауди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 контроль, в свою очередь, делится на  общегосударственный и ведомствен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щегосударственный контроль осуществляют парламент, Правительство, Министерство по налогам и сборам, Федеральное казначейство, Министерство финансов РФ, Центральный Банк Ро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КЛАССИФИКАЦИЯ ФИНАНСОВОГО КОНТРОЛЯ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 времени осуществления финансовых провер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редварительный (до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екущий (во время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оследующий (после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по субъектам осущест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государственный (общегосударственный и ведомственный)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мест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нутрихозяйствен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независимый (аудит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 ПО СОДЕРЖАНИЮ ПОДРАЗДЕЛЯЕТСЯ НА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юдже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рламентский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четной палаты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едерального казначейства Министерства финан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налоговый контроль; его осуществляю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инистерство по налогам и сборам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сударственный таможенный комитет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) банковский контрол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ый Бан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контроль над страховой деятельность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партамент страхового надзора Министерства финансов Р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) таможен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Т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) валю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ы валютного контро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РОЛЬ ФИНАНСОВОГО КОНТРОЛЯ В ОХРАНЕ СОБСТВЕННОСТИ СОСТОИТ В ВЫЯВЛЕНИИ: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яния учета, использования материальных ценностей и денежных средст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а финансового наруш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 и условий, способствующих финансовым нарушени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5003640" y="3594240"/>
            <a:ext cx="266400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МЕТОДЫ ОСУЩЕСТВЛЕНИЯ ФИНАНСОВОГО КОНТРОЛЯ: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0920" y="2695680"/>
            <a:ext cx="76006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верка финансово-отчетной документаци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евиз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Program Files (x86)\Microsoft Office\MEDIA\CAGCAT10\j0196400.wmf"/>
          <p:cNvPicPr/>
          <p:nvPr/>
        </p:nvPicPr>
        <p:blipFill>
          <a:blip r:embed="rId1"/>
          <a:stretch/>
        </p:blipFill>
        <p:spPr>
          <a:xfrm>
            <a:off x="5219640" y="3789360"/>
            <a:ext cx="241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РЕВИЗИЯ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визия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ой метод осуществления финансового контро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ревизия бывает документальной, фактической (инвентаризация, пересчет денег и валютных ценносте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пособу назначения: плановой, внеплано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визия осуществляется специально созданной комисс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55Z</dcterms:modified>
  <cp:revision>9</cp:revision>
  <dc:subject/>
  <dc:title>Сущность и функции финансов</dc:title>
</cp:coreProperties>
</file>