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B81E-2419-4CBA-8A3B-36796B93DE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8730-8E51-4679-A661-EFD7A000D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900-05B7-4B74-A044-310525CD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49D-4A72-4701-AA73-925EBE9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216-3D0B-489D-8A5B-862D4FBD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84A-07CC-4F4E-9122-ECD1656D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EE17-93E3-425E-95B9-49C42EF7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D368-C340-43B4-A6EA-2BBE7A73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87E1-2927-4A3B-A488-547E56B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EA18-6ACE-4730-97DE-D551F41B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72D-1DC4-4B96-B9B9-EF3EE8C5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80CB-2D2A-4E7C-8FE8-69E7EE1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F4F-D1E1-4523-815D-3324593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DCB-8B93-438B-A093-F3BE8297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03B2-1B70-4C56-8BC8-4F7FCBD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BB1B-B114-43CE-BF7F-061CEAD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482E-61EF-4C3C-A8F7-A430DFC1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7D45-2978-4989-8744-82C71919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816-192B-48FF-95AA-05BF978C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4F542-3B4E-48A0-8CC0-CFCCF1EA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E5379-8C10-4DBC-9816-8801EB19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F67A1-9A74-4364-8C4E-1A615218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10297-8AC5-48B1-8F0F-78FF1F4C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81557-5E60-43A7-8B55-DC41F85E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2A6-9B22-4396-A747-615D1763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A0B02-1517-42C5-BF43-70747D84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49A13-8156-47C2-B38E-31D2CC9B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3C60E-6E1E-4B76-A193-D33C4F4B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A5E8C-561F-44C3-A192-5492C86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05F4F-9336-4741-B8CD-97502EB8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5BCFE-0039-4C11-92D2-6EBEFC2A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65AA7-8389-4E20-91B9-1A438884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9FCB-4E15-4A01-83D8-D5A253F4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B434-E7C6-4BC7-898B-3C78B07D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939E-B19C-44D8-9676-E5AA32AA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C5A-1503-4949-AD34-2E164B1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92A1-C7A0-4318-BCC9-ED79D4AE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140F-9E75-494C-B4C7-98684E03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CE67-8E03-4EAF-AF9E-D0C08068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7A993-1072-43E0-B466-61F4D5F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3E8E-2805-486A-B3A4-174C3768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B97D-B4BE-4BB0-869D-5EED712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279F-E435-4295-AB90-3A4FBC2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CD09-430B-45B3-9077-E5E086D2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6D6F-1121-4E28-9299-D82EB8ED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34F93-A01D-41E3-8A88-73D971BF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39C-5CDE-44EE-A7DE-513B9A2E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B896A-7CB9-425B-AD67-F7D4233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AF617-93B0-4DBE-B397-761038E5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D206E-AE8E-4153-AF43-0852B23A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AF8A5-B3B5-4BF7-BADE-DED93B3C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B14B7-6F7C-479D-8F0A-758588F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3FDC4-1CE0-4DEC-9C7B-B91918C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D8FCB-ADF8-4B9D-BF9B-6208B9B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734A7-EB76-42EC-B08C-0642485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A192B-3B0C-4837-8C8D-F64D57C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60FA6-164C-42E4-B911-B329F661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67E-5533-4C9E-B87D-0734BFD1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0C1A7-7E36-4262-900D-891C2211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EFB49-981A-496A-B606-8263D6F1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87108-8DDA-4409-92BB-DB97E917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672D7-0224-4895-970A-4D161C5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55002-B29F-4F83-BC0A-D5DA396D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B85F5-454B-45F3-8196-F8E6C86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AD913-C128-4B51-B80D-30160A60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D11EF-75B8-4C59-80A3-251A25F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5600C-F005-4B99-A945-F84A415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0D8C8-D158-439F-9370-7B84572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5F0-6A3C-4FFB-940F-789CEDF5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B324E-00F1-4897-88F2-C86A2953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34730-8CD0-4252-AB8F-688BB99B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6862A-DA0F-4482-830E-B00FFB04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DB527-3D53-47B1-AB26-C8520544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FD9EB-5659-4D8B-829B-7820E31B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31563-C9F6-4A11-8522-28425B71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19356-6654-401E-8D09-ED0B3947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CDF8D-39CE-42CC-94FA-71888CC6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5472B-6B69-4D1B-9C43-E3679610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FD67D-3D0C-443A-9DBB-0210267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F24-D825-4629-9F6C-DEE6E2D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36E77-29F0-4542-B8AB-DB8AD892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69ED7-BEAE-40A0-BE0D-816A34F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2E859-B448-4CF4-A46C-2BE06E98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B5893-AD0D-4D68-9A42-E7A37677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1E594-AAC0-4F00-9CCA-D5D86E17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40E-A262-4550-87A1-754CD40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7AC4-A253-4675-A67E-6626934C09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F5E-91B5-4D41-A65A-C3C152CEFD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932A-61BD-4623-9351-8CBC333864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de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de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81B0-BB71-4634-AF56-27C82EC2C18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80A-31F6-4BCF-9F59-B05551E496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61B-0400-4156-A31C-00A1A090D1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B8C0-1207-44A2-87D7-97CC5F5803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2276640"/>
            <a:ext cx="6172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5e9c"/>
                </a:solidFill>
                <a:latin typeface="Century Schoolbook"/>
              </a:rPr>
              <a:t>3.1 СУЩНОСТЬ И СТРУКТУРА ГФ,  ГОСУДАРСТВЕННЫЕ ДОХОДЫ И РАСХОДЫ</a:t>
            </a:r>
            <a:endParaRPr b="0" lang="en-US" sz="32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884240" y="47628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Тема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Государственные Финансы,  государственный кредит и дол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. РАСХОДЫ</a:t>
            </a: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 –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599840"/>
            <a:ext cx="7467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денежные отношения, связанные с использованием Финансовых ресурсов государства на различные его потреб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Фин. ресурсы, используемые государством для выполнения его функ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8688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сходов совершенствуют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 расходов и их структура непосредственно связаны с выполнением государством функциями и экон. возможностям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экономи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социа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управлен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оборон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друг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ходы всех видов образуют систему гос. расхо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ОСНОВНЫЕ ПРИНЦИПЫ РАСХОДОВАНИЯ СР-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Целевая направленность средств (устанавливаются государство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Безвозвратность расходования средств (исключение – Гос. креди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Соблюдение режима экономии (должна быть разработана система мер и форм оптимизации затрат, которые ориентируются на рациональное использование затра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65e9c"/>
                </a:solidFill>
                <a:latin typeface="Century Schoolbook"/>
              </a:rPr>
              <a:t>ФОРМЫ ОСУЩЕСТВЛЕНИЯ ГОС. РАС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финансирование (используется для покрытия расходов Гос. предприятиями путем использования собственных средст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юджетное финансирование (применяется для обеспечения затрат, имеющих общегосударственное значени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дитное обеспечение (применяется и Гос. предприятиями и Гос. структурами разных уровней управления и осуществляется в основном путем заимствования Ф. ресурс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ОСУДАРСТВЕННЫЕ ФИНАНСЫ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е финансы – денежные отношения в процессе распределения и перераспределения стоимости общественного продукта и части нац. богатства в связи с формированием финансовых ресурсов у государства и его предприятий, а также использованием их на развитие производства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а ГФ – обеспечение государства денежными средствами для решения эконом., полит. и соц. зада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СУБЪЕКТЫ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ос-в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Учреждения и предприят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СТРУКТУРА ГОСУДАРСТВЕННЫХ ФИНАНС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) Гос. бюдже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) Гос. креди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) внебюджетные фонды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5e9c"/>
                </a:solidFill>
                <a:latin typeface="Century Schoolbook"/>
              </a:rPr>
              <a:t>ГОС. БЮДЖЕТ 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8920" y="765000"/>
            <a:ext cx="828036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яет собой форму образования и использования централизованного денежного фонда для обеспечения деятельности государ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Федеральный бюджет (решает задачи в границах Федерации: целевые программы; различные отрасли народного хозяйства; правопорядок; межд. деятельност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Региональный бюджет (решает задачи регионов, республик: Финансы образования; организации здравоохранения; охрана внутренней безопасности правопорядка, окружающей среды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Местный бюджет (решает задачи местного хоз-ва: создание инфраструктуры территории; подготовка трудовых кадров; решение задач коммунально-бытового характер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ос. креди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является заемщиком временно свободных денежных средств физических и юридических лиц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небюджетные фонды 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шают социальные и экономические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ОСУДАРСТВЕННЫЕ ДОХОДЫ И РАСХОДЫ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599840"/>
            <a:ext cx="74674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. доходы –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Д. отношения по мобилизации финансовых ресурсов государ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Денежные средства, мобилизованные в распоряжение государства для выполнения его функц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6716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ИСТОЧНИКИ ДО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внутренние (Национальный доход своей страны, часть нац. богатст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внешние (НД других стра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о имеет разные статьи доходов. Совокупность доходов разных видов образует сист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. доходов, решающих 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стимулирование роста производ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ускорение темпов НТ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удовлетворение соц. и других потребностей обще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65e9c"/>
                </a:solidFill>
                <a:latin typeface="Century Schoolbook"/>
              </a:rPr>
              <a:t>МЕТОДЫ МОБИЛИЗАЦИИ ДО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907560"/>
            <a:ext cx="80024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) Взимание налог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) Использование гос. займов и кредит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) Использование эмисс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) Прочее (неналоговые, некредитные средства от эксплуатации гос. собственности и проведения Гос. операций; дивиденды от акций, находящихся в собственности; сдача в аренду Гос. имущества, средства от его продажи, доходы гос. предприят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4:18Z</dcterms:modified>
  <cp:revision>14</cp:revision>
  <dc:subject/>
  <dc:title>Сущность и функции финансов</dc:title>
</cp:coreProperties>
</file>