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6407-9FF0-4EAC-8041-C28EF226BF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44B7-C8BA-4CD4-ABF8-BA515C23E4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302-BC77-4585-9C2C-3C7229F9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065-1F6B-4BD2-AD8D-ED109F33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C2D-2C5E-4D4C-8847-46D53225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B90-3F30-45F5-A3D7-5E365255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74C7-DDAA-4D59-9B77-3B667EE0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E628-0CE7-4B96-ACEC-31630A1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7BC5-B030-42D8-8383-1AFAA54A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8A6F-A907-49CA-94FF-6D3AF377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7914-04F0-4501-A257-FDAC6880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E5E1-7115-40DB-B125-8E2BCECC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27B7-B958-45DD-9E36-F21B115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DAB-6789-4041-B575-8254DB5B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BFB0-E496-4A36-86C5-186F6601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DEB1-EE50-4D61-A1B4-E00C16B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D031-C7A9-4A03-9AF9-BACB9E36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DBE-1207-4A1F-98E2-082FBAB1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7741-DB11-4523-A45B-491F6747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FBDE-0DCD-4B5B-A6E9-589544AF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9981-48AD-4A1E-BD27-DA900366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7B01-E6E4-46C0-97E4-268096B6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1A20-9193-404F-9797-94974C5A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1D6C-8718-42C8-BC36-2251BE9E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260-8864-40A4-B8BD-D1B04BB3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E67B-9804-4EF1-B6D1-8387ADB3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92A4-09A9-4C62-A3D3-9345B8D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3019-AC0A-47F7-8721-52FEB9B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CB3D-764B-4249-BD6C-5A92ADB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9947-CE54-4CE5-861E-4354D090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A974-A7F4-4719-B0F8-754E0A87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0FCF-AC45-4D54-97D0-F7D496C6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2642-55E8-4DBF-9D6A-B17D3DC8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4577-FBA8-468C-BCA1-4A20983E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3D5D-1085-49FF-8EDA-68455B8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65C-A2C2-4F30-9CDA-80206B14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3F4D-5373-4D5D-A4BE-72F3E525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3AFBD-7F57-4B76-9149-6F9C44ED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F65E-C99F-4EE9-80EB-E1800C9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02DA-1206-4EE6-91A1-36E235B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DBB1-2E1C-4825-BCEE-17695B59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FCD1-8640-4A44-9B29-F578979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3021-AB64-403E-96C5-EE49EF6A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2EFD-3E76-4E58-BDF2-6D38F938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B8F8-83BD-498C-AE63-C813DF34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4D69-55B7-4BBA-A41F-5134E28D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C2C-95FD-4F45-9269-1C16383C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8E14-FD83-4DDF-B091-B300E407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0E58-F04D-4D13-84B1-80F2D96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1B41-AF0D-42CB-B268-460C096B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E8F0-A182-4416-BA18-BA3FFF6F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7B74-4EE9-469D-934F-3D8EC427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A53FD-1F76-4C3D-ABD7-04385EA9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9315-CED1-4778-AC4E-0B7D73DF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E01B9-A61A-41D2-8C9F-56DD54E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C5E5-4C75-4DAB-B519-3DDA2804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C639-652A-42A1-83D5-102E88A7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684-6F5F-4FE6-B87B-594DD9D5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27039-0DED-4DF0-B11E-A48B9B3F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988BB-CCC0-4883-B854-FE16F81F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07141-4B7E-4E7A-8566-0E3ED7B4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80B5-8BC9-4EBC-940B-1A6EEE30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EFFE-6A61-43AF-9C06-7E28B1E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6F3DD-8162-433B-8866-FE136DEA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84BA9-F1FA-4DEF-B3C4-07B905B3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4AD4E-8383-4F0E-9F18-8C64F9C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077C-CDA2-40D9-A7ED-473837F6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94758-6914-4AA2-8958-465A4375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A3F-2C20-46A8-9212-4559821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20167-FAD3-41D5-A6F4-68CE6056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4E392-6591-4A65-900D-BE1D22B2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F83A2-79A8-4BDF-A1FB-C8FCCC07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5632B-D32A-49EA-8219-6C808CD3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1C0F2-2C62-4C63-A165-8BF9B901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FEC0-21F8-4D7E-96AB-14810911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F350D-FDD3-4C6C-8E3D-653705F6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AA0E-5751-4903-A3CD-BC69F52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4E15E-7483-4DEC-8ED9-06F45D40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9E7EE-93E6-4389-ACDC-88B8795D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8E0-6A5E-476E-A587-67041E2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F9DD9-5050-4A6B-B536-77177EB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3E667-59A5-4DFC-89E5-FB734A27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28D75-3241-4A03-A39C-6F8B4015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9B1B-A7B0-4A38-B998-BCB8FAC2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FB494-FA55-42AE-81EB-3B9455BC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90D6F-A926-418E-8385-2DE024FD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A6186-F327-4F5D-83FB-B55440BC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E738D-CFD9-4C0A-A22D-76C7D4B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7099-1572-4E7F-9911-936D799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37908-0801-4050-8C03-8DD70D4C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913-AB3F-4553-A7A6-3632FC2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A90A-6285-4E75-8350-32C0DC6B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6183-116E-467B-8466-3EB8CA8E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A865C-5EAF-4181-994F-3997D700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248B5-2547-4916-BE8E-90C27747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C2DB4-F568-4970-BA86-6459827A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ED38B-E6A9-4194-9D72-D138676D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A5584-F97D-4F90-B524-0F993A6E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39F-6C25-4381-B87D-76E89F51AB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E2E4-A728-4ABF-AA5E-A58726FBA8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3FE1-4757-4271-9D61-C9E1BF41F4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032-BEC0-4997-AD7F-45FBACD037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7303-12DA-4243-AE65-3A56A3E8CE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462-B30A-4E82-B766-F98C33061B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865C-59BD-4E2F-A577-CAF0E3D394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B08F-D28E-4E31-8A80-066A167472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72400" cy="2620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6666"/>
                </a:solidFill>
                <a:latin typeface="Lucida Sans Unicode"/>
              </a:rPr>
              <a:t>3.2 Государственный кредит, его сущность, классификаци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Подзаголовок 2"/>
          <p:cNvSpPr/>
          <p:nvPr/>
        </p:nvSpPr>
        <p:spPr>
          <a:xfrm>
            <a:off x="858960" y="3664080"/>
            <a:ext cx="7772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Lucida Sans Unicode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Lucida Sans Unicode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нежные отношения между государством и физическими и юридическими лицами, связанные с мобилизацией временно свободных денежных средств и использованием их для выполнения функций государст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о выступает в лице кредитора, заемщика, гаран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связан с движением бюджетных ср-в, следовательно является частью Финансовой систем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погашается за счет бюджетных ср-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– отношения вторичного распреде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доброволе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присущи возвратность, срочность, платность, обеспечен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1. Внутренний ГК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a) Гос. займы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b) Обращение части вкладов населением в гос. займ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c) Заимствование ср-в общегосударственного ссудного фонд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d) Казначейские ссуды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e) Гарантированные займ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2. Внешний ГК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совокупность отношений, с которыми Г. выступает на мировом рынке как заемщик или кредитор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нешний ГК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) – в денежной форме (валюта страны кредитора, заемщика, третьей страны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товарной форм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) – долгосрочны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раткосрочный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86" name="Выноска-облако 3">
            <a:hlinkClick r:id="" action="ppaction://hlinkshowjump?jump=nextslide"/>
          </p:cNvPr>
          <p:cNvSpPr/>
          <p:nvPr/>
        </p:nvSpPr>
        <p:spPr>
          <a:xfrm>
            <a:off x="6012000" y="2565360"/>
            <a:ext cx="2447640" cy="1044720"/>
          </a:xfrm>
          <a:prstGeom prst="cloudCallout">
            <a:avLst>
              <a:gd name="adj1" fmla="val -103087"/>
              <a:gd name="adj2" fmla="val 17273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Государственные зай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Стрелка вправо 5">
            <a:hlinkClick r:id="rId2" action="ppaction://hlinksldjump"/>
          </p:cNvPr>
          <p:cNvSpPr/>
          <p:nvPr/>
        </p:nvSpPr>
        <p:spPr>
          <a:xfrm>
            <a:off x="5364000" y="5516640"/>
            <a:ext cx="2016360" cy="86508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91480" cy="5007240"/>
          </a:xfrm>
          <a:prstGeom prst="rect">
            <a:avLst/>
          </a:prstGeom>
          <a:ln w="0">
            <a:noFill/>
          </a:ln>
        </p:spPr>
      </p:pic>
      <p:sp>
        <p:nvSpPr>
          <p:cNvPr id="390" name="Стрелка влево 4"/>
          <p:cNvSpPr/>
          <p:nvPr/>
        </p:nvSpPr>
        <p:spPr>
          <a:xfrm>
            <a:off x="5508720" y="5084640"/>
            <a:ext cx="3311280" cy="1513080"/>
          </a:xfrm>
          <a:prstGeom prst="leftArrow">
            <a:avLst>
              <a:gd name="adj1" fmla="val 50000"/>
              <a:gd name="adj2" fmla="val 49949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7bbfd"/>
                </a:solidFill>
                <a:uFillTx/>
                <a:latin typeface="Lucida Sans Unicode"/>
                <a:hlinkClick r:id="rId3" action="ppaction://hlinksldjump"/>
              </a:rPr>
              <a:t>Вернуться к формам гос. кред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8229600" cy="185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Program Files (x86)\Microsoft Office\MEDIA\CAGCAT10\j0284916.jpg"/>
          <p:cNvPicPr/>
          <p:nvPr/>
        </p:nvPicPr>
        <p:blipFill>
          <a:blip r:embed="rId2"/>
          <a:stretch/>
        </p:blipFill>
        <p:spPr>
          <a:xfrm>
            <a:off x="1835280" y="1757520"/>
            <a:ext cx="58323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0:13:14Z</dcterms:modified>
  <cp:revision>19</cp:revision>
  <dc:subject/>
  <dc:title>Сущность и функции финансов</dc:title>
</cp:coreProperties>
</file>