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F8AE-2687-40C6-9135-D2A1DC2E0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242C-E3F1-4E83-B9BF-F1B831C5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2B45CF-59FB-4780-87B4-8D906CE3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19772-4E5D-4983-BC92-5269BE89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A9C2B-3788-4D84-ADFD-70B7DC38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75955-260A-4743-ACEC-914C78FA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2BA254-88FB-4C19-B48E-A10313DD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34A9E-5BE8-46EB-849D-9C494764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57024-2D4C-40D7-AF27-ACA6A9EF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7808C-7406-4C88-ACA3-963CD3369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BA580D-0113-411C-B687-93A1850EE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DA02-AD6A-4E4A-9B0B-B045A15C8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25F4-41AD-48F1-B924-0E1622470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A172-CD4E-46F0-8B82-A389608C0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5B31-DEFD-44F0-8A9D-2B4CDD8A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18A3-B5E8-4BEB-9816-7E43E0ED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AD3F-CD9C-49B6-B5CD-51F1F782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5289-5509-44C2-8C09-E14EE45B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375F-07E6-40EC-97E7-85105799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E6F9-CCA7-4D60-854E-AB45E87B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39B5-7832-42C0-8CC0-126EF7F2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9EDC-360F-4CB0-A35F-5519CF2D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31C5-8825-479D-82CC-445C6B48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4D61-136C-4420-98F6-564302BA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BFA7-F890-4DA5-A42C-15DA41DBA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87E1-A340-496C-8EB7-13DBAF2AC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E884F-19FE-45F9-A44F-FBC101C5F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04959-DA52-4C61-981A-962F6EE6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F10ED-0E99-4430-8D4B-BE9F9CD4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A2825-075A-4482-910C-9DCFE869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58830-C794-49DF-BC43-E89D7A9A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D652-10D1-4BB6-BD56-0086BBD7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2D776-A2DD-41BE-B4C1-3761264E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36819-0AC1-403F-9BAF-CAC8B454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1023D-22E9-4251-A8CA-6E6A7E1A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9239C-5636-45F6-B8E4-DA175C39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BEC2D-F547-4CA5-B315-20435BE9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4AF38-5C68-40BE-BCC9-91335829D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1E507-AEB8-4D8E-9101-5CA836082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F4D02-B94B-4F05-9F2C-DFBA7743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330B0-D08C-4EB1-A0C6-ACD585C3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2056B-E444-4674-9931-B4634210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B602-183A-4F28-A519-23DF30C5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16C03-ADB5-4981-944F-E8FB4081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E8DDA-AD00-4E4E-8F17-28442BDC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D08CD-DA60-4E83-BB45-55AF2B7A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D3EB2-07F4-40E1-80D6-433A7686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B5970-AEDB-4C9A-B7F8-A8D7B954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F18C5-58A3-40B9-BF64-91F713AD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F21DB-E81C-4378-A026-423A0DF1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913B7-60FD-4E01-A719-0B916EB6C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CF239-59D3-4350-9770-81D0D6A40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7C4F1-2A7A-411D-AE86-4BC30E840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8969-7965-463B-BBF6-5A4BBF1A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88690-AF01-480E-A8C6-63D8C7DD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D1270-24EC-4178-A008-A89A33BD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0C7CB-07C5-4F41-A6CE-35F2F0ED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429DC-6073-4705-A422-A7337521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D2A79-EF29-4486-A6CB-C2E676DA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0665A-76B7-40EE-B7E4-F2451C15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558EF-1E65-4F5C-A22A-37C93802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691B4-5CBA-4118-809C-886280F3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CE02B-29AA-4422-B1B0-FB360A55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2FB95-D2DE-450D-AE4B-106A5D7C7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3090-03BE-4A32-B520-092476DF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1A867-518B-4A3A-8131-FA8DAAE4A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65B4C-CDF5-446B-B02E-E194F6C56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49AFD-29C4-4F4E-A7F2-CB91B194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30691-7FC5-4410-8DDE-10E8D78E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FF163-C1D6-4830-A8F5-B8492CC3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4BEE5-EB00-4AAF-A8C3-76C10D99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FA5C6-5AFE-44B9-8911-807A749C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E116B-3CF8-4095-85A9-DFBD16BA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F3875-2EFA-409C-B14F-86ADA6FC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328A1-5872-4691-A239-9D971707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8D04-FA21-454C-9220-E88050E1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2F760-1BAC-4A0A-BF6B-FB434A8F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A85BF-8419-494B-B3E5-01DE10626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CE3F5-74C1-49E2-8C77-78F4C76C4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0CBED-C2CF-48D3-995C-8A66406AE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B7333-0DA1-40BC-B0DB-9D352FAE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6387B-9529-4C5C-B576-25601470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717D9-D96A-41C4-8B75-8C7A8889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60019-2985-4BD4-875B-D4D2A33D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EC044-1BD4-4339-AF08-4A747F21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15240-EF05-41AA-B1BB-182170B2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B3B6-C3E9-4747-9D88-B6EE62C2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57B60-56D1-4363-A3B3-B7AD2650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2F69C-9495-4C05-A1D8-4C1AB5D2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1A6C5-8EB2-4B47-B363-5C299C8B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4B524-4974-4317-A699-DC845D14B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D805B-CACE-4BA8-B34E-3B037FC8B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7B124-5CDF-461F-8E6A-AECABA569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E84C9-810E-405D-A6C9-5F583B2A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2BE74-84AE-4C79-B002-4BBB8C14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C9076-2544-40A6-9185-10D523B0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59F84-770D-40CE-B454-3BBE72E8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FBE2-B824-48AC-A32D-DDB50958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594BD-8C32-452C-BCBC-E6E25153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71760-3E41-4AD9-AC46-F6AE3B7B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AF0F6-6553-4A69-B9DA-75D3ABC2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7B8D4-2ADC-4016-A677-414B27E5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FA480-1080-4D96-9E12-47DFFD7C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7D97F-A940-4C34-893D-FC7B344C2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4341D-9193-4EC6-B9E6-688179732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F1F864-3077-4DDB-940B-D3610ED7F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F19CC-3561-4944-A45F-E2C3D249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BAA85E-4A85-43CF-954F-D5B047FD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CF17-9F67-4AA5-8F5B-CFFEA2F9042E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Group 7" descr=""/>
          <p:cNvPicPr/>
          <p:nvPr/>
        </p:nvPicPr>
        <p:blipFill>
          <a:blip r:embed="rId4"/>
          <a:stretch/>
        </p:blipFill>
        <p:spPr>
          <a:xfrm>
            <a:off x="1152360" y="2627280"/>
            <a:ext cx="6864480" cy="1590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e9c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ce9c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506D-61DE-4488-AA04-6EBFAC17D704}" type="slidenum">
              <a:rPr b="0" lang="ru-RU" sz="1200" spc="-1" strike="noStrike">
                <a:solidFill>
                  <a:srgbClr val="ece9c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8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Group 11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91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Straight Connector 13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Straight Connector 14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9F2A-D11B-4E70-BE71-6E359FD0C006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8" name="Picture 11" descr="CoverOverlay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"/>
          <p:cNvGrpSpPr/>
          <p:nvPr/>
        </p:nvGrpSpPr>
        <p:grpSpPr>
          <a:xfrm>
            <a:off x="1172880" y="2887560"/>
            <a:ext cx="6778440" cy="916920"/>
            <a:chOff x="1172880" y="2887560"/>
            <a:chExt cx="6778440" cy="916920"/>
          </a:xfrm>
        </p:grpSpPr>
        <p:sp>
          <p:nvSpPr>
            <p:cNvPr id="140" name="TextBox 9"/>
            <p:cNvSpPr/>
            <p:nvPr/>
          </p:nvSpPr>
          <p:spPr>
            <a:xfrm>
              <a:off x="4308840" y="288756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Straight Connector 9"/>
            <p:cNvSpPr/>
            <p:nvPr/>
          </p:nvSpPr>
          <p:spPr>
            <a:xfrm flipH="1" flipV="1">
              <a:off x="1172880" y="34322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Straight Connector 10"/>
            <p:cNvSpPr/>
            <p:nvPr/>
          </p:nvSpPr>
          <p:spPr>
            <a:xfrm flipH="1" flipV="1">
              <a:off x="4831920" y="34340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DD39-45B1-4156-B0AE-21CFB95540C8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Group 12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188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Straight Connector 15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4012-60D4-4891-936E-F55E979E7A8E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5" name="Group 13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36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Straight Connector 16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Straight Connector 17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F01F-A531-4410-B27F-F4A0A146FA7E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8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3" name="Group 9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84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Straight Connector 15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6BCD-1CA9-463C-A671-34CAFB44581A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2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1" name="Group 10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332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Straight Connector 15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Straight Connector 16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18B5-992F-488F-BB1B-6E06DF1B3DBF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7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9" name="Group 10"/>
          <p:cNvGrpSpPr/>
          <p:nvPr/>
        </p:nvGrpSpPr>
        <p:grpSpPr>
          <a:xfrm>
            <a:off x="6193440" y="601560"/>
            <a:ext cx="916920" cy="5481720"/>
            <a:chOff x="6193440" y="601560"/>
            <a:chExt cx="916920" cy="5481720"/>
          </a:xfrm>
        </p:grpSpPr>
        <p:sp>
          <p:nvSpPr>
            <p:cNvPr id="380" name="TextBox 8"/>
            <p:cNvSpPr/>
            <p:nvPr/>
          </p:nvSpPr>
          <p:spPr>
            <a:xfrm rot="5400000">
              <a:off x="6374880" y="291420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Straight Connector 12"/>
            <p:cNvSpPr/>
            <p:nvPr/>
          </p:nvSpPr>
          <p:spPr>
            <a:xfrm flipV="1">
              <a:off x="6565680" y="601560"/>
              <a:ext cx="2160" cy="246960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Straight Connector 13"/>
            <p:cNvSpPr/>
            <p:nvPr/>
          </p:nvSpPr>
          <p:spPr>
            <a:xfrm flipV="1">
              <a:off x="6563520" y="3613680"/>
              <a:ext cx="1440" cy="246960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2A97-D0E2-405A-958D-D38899218402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1189080" y="133200"/>
            <a:ext cx="6778440" cy="34815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371600" y="3766680"/>
            <a:ext cx="6400800" cy="13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3.3 Государственный долг, его показатели  и управление им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Подзаголовок 2"/>
          <p:cNvSpPr/>
          <p:nvPr/>
        </p:nvSpPr>
        <p:spPr>
          <a:xfrm>
            <a:off x="1523880" y="5013360"/>
            <a:ext cx="640080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втор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люев С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рославль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262626"/>
                </a:solidFill>
                <a:latin typeface="Times New Roman"/>
              </a:rPr>
              <a:t>вся сумма выпущенных и непогашенных долговых обязательств государства, включая начисление процентов, которые должны быть выплачены по этим обязательствам.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895d1d"/>
                </a:solidFill>
                <a:latin typeface="Times New Roman"/>
              </a:rPr>
              <a:t>Государственный долг-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1. – основной (вся сумма задолжностей, срок уплаты по которым еще не наступил)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текущий (расходы по выплате процентов и погашению обязательств, срок оплаты по которым наступил)</a:t>
            </a:r>
            <a:endParaRPr b="0" lang="en-US" sz="2200" spc="-1" strike="noStrike">
              <a:solidFill>
                <a:srgbClr val="262626"/>
              </a:solidFill>
              <a:latin typeface="Times New Roman"/>
            </a:endParaRPr>
          </a:p>
          <a:p>
            <a:pPr lvl="1" marL="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2. – Внешний (обязательства, возникшие в валюте иностранного государства)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Внутренний (обязательства, возникшие в национальной валюте)</a:t>
            </a:r>
            <a:endParaRPr b="0" lang="en-US" sz="22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56560" cy="10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95d1d"/>
                </a:solidFill>
                <a:latin typeface="Times New Roman"/>
              </a:rPr>
              <a:t>Государственный долг подразделяется на:</a:t>
            </a:r>
            <a:endParaRPr b="0" lang="en-US" sz="4800" spc="-1" strike="noStrike">
              <a:solidFill>
                <a:srgbClr val="895d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служат активы, находящиеся в распоряжении Правительства. РФ не несет ответственности по тем долгам, которые не были ею гарантированы. Величина ГД свидетельствует о Финансовом положении страны.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895d1d"/>
                </a:solidFill>
                <a:latin typeface="Times New Roman"/>
              </a:rPr>
              <a:t>Обеспечением ГД РФ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90480" y="1204560"/>
            <a:ext cx="7755120" cy="114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95d1d"/>
                </a:solidFill>
                <a:latin typeface="Times New Roman"/>
              </a:rPr>
              <a:t>Показатели ГД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468360" y="3738600"/>
            <a:ext cx="828036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совокупность мероприятий связанная с установлением предельных ежегодных значений гос.долга, погашением задолжностей и выплатой процентов, с изменением условий выпущенных займов, с определением условий и выпуском новых займов, снижением стоимости обслуживания гос.долга, с осуществлением контроля за заимствованиями субъектов.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95d1d"/>
                </a:solidFill>
                <a:latin typeface="Times New Roman"/>
              </a:rPr>
              <a:t>Управление государственным долгом -</a:t>
            </a:r>
            <a:endParaRPr b="0" lang="en-US" sz="4800" spc="-1" strike="noStrike">
              <a:solidFill>
                <a:srgbClr val="895d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23640" y="2060640"/>
            <a:ext cx="8569080" cy="48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62626"/>
                </a:solidFill>
                <a:latin typeface="Times New Roman"/>
              </a:rPr>
              <a:t>1</a:t>
            </a: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. Установление ежегодных значений производится с графиком платежей, предельные значения устанавливает бюджет.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62626"/>
                </a:solidFill>
                <a:latin typeface="Times New Roman"/>
              </a:rPr>
              <a:t>2. </a:t>
            </a: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Если страна испытывает финансовые, бюджетные трудности, то она может прибегнуть к рефинансированию и реструктуризации ГД.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262626"/>
                </a:solidFill>
                <a:uFillTx/>
                <a:latin typeface="Times New Roman"/>
              </a:rPr>
              <a:t>Рефинансирование ГД </a:t>
            </a: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- погашение старой задолжности путем выпуска нового займа.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262626"/>
                </a:solidFill>
                <a:uFillTx/>
                <a:latin typeface="Times New Roman"/>
              </a:rPr>
              <a:t>Реструктуризация ГД </a:t>
            </a: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- погашение долговых обязательств с одновременным заимствованием в объемах погашаемых долговых обязательств, с установлением иных условий обслуживания долга и сроков погашения ГД.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62626"/>
                </a:solidFill>
                <a:latin typeface="Times New Roman"/>
              </a:rPr>
              <a:t>3. </a:t>
            </a: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Изменение условий выпущенных займов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374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262626"/>
                </a:solidFill>
                <a:uFillTx/>
                <a:latin typeface="Times New Roman"/>
              </a:rPr>
              <a:t>Конверсия ГД </a:t>
            </a: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- изменение доходности займа (% ставки)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374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262626"/>
                </a:solidFill>
                <a:uFillTx/>
                <a:latin typeface="Times New Roman"/>
              </a:rPr>
              <a:t>Консолидация ГД </a:t>
            </a: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- изменение срока действия выпущенного займа 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374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262626"/>
                </a:solidFill>
                <a:uFillTx/>
                <a:latin typeface="Times New Roman"/>
              </a:rPr>
              <a:t>Унификация ГД </a:t>
            </a: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- объединение нескольких займов в один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374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Отсрочка погашения займа 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374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Аннулирование ГД 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62626"/>
                </a:solidFill>
                <a:latin typeface="Times New Roman"/>
              </a:rPr>
              <a:t>3. </a:t>
            </a: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Определение условий выпуска новых займов.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62626"/>
                </a:solidFill>
                <a:latin typeface="Times New Roman"/>
              </a:rPr>
              <a:t>4. </a:t>
            </a: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Контроль за заимствованием.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77547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95d1d"/>
                </a:solidFill>
                <a:latin typeface="Times New Roman"/>
              </a:rPr>
              <a:t>Управление государственным долгом включает:</a:t>
            </a:r>
            <a:endParaRPr b="0" lang="en-US" sz="4000" spc="-1" strike="noStrike">
              <a:solidFill>
                <a:srgbClr val="895d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Заголовок 1" descr=""/>
          <p:cNvPicPr/>
          <p:nvPr/>
        </p:nvPicPr>
        <p:blipFill>
          <a:blip r:embed="rId1"/>
          <a:stretch/>
        </p:blipFill>
        <p:spPr>
          <a:xfrm>
            <a:off x="890640" y="1390680"/>
            <a:ext cx="7351560" cy="21146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C:\Program Files (x86)\Microsoft Office\MEDIA\CAGCAT10\j0217698.wmf"/>
          <p:cNvPicPr/>
          <p:nvPr/>
        </p:nvPicPr>
        <p:blipFill>
          <a:blip r:embed="rId2"/>
          <a:stretch/>
        </p:blipFill>
        <p:spPr>
          <a:xfrm>
            <a:off x="3348000" y="3860640"/>
            <a:ext cx="246708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7:57:21Z</dcterms:created>
  <dc:creator>Александр</dc:creator>
  <dc:description/>
  <dc:language>en-US</dc:language>
  <cp:lastModifiedBy>Александр</cp:lastModifiedBy>
  <dcterms:modified xsi:type="dcterms:W3CDTF">2011-03-24T10:38:04Z</dcterms:modified>
  <cp:revision>14</cp:revision>
  <dc:subject/>
  <dc:title>Бюджетная система Российской Федерации </dc:title>
</cp:coreProperties>
</file>