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1CE4-B244-4753-9CE9-AC4D53D2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26EB-3D57-4C4C-806D-6EDED8A1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31EE-A103-4211-9F10-8E37F316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E0BA-4306-47FC-9D9C-6F32C5B4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5F9B-D989-4E50-B8F5-349A4532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9800-C87C-46C4-AF2E-F3E44E64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305F-3D90-4BEF-8506-B33E53DE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119C-CCFB-4F5B-858B-8AEE0F55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1947-1E33-4E6B-B391-4E357E7A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C1FE-7371-4CEF-8500-C0A50DC2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41D5-C420-4CE4-BED2-53B0DBB5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B8B-8AB7-4B0F-8C06-75A77DDF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532F-A5FF-446B-97BC-8B7EBF01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A4EF-3053-45F8-948E-64FF1A74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942D-2809-4B0A-B2CC-77859CF4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E070-13FB-483A-8168-A2218D26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B230-B872-43AF-96C0-5CF1EB05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EF909-FCAD-4B6C-B1FA-27F812B9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088F1-0698-4218-B0FE-3599CC2D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A487D-6579-4F57-A59F-01620669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13F68-EE79-4E84-8ED2-E5857040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8C30C-DA80-4DC9-99BA-49B3F026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A5D5-C33A-4B8D-B46F-8F86F739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ECE0C-CA4D-446E-9ACC-73E34727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87CD5-87AB-4B6E-A4A4-99A1DBDA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D188F-3173-48DF-8E40-4184D019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ABAD8-D24C-4159-8268-25A1EC86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1C359-884C-4003-96D5-BF048598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4E1D9-5664-4F64-8DDD-E1AB9F23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8DD9B-5375-468F-8C2D-BFBC3106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1D1C1-7D66-44CB-A57D-574C3382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2A994-8DF6-4C39-9E67-9B97C681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042E5-E2EE-4D45-BB15-AE10C0CE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B6CF-8F51-4422-8646-F7DAA683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404FC-3CE7-4EBF-8520-3435E9B0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015A0-34AB-441B-981D-2F70CF93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76D2D-0658-4264-9615-4CF97E4B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36937-B559-4FC1-8F8F-5EE4ABC1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914FD-2F73-4885-9871-861F3AB1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143A1-6DF2-43DC-BBC3-100A91FF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B4B7C-4830-4EBB-A75B-0E125958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DD10A-848B-4924-A59F-B65C64AB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8963B-69E6-4614-8C12-34C7F1F1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973E-2E4A-4A89-A840-DA0E4330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ADBC-61E3-4C37-A3A5-7A407C59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A0D3-88B4-4F28-AAC7-D2F71962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59CD-5F99-4EE3-A979-C13907EF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A613-DA13-48CB-BDDD-57D8DBAE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566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4FF2-0BE8-4749-A10C-CE25126F364A}" type="slidenum">
              <a:rPr b="0" lang="ru-RU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1f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0B52-10FE-4212-B176-5CE42ABB33CC}" type="slidenum">
              <a:rPr b="0" lang="ru-RU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1f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695F-FAB8-45A6-B059-F131CFF060EC}" type="slidenum">
              <a:rPr b="0" lang="ru-RU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566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1432-2C8B-462A-82C0-833DBB608491}" type="slidenum">
              <a:rPr b="0" lang="ru-RU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-55440" y="19080"/>
            <a:ext cx="8991360" cy="5600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339640" y="5445000"/>
            <a:ext cx="4419720" cy="868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Автор: Клюев С.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Ярославль 201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4e5b6f"/>
                </a:solidFill>
                <a:latin typeface="Calibri"/>
              </a:rPr>
              <a:t>Финансовая деятельность любого государства —</a:t>
            </a:r>
            <a:endParaRPr b="0" lang="en-US" sz="45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то процесс собирания, распределения (перераспределения) и использования денежных средств, обеспечивающих практическое выполнение функций государства и органов местного самоуправл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процессе осуществления финансовой деятельности государство решает в данной сфере следующие задач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бирания фондов денежных средст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пределения и использования этих средст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4e5b6f"/>
                </a:solidFill>
                <a:latin typeface="Calibri"/>
              </a:rPr>
              <a:t>Методы собирания фондов денежных средств:</a:t>
            </a:r>
            <a:endParaRPr b="0" lang="en-US" sz="45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логовый метод — используется государством для изъятия части доходов граждан, государственных и негосударственных предприятий, организаций и учреждений в бюджет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етод обязательных платежей юридическими и физическими лицами в пенсионный фонд, фонды социального страхования, обязательного медицинского страхования и други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осударство использует метод добровольного привлечения денежных средств в форме вкладов населения в банк, приобретения облигаций и других ценных бумаг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етод взимания сборов и пошлин, т.е. плата за оказываемые услуги (судебная, таможенная пошлина и др.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етод страхования (формирования страховых фондов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эмиссия денег (дополнительный выпуск денежных средств в обращение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4e5b6f"/>
                </a:solidFill>
                <a:latin typeface="Calibri"/>
              </a:rPr>
              <a:t>Методы распределения фондов денежных средств:</a:t>
            </a:r>
            <a:endParaRPr b="0" lang="en-US" sz="45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нансиров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едитов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плата страховых возмеще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уществление расчетов между различными субъект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4e5b6f"/>
                </a:solidFill>
                <a:latin typeface="Calibri"/>
              </a:rPr>
              <a:t>Финансовая система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ставляет собой систему отношений, ориентированных на объек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8379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5b6f"/>
                </a:solidFill>
                <a:latin typeface="Calibri"/>
              </a:rPr>
              <a:t>В управлении финансами</a:t>
            </a:r>
            <a:r>
              <a:rPr b="0" lang="ru-RU" sz="3600" spc="-1" strike="noStrike">
                <a:solidFill>
                  <a:srgbClr val="4e5b6f"/>
                </a:solidFill>
                <a:latin typeface="Calibri"/>
              </a:rPr>
              <a:t>, как и в любой управляемой системе, выделяются объекты и субъекты управления.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бъектами выступают разнообразные виды финансовых отношени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убъектами —организационные структуры, осуществляющие управление. В соответствии с классификацией финансовых отношений по их сферам выделяют три группы объектов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инансы предприяти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раховые отношени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осударственные финанс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м соответствуют следующие субъекты управлени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инансовые службы (отделы) предприяти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раховые орган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инансовые орган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логовые инспек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09:43:15Z</dcterms:modified>
  <cp:revision>7</cp:revision>
  <dc:subject/>
  <dc:title>Сущность и функции финансов</dc:title>
</cp:coreProperties>
</file>