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AE4-B04C-4BFA-BE4A-C0329028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85F-7D30-49A1-BF27-C86397DE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8B6-C1F7-47C1-9088-96059A86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13D-C7CD-47CE-A661-B6737DB1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79E3-367B-4455-AB15-38109A10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0486-6E26-45B6-AD9B-B4A70044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05E-8C5C-4394-AA72-5860590A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CBA7-0262-48EA-9BCF-383589EF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B36-C86B-406C-A2FD-3DAF3DD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BACD-F198-42A3-AE26-5E8D3964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23F7-1CC7-4C61-A6DA-C7E52D8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1FA-6ECD-4B68-99E0-7E43871F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2478-94FE-4378-B1F0-426D2BDA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DF1-3FBE-4BB9-8A32-4378FAE3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9E5C-A942-45BF-9AAA-F019CF2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6D76-D3C1-40AE-B0CC-9381DFF9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40D4-B32E-485A-A1B0-A003945A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64FE-1D55-4413-B72C-6545915D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A2CE-4D42-4865-A127-DA9CB36C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1834-6E05-44EF-BCA4-389FA84E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FD17-9A56-4C60-A364-BDE0391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DA08-94D9-4B0E-B38A-42BFCA14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FFB-0AE3-41F9-9119-4976A6D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9F59-F5C6-4326-8391-B58D95D8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9509-25BF-459F-AD3D-7A4A4731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6A69-BD36-4188-A785-1BCCCA56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10F1-BCAB-4785-B027-A5D3CD4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CA5C-2518-4FAD-951F-FDB2428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FA0B-061D-42AB-8D2F-0C2798A8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D7A5-927A-4679-96E6-44C310C3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EFD1-6C6A-44EE-AAF7-BDB507C9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DC03-0469-41C3-BEE5-0FCB875E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08DD-6E56-444E-AF37-D77B2AE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253-94CC-4324-9A00-ED174B6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BD94-BEC9-4650-A9CC-6CC77DB8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AFFF-1938-45C6-A05D-A181601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A906-E0B8-40CF-974E-A93AFEF4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8477-89DB-4A7A-AAB3-7D23A17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B570-8EE9-4C02-B2CD-685B5F3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0AE2-0F70-463C-8F6A-83DAE78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E75D-1B88-464F-983C-4F99ED7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E2E0-8980-4DDB-A8D7-5E9481BC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7646-A2EE-47FA-95E9-E7E6BB54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E851-D349-455F-9C79-FA74EB7F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101-E89C-49A3-858A-2BD7BD2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0673-8F70-43DB-9053-BDB8EDF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BE78-A052-4E5C-9AA7-C7F1851A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D14F8-0960-42EC-AF65-0A6675A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63BB-632C-449A-AC24-7BC1CED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32E5-F25C-4163-A097-C9D15D9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5D3A-F04E-43EF-8743-0704975E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094E-7EF5-42EF-9122-DAD6A76E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5230B-FA11-4B6F-93F1-C031853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09BE-2E1E-402A-A99B-6E13572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F55EF-2838-45A4-BE62-AC03C214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6C1-99D8-4624-BA09-2F7C27D2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5CB68-A400-4B4C-9F39-F207366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D44-3124-486F-A7B0-E8B7DC9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8D0-FFFB-4566-9985-F208FC2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C7F-54A3-477A-A385-6216F84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E6A-7573-47F8-8519-8631A82C8CDB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EE4-5E1A-4474-BEE0-BF9E64FA1672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5D8-5A22-4883-A25A-919D780D7656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23D-99A6-4E29-89F8-80F1B4D468C6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475-F14D-462A-B00D-4871891B46CB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втор: Клюев С.В.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рославль 2011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324000" y="62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Тема 1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Понятие о финансах и управление им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00400" y="272520"/>
            <a:ext cx="5486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ddea"/>
                </a:solidFill>
                <a:latin typeface="Calibri"/>
              </a:rPr>
              <a:t>Понятие финансов</a:t>
            </a: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 появилось в 13-15 вв. в торговых городах Италии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Позже Ф. стали обозначать отношения между населением и государством 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В процессе первой Буржуазной революции монарх был оттаржен от казны, и возникла система управления притоком денежных средств в казну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66600" y="1768320"/>
            <a:ext cx="2494080" cy="669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Program Files (x86)\Microsoft Office\MEDIA\CAGCAT10\j0234131.wmf"/>
          <p:cNvPicPr/>
          <p:nvPr/>
        </p:nvPicPr>
        <p:blipFill>
          <a:blip r:embed="rId2"/>
          <a:stretch/>
        </p:blipFill>
        <p:spPr>
          <a:xfrm>
            <a:off x="250920" y="24922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1) Финансы существуют между двумя субъектами с разными полномочиями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2) Эти отношения – денежные (материальной основой являются деньги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3) В процессе этих отношений формируются государством денежные фонды и осуществляются расходы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4) Поступление денежных средств в казну является принудительным (Достигалось правовой деятельностью государства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5) Использование ср-в из казны осуществлялось в соответствии с интересами государства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1) денежные отношения, возникающие в процессе распределения и перераспределения стоимости общественного продукта и части национального богатства в связи с формированием денежных  доходов и накоплений у субъектов хозяйствования и государства, а также в связи с использованием их на расширенное воспроизводство, материальное стимулирование работников, социальные и другие потребности общества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2) совокупность всех денежных ср-в, используемых в гос-ве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денежный характер (натуральные отношения НЕ относятся к финансам)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ы связаны с получением доходов и накоплений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распределительный характер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В финансах всегда есть движение денежных средств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403" name="Picture 2" descr="C:\Program Files (x86)\Microsoft Office\MEDIA\CAGCAT10\j0293844.wmf"/>
          <p:cNvPicPr/>
          <p:nvPr/>
        </p:nvPicPr>
        <p:blipFill>
          <a:blip r:embed="rId2"/>
          <a:stretch/>
        </p:blipFill>
        <p:spPr>
          <a:xfrm>
            <a:off x="6948360" y="2781360"/>
            <a:ext cx="17384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1) Распределительная (распределение национального дохода)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2) контрольная — контроль за распределением ВВП по соответствующим фондам и расходованием их по целевому назначению.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3) Стимулирующая - Использование распределенного дохода либо для расширения производства, либо для накоплений и соц. потребностей. 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Рычаги: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Це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Налоги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Экспортные и импортные пошли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4) Воспроизводственн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5) Регулирующ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1:35Z</dcterms:modified>
  <cp:revision>5</cp:revision>
  <dc:subject/>
  <dc:title>Сущность и функции финансов</dc:title>
</cp:coreProperties>
</file>