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0E4F-57D4-4D57-9933-BD71938A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4BE3-28D5-4A50-BA24-A7C1660D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3B4E-20DF-4DA9-B629-16CEBF4A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AC79-A9BB-4E07-A149-50A98E3D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AD48-1BA7-4098-8550-94E165B4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953A-39B0-4AB6-B0D3-CC92FF24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C4FD-6FA6-415B-BA5D-FDD535E7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7E00-0632-4728-A99E-0BB4596F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AD66-DCB4-48E0-8DB0-F307FECB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5918-A664-4D28-8CF9-67028568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FA6B-B8D1-4919-9E86-632722F2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FE95-1813-4962-B6E8-FF639D81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6A95-160C-483C-B58B-AA38C06D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99DA-F531-497B-8FF4-838C7C29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2064-349D-40CB-BF3D-CE663CD5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D62B-3735-413B-B3DA-E404706B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A57A-398F-458C-AF11-AECBBBCF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D27C6-742C-4CD4-9A73-36D44820B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CDDAD-B59F-4207-A50F-BE8417D2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1DF69-62A0-4392-A945-2ABDB074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08845-3F85-41FA-A35F-47562D7D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DBB55-C1E4-45BC-9FED-DDC3FF66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A348-B985-436D-AC2B-B4A2B03D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90792-8013-4762-B8C2-8B97E62F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A68D9-E598-4FD8-A2D5-96216E43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F6D37-11A1-45B1-8A7D-60721DCB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56DF8-3FD6-4584-9689-B035944B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5707B-629C-4BC7-A8DB-13022077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6E482-8BA7-4557-9F4A-1F5A175F9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3AD79-AD20-41E8-8604-6114D147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C452C-A0DF-4212-B6B3-49F7CADC9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727F3-47AA-4B04-B38A-D852E4AE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863B8-6189-41B9-99DD-0E1456BC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773F-EB2A-4919-9CB5-109CE1E2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F92E1-6D93-4ABA-99AB-93E4B26A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8C801-13E7-4427-B1B7-D5036935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E3BEC-C3DB-413A-A58F-5635F4DE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45A15-9404-4EE2-A8B9-54F7D8D6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1DC42-8C8D-45D1-B165-A27E3E7F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B6228-24E6-46A3-9255-1A15B499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7CC12-F98F-4D8F-A488-40938611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8852C-25BB-4BFB-9E14-E1CED31B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37EAD-344B-4D0A-957F-6701B5D0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2C7E9-EE28-4203-BCE6-D750C64E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F5AB-7F96-4555-97E0-D3A6DBF9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BDD3B-D47F-432F-B6B7-098A819F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03D52-1D70-49F3-BA9D-03F6E484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24361-6A47-4231-AA2B-8360AE0B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93AC8-18E9-4FC4-B708-4BB64794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09D55-281A-44DE-A835-7BC37B24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5F78D-3933-4669-87B6-250B1DD3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5768E-86D2-47B9-9671-39816153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330EF-6B7E-4FDF-AB73-4F741BCE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EF6D6-D7C0-4B93-800E-29C22627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593F0-D885-42B7-B1C0-6D1DF723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C16C-F1BA-4A75-A87B-004E26D1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EBC8F-C80D-4EEF-A2A8-9E50E9CD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D588-8018-4405-BF44-EDD1380D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8C03-5CFD-4AF4-BBC4-EFD12C7C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E5C9-E94E-41DA-BDE0-77A560E2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92934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4c5a6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253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53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253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B181-7AA8-43D8-BFBF-1F1572BEF1B9}" type="slidenum">
              <a:rPr b="0" lang="ru-RU" sz="1100" spc="-1" strike="noStrike">
                <a:solidFill>
                  <a:srgbClr val="d2533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92934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4c5a6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5C14-D1EB-43A9-92FA-C01D2E52625E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92934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4c5a6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253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53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253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B7F9-C7A2-44EB-A9B6-DBF7BD825CDA}" type="slidenum">
              <a:rPr b="0" lang="ru-RU" sz="1100" spc="-1" strike="noStrike">
                <a:solidFill>
                  <a:srgbClr val="d2533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f2d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4c5a6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3f2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3f2d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3f2d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F33E-1F4B-48FE-91DD-8ACA6632AE41}" type="slidenum">
              <a:rPr b="0" lang="ru-RU" sz="1100" spc="-1" strike="noStrike">
                <a:solidFill>
                  <a:srgbClr val="f3f2d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92934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4c5a6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253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53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253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FA34-D9B4-45BB-B783-A4FA72207860}" type="slidenum">
              <a:rPr b="0" lang="ru-RU" sz="1100" spc="-1" strike="noStrike">
                <a:solidFill>
                  <a:srgbClr val="d2533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381640" cy="3194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059280" y="3540240"/>
            <a:ext cx="5689440" cy="1473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rebuchet MS"/>
              </a:rPr>
              <a:t>5.1 Сущность страхования. Признаки и функции. Тарифная ставка, отрасли страхования </a:t>
            </a:r>
            <a:endParaRPr b="0" lang="en-US" sz="2100" spc="-1" strike="noStrike">
              <a:solidFill>
                <a:srgbClr val="292934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92934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rebuchet MS"/>
              </a:rPr>
              <a:t>Автор: Клюев С.В.</a:t>
            </a:r>
            <a:endParaRPr b="0" lang="en-US" sz="1300" spc="-1" strike="noStrike">
              <a:solidFill>
                <a:srgbClr val="292934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rebuchet MS"/>
              </a:rPr>
              <a:t>Ярославль 2011</a:t>
            </a:r>
            <a:endParaRPr b="0" lang="en-US" sz="13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Страховая тарифная ставка (Брутто-ставка):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1) Нетто-ставка (идет на все выплаты страховых сумм и возмещений. Для этой цели формируются страховые резервные фонды)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2) Нагрузка (на ведение дела и формирование прибыли страховой компании)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Брутто-ставка = (Нетто – ставка) / (1- d),  где d - удельный вес нагрузки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95280" y="404280"/>
            <a:ext cx="73008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92934"/>
                </a:solidFill>
                <a:uFillTx/>
                <a:latin typeface="Trebuchet MS"/>
              </a:rPr>
              <a:t>Страховая ответственность </a:t>
            </a:r>
            <a:r>
              <a:rPr b="0" lang="ru-RU" sz="2400" spc="-1" strike="noStrike">
                <a:solidFill>
                  <a:srgbClr val="292934"/>
                </a:solidFill>
                <a:latin typeface="Trebuchet MS"/>
              </a:rPr>
              <a:t>- обязанность страховщика выплатить страховое возмещение или страховую сумму в оговариваемых случаях.</a:t>
            </a: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92934"/>
                </a:solidFill>
                <a:uFillTx/>
                <a:latin typeface="Trebuchet MS"/>
              </a:rPr>
              <a:t>Страховой риск -</a:t>
            </a: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rebuchet MS"/>
              </a:rPr>
              <a:t>1) вероятность нанесения ущерба от страхового случая (вычисляется математически и является основой расчета основных тарифных ставок)</a:t>
            </a: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rebuchet MS"/>
              </a:rPr>
              <a:t>2) конкретный объект страхования по страховой сумме и степени вероятности ущерба.</a:t>
            </a: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92934"/>
                </a:solidFill>
                <a:uFillTx/>
                <a:latin typeface="Trebuchet MS"/>
              </a:rPr>
              <a:t>Сострахование </a:t>
            </a:r>
            <a:r>
              <a:rPr b="0" lang="ru-RU" sz="2400" spc="-1" strike="noStrike" u="sng">
                <a:solidFill>
                  <a:srgbClr val="292934"/>
                </a:solidFill>
                <a:uFillTx/>
                <a:latin typeface="Trebuchet MS"/>
              </a:rPr>
              <a:t>- </a:t>
            </a:r>
            <a:r>
              <a:rPr b="0" lang="ru-RU" sz="2400" spc="-1" strike="noStrike">
                <a:solidFill>
                  <a:srgbClr val="292934"/>
                </a:solidFill>
                <a:latin typeface="Trebuchet MS"/>
              </a:rPr>
              <a:t>разделение крупного риска на несколько страховщиков по договору с целью выравнивания страх. рисков.</a:t>
            </a: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92934"/>
                </a:solidFill>
                <a:uFillTx/>
                <a:latin typeface="Trebuchet MS"/>
              </a:rPr>
              <a:t>Перестрахование</a:t>
            </a:r>
            <a:r>
              <a:rPr b="0" lang="ru-RU" sz="2400" spc="-1" strike="noStrike" u="sng">
                <a:solidFill>
                  <a:srgbClr val="292934"/>
                </a:solidFill>
                <a:uFillTx/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Trebuchet MS"/>
              </a:rPr>
              <a:t>- передача части ответственности по взятым рискам другим страховщикам (страхование самого страховщика)</a:t>
            </a: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95120" y="0"/>
            <a:ext cx="7504200" cy="1504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1341000"/>
            <a:ext cx="8137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Централизованное и децентрализованное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Индивидуальное и коллективное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Обязательное и добровольное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Разовое и накопительное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По отраслям: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27275"/>
                </a:solidFill>
                <a:latin typeface="Trebuchet MS"/>
              </a:rPr>
              <a:t>1) </a:t>
            </a:r>
            <a:r>
              <a:rPr b="0" lang="ru-RU" sz="1600" spc="-1" strike="noStrike" u="sng">
                <a:solidFill>
                  <a:srgbClr val="727275"/>
                </a:solidFill>
                <a:uFillTx/>
                <a:latin typeface="Trebuchet MS"/>
              </a:rPr>
              <a:t>Личное</a:t>
            </a:r>
            <a:endParaRPr b="0" lang="en-US" sz="1600" spc="-1" strike="noStrike">
              <a:solidFill>
                <a:srgbClr val="727275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рахование пассажиров от несчастных случаев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рахование военнослужащих за счет ср-в Минобороны и спец. ведомств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рахование работников, связанных с выполнением особо опасных работ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27275"/>
                </a:solidFill>
                <a:latin typeface="Trebuchet MS"/>
              </a:rPr>
              <a:t>2) </a:t>
            </a:r>
            <a:r>
              <a:rPr b="0" lang="ru-RU" sz="1600" spc="-1" strike="noStrike" u="sng">
                <a:solidFill>
                  <a:srgbClr val="727275"/>
                </a:solidFill>
                <a:uFillTx/>
                <a:latin typeface="Trebuchet MS"/>
              </a:rPr>
              <a:t>Имущественное</a:t>
            </a:r>
            <a:endParaRPr b="0" lang="en-US" sz="1600" spc="-1" strike="noStrike">
              <a:solidFill>
                <a:srgbClr val="727275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292934"/>
                </a:solidFill>
                <a:uFillTx/>
                <a:latin typeface="Trebuchet MS"/>
              </a:rPr>
              <a:t>Объекты - </a:t>
            </a: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материальные ценности (здания, сооружения, машины, сырье, материалы, готовая продукция, урожай, животные)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292934"/>
                </a:solidFill>
                <a:uFillTx/>
                <a:latin typeface="Trebuchet MS"/>
              </a:rPr>
              <a:t>Страховые случаи </a:t>
            </a: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ихийные бедствия, воздействия технолог. факторов, пожары, взрывы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225360" y="237960"/>
            <a:ext cx="7473960" cy="15051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27275"/>
                </a:solidFill>
                <a:latin typeface="Trebuchet MS"/>
              </a:rPr>
              <a:t>3) </a:t>
            </a:r>
            <a:r>
              <a:rPr b="0" lang="ru-RU" sz="1600" spc="-1" strike="noStrike" u="sng">
                <a:solidFill>
                  <a:srgbClr val="727275"/>
                </a:solidFill>
                <a:uFillTx/>
                <a:latin typeface="Trebuchet MS"/>
              </a:rPr>
              <a:t>Социальное</a:t>
            </a:r>
            <a:endParaRPr b="0" lang="en-US" sz="1600" spc="-1" strike="noStrike">
              <a:solidFill>
                <a:srgbClr val="727275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защита конституционных прав граждан в случае временной потери или утраты трудоспособности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27275"/>
                </a:solidFill>
                <a:latin typeface="Trebuchet MS"/>
              </a:rPr>
              <a:t>4) </a:t>
            </a:r>
            <a:r>
              <a:rPr b="0" lang="ru-RU" sz="1600" spc="-1" strike="noStrike" u="sng">
                <a:solidFill>
                  <a:srgbClr val="727275"/>
                </a:solidFill>
                <a:uFillTx/>
                <a:latin typeface="Trebuchet MS"/>
              </a:rPr>
              <a:t>Профессиональной ответственности</a:t>
            </a:r>
            <a:endParaRPr b="0" lang="en-US" sz="1600" spc="-1" strike="noStrike">
              <a:solidFill>
                <a:srgbClr val="727275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292934"/>
                </a:solidFill>
                <a:uFillTx/>
                <a:latin typeface="Trebuchet MS"/>
              </a:rPr>
              <a:t>Ответственность - </a:t>
            </a: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обязанность лица, виновного в причинении ущерба, возместить его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292934"/>
                </a:solidFill>
                <a:uFillTx/>
                <a:latin typeface="Trebuchet MS"/>
              </a:rPr>
              <a:t>Объекты - </a:t>
            </a: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адвокаты, врачи, чья деятельность или бездеятельность может принести вред другим гражданам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27275"/>
                </a:solidFill>
                <a:latin typeface="Trebuchet MS"/>
              </a:rPr>
              <a:t>5) </a:t>
            </a:r>
            <a:r>
              <a:rPr b="0" lang="ru-RU" sz="1600" spc="-1" strike="noStrike" u="sng">
                <a:solidFill>
                  <a:srgbClr val="727275"/>
                </a:solidFill>
                <a:uFillTx/>
                <a:latin typeface="Trebuchet MS"/>
              </a:rPr>
              <a:t>Рисков</a:t>
            </a:r>
            <a:endParaRPr b="0" lang="en-US" sz="1600" spc="-1" strike="noStrike">
              <a:solidFill>
                <a:srgbClr val="727275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292934"/>
                </a:solidFill>
                <a:uFillTx/>
                <a:latin typeface="Trebuchet MS"/>
              </a:rPr>
              <a:t>Объект</a:t>
            </a: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 - риск недополучения прибыли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рахование недополучения прибыли в рез-те нарушения технических процессов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морское страхование грузов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рахование банковских кредитов от рисков неплатежа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рахование биржевых операций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5151600" y="1023840"/>
            <a:ext cx="3895560" cy="25113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4" descr=""/>
          <p:cNvPicPr/>
          <p:nvPr/>
        </p:nvPicPr>
        <p:blipFill>
          <a:blip r:embed="rId2"/>
          <a:stretch/>
        </p:blipFill>
        <p:spPr>
          <a:xfrm>
            <a:off x="549360" y="933480"/>
            <a:ext cx="443700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совокупность особых перераспределительных отношений между его участниками в связи с формирование целевого страхового фонда за счет денежных взносов участников и в связи с использованием его для возмещения ущерба субъектам хозяйствования или физического лица при происшедшем событии, который является страховым случаем.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292934"/>
                </a:solidFill>
                <a:latin typeface="Trebuchet MS"/>
              </a:rPr>
              <a:t>1. Перераспределение стоимости общественного продукта</a:t>
            </a:r>
            <a:endParaRPr b="0" lang="en-US" sz="3100" spc="-1" strike="noStrike">
              <a:solidFill>
                <a:srgbClr val="292934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292934"/>
                </a:solidFill>
                <a:latin typeface="Trebuchet MS"/>
              </a:rPr>
              <a:t>2. Перераспределительные отношения, обусловленные вероятностью наступления страхового случая </a:t>
            </a:r>
            <a:endParaRPr b="0" lang="en-US" sz="3100" spc="-1" strike="noStrike">
              <a:solidFill>
                <a:srgbClr val="292934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292934"/>
                </a:solidFill>
                <a:latin typeface="Trebuchet MS"/>
              </a:rPr>
              <a:t>3. Предусматривается распределение ущерба во времени</a:t>
            </a:r>
            <a:endParaRPr b="0" lang="en-US" sz="3100" spc="-1" strike="noStrike">
              <a:solidFill>
                <a:srgbClr val="292934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292934"/>
                </a:solidFill>
                <a:latin typeface="Trebuchet MS"/>
              </a:rPr>
              <a:t>4. Замкнутость раскладки ущерба (покрытие ущерба на одной территории) </a:t>
            </a:r>
            <a:endParaRPr b="0" lang="en-US" sz="3100" spc="-1" strike="noStrike">
              <a:solidFill>
                <a:srgbClr val="292934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226" name="Штриховая стрелка вправо 3">
            <a:hlinkClick r:id="" action="ppaction://hlinkshowjump?jump=nextslide"/>
          </p:cNvPr>
          <p:cNvSpPr/>
          <p:nvPr/>
        </p:nvSpPr>
        <p:spPr>
          <a:xfrm>
            <a:off x="4427640" y="3500280"/>
            <a:ext cx="2952720" cy="720720"/>
          </a:xfrm>
          <a:prstGeom prst="pie">
            <a:avLst/>
          </a:prstGeom>
          <a:solidFill>
            <a:srgbClr val="93a299"/>
          </a:solidFill>
          <a:ln w="399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римеры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27" name="Стрелка вправо 5">
            <a:hlinkClick r:id="rId2" action="ppaction://hlinksldjump"/>
          </p:cNvPr>
          <p:cNvSpPr/>
          <p:nvPr/>
        </p:nvSpPr>
        <p:spPr>
          <a:xfrm>
            <a:off x="4211640" y="5602320"/>
            <a:ext cx="2592360" cy="8366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93a299"/>
          </a:solidFill>
          <a:ln w="399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алее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182520" y="365040"/>
            <a:ext cx="7450200" cy="1944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7286760" cy="302436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3"/>
          <p:cNvSpPr/>
          <p:nvPr/>
        </p:nvSpPr>
        <p:spPr>
          <a:xfrm>
            <a:off x="1056960" y="573264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34"/>
                </a:solidFill>
                <a:latin typeface="Calibri"/>
              </a:rPr>
              <a:t>m - частота наступления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31" name="Стрелка влево 4">
            <a:hlinkClick r:id="" action="ppaction://hlinkshowjump?jump=previousslide"/>
          </p:cNvPr>
          <p:cNvSpPr/>
          <p:nvPr/>
        </p:nvSpPr>
        <p:spPr>
          <a:xfrm>
            <a:off x="4427640" y="5516640"/>
            <a:ext cx="3168720" cy="1225440"/>
          </a:xfrm>
          <a:prstGeom prst="leftArrow">
            <a:avLst>
              <a:gd name="adj1" fmla="val 50000"/>
              <a:gd name="adj2" fmla="val 49956"/>
            </a:avLst>
          </a:prstGeom>
          <a:solidFill>
            <a:srgbClr val="93a299"/>
          </a:solidFill>
          <a:ln w="399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Вернуться к признакам страхования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Trebuchet MS"/>
              </a:rPr>
              <a:t>1. Распределительная</a:t>
            </a:r>
            <a:endParaRPr b="0" lang="en-US" sz="20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Trebuchet MS"/>
              </a:rPr>
              <a:t>- рисковая</a:t>
            </a:r>
            <a:endParaRPr b="0" lang="en-US" sz="20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Trebuchet MS"/>
              </a:rPr>
              <a:t>- сберегательная</a:t>
            </a:r>
            <a:endParaRPr b="0" lang="en-US" sz="20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Trebuchet MS"/>
              </a:rPr>
              <a:t>- предупредительная (связана с использованием части средств страхового фонда на уменьшение степени последствий или на исключение страхового риска)</a:t>
            </a:r>
            <a:endParaRPr b="0" lang="en-US" sz="20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Trebuchet MS"/>
              </a:rPr>
              <a:t>2. Контрольная (выражается в строго целевом формировании и использовании средств страхового фонда)</a:t>
            </a:r>
            <a:endParaRPr b="0" lang="en-US" sz="20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Trebuchet MS"/>
              </a:rPr>
              <a:t>Предупредительные мероприятия:</a:t>
            </a:r>
            <a:endParaRPr b="0" lang="en-US" sz="20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пожарные</a:t>
            </a:r>
            <a:endParaRPr b="0" lang="en-US" sz="1800" spc="-1" strike="noStrike">
              <a:solidFill>
                <a:srgbClr val="727275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по борьбе с болезнями животных</a:t>
            </a:r>
            <a:endParaRPr b="0" lang="en-US" sz="1800" spc="-1" strike="noStrike">
              <a:solidFill>
                <a:srgbClr val="727275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профилактика простудных заболеваний</a:t>
            </a:r>
            <a:endParaRPr b="0" lang="en-US" sz="1800" spc="-1" strike="noStrike">
              <a:solidFill>
                <a:srgbClr val="727275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ДТП</a:t>
            </a:r>
            <a:endParaRPr b="0" lang="en-US" sz="1800" spc="-1" strike="noStrike">
              <a:solidFill>
                <a:srgbClr val="727275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противоселевые и противопаводковые мероприятия</a:t>
            </a:r>
            <a:endParaRPr b="0" lang="en-US" sz="1800" spc="-1" strike="noStrike">
              <a:solidFill>
                <a:srgbClr val="727275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Участники: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1) Страховщики - юридические лица любой организационно-правовой формы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2) Страхователи – юридические и физические лица, имеющие страховой интерес и вступающие в страховые отношения либо в силу закона, либо добровольно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2934"/>
                </a:solidFill>
                <a:latin typeface="Trebuchet MS"/>
              </a:rPr>
              <a:t>1) экономическая потребность в страховании</a:t>
            </a:r>
            <a:endParaRPr b="0" lang="en-US" sz="4000" spc="-1" strike="noStrike">
              <a:solidFill>
                <a:srgbClr val="292934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2934"/>
                </a:solidFill>
                <a:latin typeface="Trebuchet MS"/>
              </a:rPr>
              <a:t>2) величина страховой суммы, в которую оценивается ущерб в связи с возможными потерями</a:t>
            </a:r>
            <a:endParaRPr b="0" lang="en-US" sz="4000" spc="-1" strike="noStrike">
              <a:solidFill>
                <a:srgbClr val="292934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Trebuchet MS"/>
              </a:rPr>
              <a:t>размер денежных средств, на которые фактически застраховано имущество, жизнь, здоровье</a:t>
            </a:r>
            <a:endParaRPr b="0" lang="en-US" sz="2800" spc="-1" strike="noStrike">
              <a:solidFill>
                <a:srgbClr val="292934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Trebuchet MS"/>
              </a:rPr>
              <a:t>По имущественному страхованию страховая сумма не может превышать реальной стоимости имущества. </a:t>
            </a:r>
            <a:endParaRPr b="0" lang="en-US" sz="2800" spc="-1" strike="noStrike">
              <a:solidFill>
                <a:srgbClr val="292934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Trebuchet MS"/>
              </a:rPr>
              <a:t>По личному страхованию - зависит от материальных возможностей страхователя и наличия желания страховаться на ту или иную сумму.</a:t>
            </a:r>
            <a:endParaRPr b="0" lang="en-US" sz="2800" spc="-1" strike="noStrike">
              <a:solidFill>
                <a:srgbClr val="292934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24000" y="333360"/>
            <a:ext cx="737208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34"/>
                </a:solidFill>
                <a:latin typeface="Trebuchet MS"/>
              </a:rPr>
              <a:t>Страховое возмещение </a:t>
            </a:r>
            <a:r>
              <a:rPr b="0" lang="ru-RU" sz="3200" spc="-1" strike="noStrike">
                <a:solidFill>
                  <a:srgbClr val="292934"/>
                </a:solidFill>
                <a:latin typeface="Trebuchet MS"/>
              </a:rPr>
              <a:t>- причитающаяся к выплате страх. сумма страхователю (max возмещение ≤ Σ страхования)</a:t>
            </a:r>
            <a:endParaRPr b="0" lang="en-US" sz="32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34"/>
                </a:solidFill>
                <a:latin typeface="Trebuchet MS"/>
              </a:rPr>
              <a:t>Страховой взнос (платеж, премия) </a:t>
            </a:r>
            <a:r>
              <a:rPr b="0" lang="ru-RU" sz="3200" spc="-1" strike="noStrike">
                <a:solidFill>
                  <a:srgbClr val="292934"/>
                </a:solidFill>
                <a:latin typeface="Trebuchet MS"/>
              </a:rPr>
              <a:t>- плата в рублях с совокупной страховой суммы (может быть разовой и периодической)</a:t>
            </a:r>
            <a:endParaRPr b="0" lang="en-US" sz="32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34"/>
                </a:solidFill>
                <a:latin typeface="Trebuchet MS"/>
              </a:rPr>
              <a:t>Страховая тарифная ставка </a:t>
            </a:r>
            <a:r>
              <a:rPr b="0" lang="ru-RU" sz="3200" spc="-1" strike="noStrike">
                <a:solidFill>
                  <a:srgbClr val="292934"/>
                </a:solidFill>
                <a:latin typeface="Trebuchet MS"/>
              </a:rPr>
              <a:t>- цена страхового риска или плата с единицы страховой суммы</a:t>
            </a:r>
            <a:endParaRPr b="0" lang="en-US" sz="32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11:51:08Z</dcterms:modified>
  <cp:revision>22</cp:revision>
  <dc:subject/>
  <dc:title>Бюджетная система Российской Федерации </dc:title>
</cp:coreProperties>
</file>