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7CD2E-463E-46DA-B5C8-71861C4B2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1720B-7E91-40F3-AD2E-8C0560071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8D1893-56AD-4705-A13B-63824F448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1707CF-A5C0-4E16-B067-CF116F540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AD435B-42B7-4ABE-B394-C20FA68F5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49681A-280A-4638-83D0-913ABD0FF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3B3C04-B030-4C67-A1FA-E34A6E4B0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F5EFD2-5E01-4A2B-9E2D-89DB94851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7D3E8B-C444-45D9-B287-581BC16CE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3EFC41-C4B5-46C3-BADE-2A7015D6A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90DEF2-4131-436B-AD21-DDA48F210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82B78-68D7-4C51-B6FF-E1BA706F0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4A157-4B26-4EDF-A05D-A3C6500C2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9B55B-F9E1-41AC-80F5-938A2FB76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2DF2F-3BF5-4C49-AF6D-BC73D5F52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8205B-7A6C-4B2F-8EFE-7B840BA44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3623E-01AA-41DE-B811-6AC175929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AA064-D033-48FE-80E1-564FD411C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FB135-86E1-49EE-A179-94C01BFD1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0EF46-6AA6-4853-A1E9-7627795E1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6CE15-56C9-49CF-9544-0061659B8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EE3C4-BA42-4A88-BF32-FD893005A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4AA98-4493-485D-AC2B-B6891B450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94636-FA95-498E-81FA-77B758F0A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AC059-45E1-429D-99F8-15F9127FB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518F8-3E44-4A5D-9149-CCF581FCD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7C1734-D457-4305-9753-01FB0D867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5BB500-6E24-48D6-BBBD-E4EECF2FA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C87F94-6351-4FAD-850D-7C624E5EE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7D9CA8-A536-416F-9C99-B11D5A7D5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228455-7079-43E9-ABC5-16035EF3E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A2D54-B855-418E-87C4-88050F612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558E0D-B2A9-4AB7-AB63-24214D973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41C76E-4260-4C47-9D1F-CB2DFDD61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0D5F1A-708D-471B-A70C-78D004815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77EE1E-D8F6-4FA4-A584-B4161E924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9889A7-3C7C-48C9-9FF9-842B51625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D71D0E-2B3C-48B4-9843-14DD00812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C9EC72-50E1-4D86-B082-370DA5F90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22BE18-96AF-4293-A5B7-772D3C5BA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BA854C-4CA9-4D77-B523-72F3E6A73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5DB755-876B-4874-9EAB-A1EE5DE7B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D396B-C36E-4F79-AB06-26DF27BD3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3D81AE-2475-4847-87E9-DA64137FF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F838FD-78BC-4BBA-B0C9-8C6194780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924830-8008-4CBE-82FB-FC7097F25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727813-50FE-4461-BC93-8B02957BB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0F229B-B3BE-47B9-AA63-7B9F15C6C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D4ED17-DA50-45CD-9D7D-802B147C2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52F9D9-FB07-4448-8EED-DF5C75838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FF7CA7-688E-4B9E-A319-AF48DB3D1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BD4BB6-1B28-4096-B416-F8B559103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D1F51F-CAA5-4A83-B537-A0D2976D8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C2897-61A6-4677-B0C3-09AD03AB0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804EE2-F949-4133-8ADB-5620057B9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5B6B81-5F5C-4877-B84C-FFF63A4B9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7457D0-D50D-44C8-8F71-8A4E0D3F9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F1A1F8-B271-4392-B8A1-0D74A5361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A8E052-6A89-4023-957F-D1433386D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385B6E-81F5-4D25-92A2-761101181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CFFC4A-E986-4C94-8049-567721150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8EF381-A982-4537-AA9A-62699CF33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22AF08-D0A7-445E-A516-D8E4A18AC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0A5B9D-DCF9-4B59-9CE4-99C5004C2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208AF-EB7D-46AB-B90B-47A87B859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7C635F-2AA2-4D6E-996E-0D09774DC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78B80E-40E0-491C-B8E9-D86EED17F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CB87F5-4F1B-4CE8-96F2-B2CB04111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260842-1137-4289-AECC-2B4561D09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976E86-A529-49A2-9B26-2C2806B2A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36174A-8A9F-4626-B6FB-956A5724C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A5B6CE-E050-43A2-A60C-D0AC2809F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EEF41D-6B9E-4029-A3D5-C42CE2177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CDE0E2-8AF9-4F0D-B530-C6ABA7388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FE66F1-2FB4-4DC0-BFC7-0C5B08187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0FE6D-7742-41D3-835A-0DD45B553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D27CB5-1669-42D3-9264-1918AB7DE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44EF26-DE81-4C29-9C2C-B3DA50818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C128B6-BC77-477B-904D-2A42D988A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0573B1-C335-4F17-B3ED-3C1FE1FDA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1D232C-6F1E-4B59-A3D3-82F59B22C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8842E1-7F41-4FF7-9A13-832FFEE7F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B1C784-6B75-4A8A-95D8-13535FA88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60B718-8F17-4A37-9D16-85DB578FA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BD3322-0F0E-4F81-8ACC-E9E30632D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FE2FF9-0CD3-48EB-A07E-A1594B1D8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DB074-5FE4-40DD-AEC3-93CD5DA60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61D585-9E2E-4E3F-BA2D-F1921476B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B6D9F3-BC42-444A-80BC-9D5DE7AEF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91F6A1-F8A3-4831-B76C-A5AFAE9C6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73E4AA-0FF9-4F62-9179-45A58CCD7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104881-EFEE-496A-8244-CDCA331F3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93D0EE-3BCF-4B9C-8734-562F0FA55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69F8CC-623C-4EEB-94ED-F6FBEA192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F2A401-8497-4808-91C4-357CD0211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A073CD-40D8-4137-AECA-BBBDE685A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7E5C2C-AFF4-4AA9-AC2E-F805D4839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9D931-F972-4A29-A2C0-60C81F6E2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15D50D-69A7-46B2-A16D-BA4F28799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2CC935-C056-406C-8286-85C9CB031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AE0324-5F0F-464F-BF27-296FD7242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50B080-849F-47E2-90F4-77B510811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832CAA-1227-4007-AF6C-2DAD21B35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49F013-7799-492B-ACA7-88059B7D1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9155CA-2B93-412C-8185-471B32724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BB76C8-40EB-4A90-861D-9075573BF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317ABC-284C-4F9E-AA5C-757B4DEDD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233B5F-3594-46D6-AC1C-2BA8EECBA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6652A-10F8-4764-BE8A-D5CF926B0F6C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12640" y="5346720"/>
            <a:ext cx="8631360" cy="11160"/>
            <a:chOff x="512640" y="5346720"/>
            <a:chExt cx="8631360" cy="111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534672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2B245-781E-4E78-93A6-C83C2AB46F47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0BB98-7968-4579-BA15-C12BA63468F3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12640" y="3438360"/>
            <a:ext cx="8631360" cy="11160"/>
            <a:chOff x="512640" y="3438360"/>
            <a:chExt cx="8631360" cy="111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34383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70EBD-7375-4AF0-A746-79925AAEC65E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12640" y="6016680"/>
            <a:ext cx="8631360" cy="12600"/>
            <a:chOff x="512640" y="6016680"/>
            <a:chExt cx="8631360" cy="1260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60166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4266E-C314-4E8A-992B-65BBBE5FEBC0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5CCC8-D3F1-45D0-A190-D2E61A35D1F6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12640" y="5846760"/>
            <a:ext cx="8631360" cy="11160"/>
            <a:chOff x="512640" y="5846760"/>
            <a:chExt cx="8631360" cy="1116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58467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BEC7B-5C72-4A01-B047-D3AA865A0741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748A3-DDB5-4122-9A43-A82D430AE27C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F6754-D050-4254-AD41-27E6D9F888B9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Заголовок 1" descr=""/>
          <p:cNvPicPr/>
          <p:nvPr/>
        </p:nvPicPr>
        <p:blipFill>
          <a:blip r:embed="rId1"/>
          <a:stretch/>
        </p:blipFill>
        <p:spPr>
          <a:xfrm>
            <a:off x="384120" y="450720"/>
            <a:ext cx="8435880" cy="2328840"/>
          </a:xfrm>
          <a:prstGeom prst="rect">
            <a:avLst/>
          </a:prstGeom>
          <a:ln w="0">
            <a:noFill/>
          </a:ln>
        </p:spPr>
      </p:pic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324000" y="2276640"/>
            <a:ext cx="8586720" cy="30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443329"/>
                </a:solidFill>
                <a:latin typeface="Franklin Gothic Book"/>
              </a:rPr>
              <a:t>6.1 Сущность, функции и особенности кредита. Виды кредитов. Денежно-кредитная политика государства </a:t>
            </a:r>
            <a:endParaRPr b="0" lang="en-US" sz="3300" spc="-1" strike="noStrike">
              <a:solidFill>
                <a:srgbClr val="4e3b30"/>
              </a:solidFill>
              <a:latin typeface="Franklin Gothic Book"/>
            </a:endParaRPr>
          </a:p>
          <a:p>
            <a:pPr algn="ctr"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e3b30"/>
              </a:solidFill>
              <a:latin typeface="Franklin Gothic Book"/>
            </a:endParaRPr>
          </a:p>
          <a:p>
            <a:pPr algn="ctr"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443329"/>
                </a:solidFill>
                <a:latin typeface="Franklin Gothic Book"/>
              </a:rPr>
              <a:t>Автор: Клюев С.В.</a:t>
            </a:r>
            <a:endParaRPr b="0" lang="en-US" sz="3300" spc="-1" strike="noStrike">
              <a:solidFill>
                <a:srgbClr val="4e3b30"/>
              </a:solidFill>
              <a:latin typeface="Franklin Gothic Book"/>
            </a:endParaRPr>
          </a:p>
          <a:p>
            <a:pPr algn="ctr"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443329"/>
                </a:solidFill>
                <a:latin typeface="Franklin Gothic Book"/>
              </a:rPr>
              <a:t>Ярославль 2011</a:t>
            </a:r>
            <a:endParaRPr b="0" lang="en-US" sz="33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Заголовок 1" descr=""/>
          <p:cNvPicPr/>
          <p:nvPr/>
        </p:nvPicPr>
        <p:blipFill>
          <a:blip r:embed="rId1"/>
          <a:stretch/>
        </p:blipFill>
        <p:spPr>
          <a:xfrm>
            <a:off x="146160" y="23760"/>
            <a:ext cx="8845560" cy="1360440"/>
          </a:xfrm>
          <a:prstGeom prst="rect">
            <a:avLst/>
          </a:prstGeom>
          <a:ln w="0">
            <a:noFill/>
          </a:ln>
        </p:spPr>
      </p:pic>
      <p:sp>
        <p:nvSpPr>
          <p:cNvPr id="418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Проводится ЦБ РФ от лица государства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Денежно-кредитная политика - 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совокупность мер эконом. регулирования, денежного обращения и кредита путем воздействия на инвестиционную активность, на уровень и динамику инфляции и другие процессы макроэкономики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Заголовок 1" descr=""/>
          <p:cNvPicPr/>
          <p:nvPr/>
        </p:nvPicPr>
        <p:blipFill>
          <a:blip r:embed="rId1"/>
          <a:stretch/>
        </p:blipFill>
        <p:spPr>
          <a:xfrm>
            <a:off x="146160" y="268200"/>
            <a:ext cx="8845560" cy="1030320"/>
          </a:xfrm>
          <a:prstGeom prst="rect">
            <a:avLst/>
          </a:prstGeom>
          <a:ln w="0">
            <a:noFill/>
          </a:ln>
        </p:spPr>
      </p:pic>
      <p:sp>
        <p:nvSpPr>
          <p:cNvPr id="420" name=""/>
          <p:cNvSpPr txBox="1"/>
          <p:nvPr/>
        </p:nvSpPr>
        <p:spPr>
          <a:xfrm>
            <a:off x="304920" y="1196640"/>
            <a:ext cx="868680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e3b30"/>
                </a:solidFill>
                <a:latin typeface="Franklin Gothic Book"/>
              </a:rPr>
              <a:t>1. </a:t>
            </a: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процентные ставки по операциям ЦБ (Банк России может устанавливать одну или несколько ставок по операциям, может проводить политику без фиксации ставок)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e3b30"/>
                </a:solidFill>
                <a:latin typeface="Franklin Gothic Book"/>
              </a:rPr>
              <a:t>2. </a:t>
            </a: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Нормативы обязательных резервов, депонируемых в Банке России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(размер обязательных резервов устанавливается советом директоров. Нормативы  ≤ 20% и не могут быть одновременно изменены более, чем на 5 пунктов)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e3b30"/>
                </a:solidFill>
                <a:latin typeface="Franklin Gothic Book"/>
              </a:rPr>
              <a:t>3. </a:t>
            </a: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Операции на открытом рынке (купля-продажа Банком России за свой счет ц/б у КБ следовательно увеличение или уменьшение свободных денежных средств у КБ. Лимит операций утверждается советом директоров)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e3b30"/>
                </a:solidFill>
                <a:latin typeface="Franklin Gothic Book"/>
              </a:rPr>
              <a:t>4. </a:t>
            </a: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Рефинансирование банков (кредитование ЦБ коммерческих банков, в том числе учет/переучет векселей. Нижняя граница кредитов -12%)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e3b30"/>
                </a:solidFill>
                <a:latin typeface="Franklin Gothic Book"/>
              </a:rPr>
              <a:t>5. </a:t>
            </a: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Валютное регулирование (валютное регулирование - купля-продажа Банком России иностранной валюты с целью воздействия на курс рубля, т.е. валютной интервенцией)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e3b30"/>
                </a:solidFill>
                <a:latin typeface="Franklin Gothic Book"/>
              </a:rPr>
              <a:t>6. </a:t>
            </a: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Установление ориентиров роста Д. массы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e3b30"/>
                </a:solidFill>
                <a:latin typeface="Franklin Gothic Book"/>
              </a:rPr>
              <a:t>7. </a:t>
            </a: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Прямые количественные ограничения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(ограничение объемов предоставляемых кредитов и т.д.)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e3b30"/>
                </a:solidFill>
                <a:latin typeface="Franklin Gothic Book"/>
              </a:rPr>
              <a:t>8. </a:t>
            </a: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Выпуск облигаций от своего имени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Заголовок 2" descr=""/>
          <p:cNvPicPr/>
          <p:nvPr/>
        </p:nvPicPr>
        <p:blipFill>
          <a:blip r:embed="rId1"/>
          <a:stretch/>
        </p:blipFill>
        <p:spPr>
          <a:xfrm>
            <a:off x="182520" y="2852640"/>
            <a:ext cx="8875800" cy="12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Заголовок 1" descr=""/>
          <p:cNvPicPr/>
          <p:nvPr/>
        </p:nvPicPr>
        <p:blipFill>
          <a:blip r:embed="rId1"/>
          <a:stretch/>
        </p:blipFill>
        <p:spPr>
          <a:xfrm>
            <a:off x="109440" y="457200"/>
            <a:ext cx="8882280" cy="1000080"/>
          </a:xfrm>
          <a:prstGeom prst="rect">
            <a:avLst/>
          </a:prstGeom>
          <a:ln w="0">
            <a:noFill/>
          </a:ln>
        </p:spPr>
      </p:pic>
      <p:sp>
        <p:nvSpPr>
          <p:cNvPr id="402" name="Прямоугольник 2"/>
          <p:cNvSpPr/>
          <p:nvPr/>
        </p:nvSpPr>
        <p:spPr>
          <a:xfrm>
            <a:off x="539640" y="1628640"/>
            <a:ext cx="8136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эконом. отношения между кредиторами и заемщиками, которые заключаются в передаче ссуженной стоимости для использования на условиях возвратности, срочности, платности и в интересах общественных потребностей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Кредит возникает из-за несоответствия потребностей в деньгах и их наличии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Заголовок 1" descr=""/>
          <p:cNvPicPr/>
          <p:nvPr/>
        </p:nvPicPr>
        <p:blipFill>
          <a:blip r:embed="rId1"/>
          <a:stretch/>
        </p:blipFill>
        <p:spPr>
          <a:xfrm>
            <a:off x="92160" y="457200"/>
            <a:ext cx="8899560" cy="1170000"/>
          </a:xfrm>
          <a:prstGeom prst="rect">
            <a:avLst/>
          </a:prstGeom>
          <a:ln w="0">
            <a:noFill/>
          </a:ln>
        </p:spPr>
      </p:pic>
      <p:sp>
        <p:nvSpPr>
          <p:cNvPr id="404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01680" indent="-301680">
              <a:spcBef>
                <a:spcPts val="10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e3b30"/>
                </a:solidFill>
                <a:latin typeface="Franklin Gothic Book"/>
              </a:rPr>
              <a:t>1. Кредиторы и заемщики должны быть самостоятельными субъектами, которые гарантируют выполнение обязательств</a:t>
            </a: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  <a:p>
            <a:pPr marL="301680" indent="-301680">
              <a:spcBef>
                <a:spcPts val="10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e3b30"/>
                </a:solidFill>
                <a:latin typeface="Franklin Gothic Book"/>
              </a:rPr>
              <a:t>2. Интересы кредиторов и заемщиков должны удовлетворяться</a:t>
            </a: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  <a:p>
            <a:pPr marL="301680" indent="-301680">
              <a:spcBef>
                <a:spcPts val="10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Заголовок 1" descr=""/>
          <p:cNvPicPr/>
          <p:nvPr/>
        </p:nvPicPr>
        <p:blipFill>
          <a:blip r:embed="rId1"/>
          <a:stretch/>
        </p:blipFill>
        <p:spPr>
          <a:xfrm>
            <a:off x="109440" y="457200"/>
            <a:ext cx="8882280" cy="1000080"/>
          </a:xfrm>
          <a:prstGeom prst="rect">
            <a:avLst/>
          </a:prstGeom>
          <a:ln w="0">
            <a:noFill/>
          </a:ln>
        </p:spPr>
      </p:pic>
      <p:sp>
        <p:nvSpPr>
          <p:cNvPr id="406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1. 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Перераспределительная (перераспределяется стоимость общественного продукта. Перераспределение временное, и оно охватывает только временно свободные денежные средства)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2. 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Замена действительных денег кредитными деньгами (в оборот входит ссуженная стоимость и выполняет работу, свойственную обычным деньгам)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Заголовок 1" descr=""/>
          <p:cNvPicPr/>
          <p:nvPr/>
        </p:nvPicPr>
        <p:blipFill>
          <a:blip r:embed="rId1"/>
          <a:stretch/>
        </p:blipFill>
        <p:spPr>
          <a:xfrm>
            <a:off x="109440" y="457200"/>
            <a:ext cx="8882280" cy="100008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 txBox="1"/>
          <p:nvPr/>
        </p:nvSpPr>
        <p:spPr>
          <a:xfrm>
            <a:off x="304920" y="1197000"/>
            <a:ext cx="86868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e3b30"/>
                </a:solidFill>
                <a:latin typeface="Franklin Gothic Book"/>
              </a:rPr>
              <a:t>1. </a:t>
            </a: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В зависимости от формы ссуженной ст-ти: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- товарная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- денежная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- смешанная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e3b30"/>
                </a:solidFill>
                <a:latin typeface="Franklin Gothic Book"/>
              </a:rPr>
              <a:t>2. </a:t>
            </a: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В зависимости от того, кто участник: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- банковский кредит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- коммерческий (Предприятие №1 → Предприятие №2)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- государственный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- международный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- гражданский (частный)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e3b30"/>
                </a:solidFill>
                <a:latin typeface="Franklin Gothic Book"/>
              </a:rPr>
              <a:t>3. </a:t>
            </a: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В зависимости от цели кредитования: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- производственная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- потребительская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e3b30"/>
                </a:solidFill>
                <a:latin typeface="Franklin Gothic Book"/>
              </a:rPr>
              <a:t>4. </a:t>
            </a: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Другие: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- прямая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- косвенная (с промежуточными звеньями)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- явная/скрытая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- новая/старая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- развитая/неразвитая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Заголовок 1" descr=""/>
          <p:cNvPicPr/>
          <p:nvPr/>
        </p:nvPicPr>
        <p:blipFill>
          <a:blip r:embed="rId1"/>
          <a:stretch/>
        </p:blipFill>
        <p:spPr>
          <a:xfrm>
            <a:off x="109440" y="457200"/>
            <a:ext cx="8882280" cy="10000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1. 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По отрасли: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- торговый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- промышленный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- с/х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2. 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По срочности: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- краткосрочный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- среднесрочный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- долгосрочный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Заголовок 1" descr=""/>
          <p:cNvPicPr/>
          <p:nvPr/>
        </p:nvPicPr>
        <p:blipFill>
          <a:blip r:embed="rId1"/>
          <a:stretch/>
        </p:blipFill>
        <p:spPr>
          <a:xfrm>
            <a:off x="109440" y="457200"/>
            <a:ext cx="8882280" cy="1000080"/>
          </a:xfrm>
          <a:prstGeom prst="rect">
            <a:avLst/>
          </a:prstGeom>
          <a:ln w="0">
            <a:noFill/>
          </a:ln>
        </p:spPr>
      </p:pic>
      <p:sp>
        <p:nvSpPr>
          <p:cNvPr id="412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1) возвратность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2) срочность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3) платность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4) обеспеченность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5) целевой характер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Заголовок 1" descr=""/>
          <p:cNvPicPr/>
          <p:nvPr/>
        </p:nvPicPr>
        <p:blipFill>
          <a:blip r:embed="rId1"/>
          <a:stretch/>
        </p:blipFill>
        <p:spPr>
          <a:xfrm>
            <a:off x="146160" y="23760"/>
            <a:ext cx="8845560" cy="1360440"/>
          </a:xfrm>
          <a:prstGeom prst="rect">
            <a:avLst/>
          </a:prstGeom>
          <a:ln w="0">
            <a:noFill/>
          </a:ln>
        </p:spPr>
      </p:pic>
      <p:sp>
        <p:nvSpPr>
          <p:cNvPr id="414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ставка рефинансирования ЦБ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средняя ставка по межбанковским кредитам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спрос на кредит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степень риска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уровень инфляции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срок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другие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Заголовок 1" descr=""/>
          <p:cNvPicPr/>
          <p:nvPr/>
        </p:nvPicPr>
        <p:blipFill>
          <a:blip r:embed="rId1"/>
          <a:stretch/>
        </p:blipFill>
        <p:spPr>
          <a:xfrm>
            <a:off x="146160" y="-219240"/>
            <a:ext cx="8845560" cy="1846440"/>
          </a:xfrm>
          <a:prstGeom prst="rect">
            <a:avLst/>
          </a:prstGeom>
          <a:ln w="0">
            <a:noFill/>
          </a:ln>
        </p:spPr>
      </p:pic>
      <p:sp>
        <p:nvSpPr>
          <p:cNvPr id="416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1. 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Обеспеченная непрерывность производства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2. 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Использование на расширение производства (Необоснованные кредиты - негативное влияние)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Влияние кредита на денежную сферу: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поступление и изъятие денег - через банки на кредитной основе (денежная масса увеличивается или уменьшается)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2T17:57:21Z</dcterms:created>
  <dc:creator>Александр</dc:creator>
  <dc:description/>
  <dc:language>en-US</dc:language>
  <cp:lastModifiedBy>Александр</cp:lastModifiedBy>
  <dcterms:modified xsi:type="dcterms:W3CDTF">2011-03-24T12:07:17Z</dcterms:modified>
  <cp:revision>24</cp:revision>
  <dc:subject/>
  <dc:title>Бюджетная система Российской Федерации </dc:title>
</cp:coreProperties>
</file>