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F6F-37B9-434F-B4E7-F97D60FCF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E33-BF02-4BFE-BA48-F30644292C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8597-6D41-4A53-90FA-BA7DE53544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243D-4586-4958-9293-7C0FC41FBE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D7C-E2FC-4D97-92E7-097B2AFC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0EB-9D51-43BB-B3D3-826DF71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C79-4ED5-47B7-9EB8-EB7565D5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379-F83F-4CD7-8DD8-6D8F12C7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BDC0-EB73-4117-9BDC-B1F7EB14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659-2BB9-4B45-9752-DAB565D2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545D-C3CE-4932-BDA0-FD82E1C3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357-A0DB-4662-ADCB-0F25CF13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8FA9-0CBB-45DB-AB73-CF00E1DE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891B-49B3-4C92-A1CC-A2787A3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2B4C-C974-4ED7-815B-E37F1F84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542-6718-426F-A3FC-379E23AC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5DB9-7435-4BCE-80F0-62F4DE9C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7007-2173-4BBE-B790-2372CEF6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D864-12CC-4624-93AC-8CC20FCF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9B2-A64B-4842-AFE9-55F3B1D1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D0B7-5121-4D47-A5E7-7D8FCB3E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8E9A-E3C2-4C4B-B202-AB3E1084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F5E2-C2FF-47C0-A9A7-57B7B1CC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DEA8-6A03-467E-94A8-9FD76F02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A0BA-D5A6-4EA3-9676-0B06ACD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7080-5E03-482F-9C05-75EC0BCE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A0E-BB20-4989-8665-D7E502F6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7912-633F-4639-B0DD-FD723E3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772E-0DDC-4332-B736-BDC44AB9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09CD-938D-4FD2-8451-E49926D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AB90-FE16-44A6-A765-A40CB2E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7C99-796C-4584-98CB-83B5F16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DB15-AF84-400F-B5D3-F0A495D2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7D87-88B4-4EF1-8F51-98054CE5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7EF4-7184-4EEA-85EF-C5E9199B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1336-0162-410D-B353-0F5D4C8A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A000-4772-4092-AB60-BF2652D4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BEE-7324-457E-8276-EF99092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F6844-09AF-4427-9F39-94BC6E95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8568-437F-4778-9D5E-4D47B64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70E9-10A9-4965-BC86-2060EF04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A0D5-AD1C-40E2-86DE-B1EC7C9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1043-190F-43CD-8418-3C78EDDE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73A8-C6F0-4282-B7B2-A8A26C3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9910-F9E5-4361-849C-C014FE78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97B9-79B3-4417-B32C-745971C7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33FC-CDA7-4A65-9B8F-405AB7C9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42CE-CBF8-40C5-A215-E1B5CDF9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96F-9C3C-4904-A514-745BDE82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8F7F1-BAAA-4F93-B608-0CADC865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5B9A-F204-471B-862E-FD05EC01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5E07-8A67-4E52-95B5-E597C25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A4FC-8BEB-4C45-B5E2-0671B85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EDA4-5978-41EC-B848-1EE76F5F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5D7C-9796-4103-BFDF-03F5633D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DCCD0-E233-4DAE-BF53-BFB2FDA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944CA-1DC3-41D6-BEDC-3BA91838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A047B-C28F-41EE-A676-78EED8FF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8CE4-B4D4-436C-9BFB-36682298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26E-E5F0-41C7-ADC7-39EAC8B0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F3AEB-4470-4424-A83E-9CA3BC2F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7D2A-034C-4EC3-B7F1-F5EFE295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F22F8-03DD-4F88-ABB8-17A5255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B5D9A-732F-4889-9B99-EE4CCC30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C5FF-9C1C-4B63-A689-5F1D4DEC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8D764-9432-41EC-AA53-BA198065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17EED-FDBF-4592-8649-888AE5A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BBE0-D3E8-415C-B4A1-45C41BF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0F74-1855-4D10-9F8D-10B31E5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C0948-3D23-40E7-8B49-A9F15724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74C-5902-47B7-9B0F-E3064DD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FFC0E-4C19-4AA9-8AB2-F5B444F1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3D519-8DB9-4DE6-ADA5-5EA53940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475FF-53C5-445E-AAAF-143B8A4A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8FAA1-8187-4561-A7D2-C866F528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5D801-3A83-4724-998C-670DF9B5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8D15-5EB2-4E9E-9F4C-B6802CA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DBD3B-2FD4-4025-A243-CB311552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BD485-8833-433A-94EA-C388391F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6826-E8D2-4162-8409-A45FB22C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D5FC-BA01-46E0-8CEB-8CBC905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5F5-F92B-4D15-A200-B646D20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7C1DA-F25C-41A8-BCCD-A1F6AB53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B4602-76D0-4030-88E7-5253BD1C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4F23-B660-4839-911B-7C8821D1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CA056-3FDB-4FA2-A4F7-A4615829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0967-2D88-4CC6-A9A7-2D9056AC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D20-45D2-463A-BEA2-2B95C84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7F6F-C659-445E-9553-7B7915D2B88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EC5-85D1-4042-894F-BDFE4D601C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F5C-AD57-48F2-AF22-A74B9964F2B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7B84-4C9D-4F11-A659-E873EF3C3D4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720-2D39-4778-9712-F691E64023FD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3311-EB90-493A-9845-F350529562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226-DB33-4C23-85D7-F72679A4AC11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96D-C2E6-4076-835D-F5854F787FF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F318-BBF6-456A-A5B1-1DCED0DB9596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E0F-21B0-4309-BED9-1595D8DDE1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E666-D1EB-48A6-8589-3CB23C9B4B51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81F-8CCC-42DB-A875-27CE922995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A39E-ED5F-45E8-AC21-6DBA8BF8CCDD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553F-0413-4FA9-B343-6BA9DE42F1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правление персоналом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Основание для различия  и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анализа кадровых политик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знанность и 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есткость или либерализ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рован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ядочность (честность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вторична по отношению к более «высоким» политикам (маркетинговой, инвестиционной), но одновременно она нужна, чтобы принимать на ее основе конкретные решения по персона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Тема 3. Подбор персонала и профориентация новых работников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отребности в персонал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ь должности, компетенций и требования к оценке кандидатов и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 и методы отбора и оцен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723600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Планирование потребностей в персонал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4000" y="1197000"/>
            <a:ext cx="259236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-планы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635280" y="1197000"/>
            <a:ext cx="360072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нформация о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250920" y="1989000"/>
            <a:ext cx="3168720" cy="935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варительный количеств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качественный расчет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635280" y="2060640"/>
            <a:ext cx="446580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ализ количествен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чественного налич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 на временный горизо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5280" y="3213000"/>
            <a:ext cx="835344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требности в персонале путем сравнен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фактически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24000" y="4005360"/>
            <a:ext cx="856908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мероприятий по достижению или поддерж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личественного и качественного соответств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реальны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24000" y="5013360"/>
            <a:ext cx="2808000" cy="1511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технологическ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изменение струк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и тру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с-процес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3203640" y="5013360"/>
            <a:ext cx="2735280" cy="1440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роприятия по покры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ривлеч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распреде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свобожд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персона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6012000" y="5013360"/>
            <a:ext cx="2808000" cy="136836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ч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углубление специ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лучшение социального паке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169236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55087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169236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558000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169236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421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7308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Профиль должност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179280" y="2060640"/>
            <a:ext cx="2087640" cy="1081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"/>
          <p:cNvSpPr/>
          <p:nvPr/>
        </p:nvSpPr>
        <p:spPr>
          <a:xfrm>
            <a:off x="1619280" y="2924280"/>
            <a:ext cx="2663640" cy="10825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выки и 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"/>
          <p:cNvSpPr/>
          <p:nvPr/>
        </p:nvSpPr>
        <p:spPr>
          <a:xfrm>
            <a:off x="3059280" y="3860640"/>
            <a:ext cx="2879640" cy="1297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ели и н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4859280" y="5300640"/>
            <a:ext cx="3384720" cy="122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ности и мо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6588000" y="2781360"/>
            <a:ext cx="505080" cy="2519280"/>
          </a:xfrm>
          <a:prstGeom prst="upArrow">
            <a:avLst>
              <a:gd name="adj1" fmla="val 50000"/>
              <a:gd name="adj2" fmla="val 12469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219640" y="1628640"/>
            <a:ext cx="3673440" cy="115272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ирайте среди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ищет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ижний колонтитул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6358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офиль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описание  (набор)  основных компетенций, опыта, а также анкетных данных, необходимых для выполнения данной работы в дан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ования к профилю должн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конкрети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иоритет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пределение компетен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ивидуально-личностные характеристики (например, стрессоустойчивость, склонность к командной работе, креативность и т.д.)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выки (например, умение вести переговоры или составлять бизнес-план)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и поведения, которые характеризуют челове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Профиль компетенц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описание компетенций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ыта и анкетных данных, необходим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ля выполнения конкретной работы, 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крет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и составлении профиля важно учесть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корпоративной культуры (команды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выполняемой работы и среды в которой она выполняетс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бщие правила составления профиля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быть сформулирована предельно конкретн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профиле должны быть четко расставлены приоритеты ( например, что важнее навыки/опыт или индивидуально-личностные качества работника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иметь свой «измеритель» (методику оценки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Корпоративные ценности и приоритеты как основа базовых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могут быть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ы приоритетов при принятии решения (например всегда приоритетно стремление к разрешению конфликта нежели к его избеганию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мотивации (например ориентация 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андную работу и коллектив или, наоборот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почтительно стремление к  самостоятельн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е; стабильность  или изменчивость среды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жидания по стилю руководства и уровню напряженности (стресс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, лояльность и т.п</a:t>
            </a:r>
            <a:r>
              <a:rPr b="0" lang="ru-RU" sz="3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464"/>
                </a:solidFill>
                <a:latin typeface="Calibri"/>
              </a:rPr>
              <a:t>Профиль компетенций специалиста по продукции медицинского назначения</a:t>
            </a:r>
            <a:endParaRPr b="0" lang="en-US" sz="3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542880"/>
                <a:gridCol w="4429080"/>
                <a:gridCol w="325764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сходные д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мпет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естность и лояльность, в том числе честность по отношению к клиен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клонность к работе в демократическом стиле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юди представляют собой важную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тановка компании на рост и развитие сотрудника, а так же сложная продукция и большой объем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орошая обуч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1. Система у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человеческими ресурсам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ная 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ы управления человеческими ресурсами – обеспечение качественного и рационального формирования, освоения и развития человеческих ресурсов  для достижения экономической эффективности и конкурентоспособности организ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человеческими ресурсами в организациях осуществляется в процессе выполнения определенных целенаправленных действий (функций управления), которые взаимосвязаны между собой и образуют подструктуру системы управле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Формы и методы привлечения, профессионального отбора </a:t>
            </a: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и найма персонала.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5" name="Содержимое 3" descr=""/>
          <p:cNvPicPr/>
          <p:nvPr/>
        </p:nvPicPr>
        <p:blipFill>
          <a:blip r:embed="rId1"/>
          <a:stretch/>
        </p:blipFill>
        <p:spPr>
          <a:xfrm>
            <a:off x="384120" y="1444680"/>
            <a:ext cx="8315280" cy="4584600"/>
          </a:xfrm>
          <a:prstGeom prst="rect">
            <a:avLst/>
          </a:prstGeom>
          <a:ln w="0">
            <a:noFill/>
          </a:ln>
        </p:spPr>
      </p:pic>
      <p:sp>
        <p:nvSpPr>
          <p:cNvPr id="416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28972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Внутренние источники подбора персонал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8" name="Рисунок 4" descr="Рисунок1.png"/>
          <p:cNvPicPr/>
          <p:nvPr/>
        </p:nvPicPr>
        <p:blipFill>
          <a:blip r:embed="rId1"/>
          <a:stretch/>
        </p:blipFill>
        <p:spPr>
          <a:xfrm>
            <a:off x="1403280" y="981000"/>
            <a:ext cx="6426360" cy="4797360"/>
          </a:xfrm>
          <a:prstGeom prst="rect">
            <a:avLst/>
          </a:prstGeom>
          <a:ln w="0">
            <a:noFill/>
          </a:ln>
        </p:spPr>
      </p:pic>
      <p:sp>
        <p:nvSpPr>
          <p:cNvPr id="41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983280" cy="64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ешние источники подбора персонал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21" name="Рисунок 6" descr="Рисунок2.pn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8080" y="947880"/>
            <a:ext cx="8727840" cy="4962240"/>
          </a:xfrm>
          <a:prstGeom prst="rect">
            <a:avLst/>
          </a:prstGeom>
          <a:ln w="0">
            <a:noFill/>
          </a:ln>
        </p:spPr>
      </p:pic>
      <p:sp>
        <p:nvSpPr>
          <p:cNvPr id="42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равнение внешних и внутренних источников подбор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8360" y="1484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684360" y="1268280"/>
            <a:ext cx="8135280" cy="5113440"/>
            <a:chOff x="684360" y="1268280"/>
            <a:chExt cx="8135280" cy="5113440"/>
          </a:xfrm>
        </p:grpSpPr>
        <p:sp>
          <p:nvSpPr>
            <p:cNvPr id="426" name="AutoShape 5"/>
            <p:cNvSpPr/>
            <p:nvPr/>
          </p:nvSpPr>
          <p:spPr>
            <a:xfrm>
              <a:off x="684360" y="1268280"/>
              <a:ext cx="7920000" cy="50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"/>
            <p:cNvSpPr/>
            <p:nvPr/>
          </p:nvSpPr>
          <p:spPr>
            <a:xfrm>
              <a:off x="972360" y="1614240"/>
              <a:ext cx="2879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7"/>
            <p:cNvSpPr/>
            <p:nvPr/>
          </p:nvSpPr>
          <p:spPr>
            <a:xfrm>
              <a:off x="972360" y="2348640"/>
              <a:ext cx="2879640" cy="191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Формирование идеологии «продвижени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озможности оце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изкие издержки по поис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тивация работ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абор только на низшие долж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"/>
            <p:cNvSpPr/>
            <p:nvPr/>
          </p:nvSpPr>
          <p:spPr>
            <a:xfrm>
              <a:off x="972360" y="4437000"/>
              <a:ext cx="287964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«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вежая кровь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нижение издержек на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тсутствие нежелательных связей в орган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внесение предыдущего опы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"/>
            <p:cNvSpPr/>
            <p:nvPr/>
          </p:nvSpPr>
          <p:spPr>
            <a:xfrm>
              <a:off x="5724360" y="1614240"/>
              <a:ext cx="2447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Недоста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0"/>
            <p:cNvSpPr/>
            <p:nvPr/>
          </p:nvSpPr>
          <p:spPr>
            <a:xfrm>
              <a:off x="5940000" y="2348640"/>
              <a:ext cx="2879640" cy="191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Вероятность  «вырожд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Проблемы с другими работн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желательные связи внутри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обходимость комплексной программы развития персона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1"/>
            <p:cNvSpPr/>
            <p:nvPr/>
          </p:nvSpPr>
          <p:spPr>
            <a:xfrm>
              <a:off x="5724360" y="4613400"/>
              <a:ext cx="2952360" cy="169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ысокая вероятность несовмест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ральные проблемы для работающ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лительный период адап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2"/>
            <p:cNvSpPr/>
            <p:nvPr/>
          </p:nvSpPr>
          <p:spPr>
            <a:xfrm>
              <a:off x="3923640" y="4581360"/>
              <a:ext cx="180072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>
              <a:off x="3779640" y="2493000"/>
              <a:ext cx="216000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41708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, чем выйти на рынок, большинство компаний пробуют искать нужного кандидат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утри своей организ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этого используются информационные доски, газеты предприятия, обращения к руководителям подразделений с просьбой выдвинуть кандидатов, размещение объявления на внутренних сайтах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ребует значительных финансовых затрат, способствует укреплению авторитета руководства в глазах сотрудников, не требует длительную интеграцию в компанию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противление руководителей подразделений, стремящихся «скрыть» лучших сотрудников и сохранить их «для себя»; поиск ограничен числом сотрудников компании, среди которых может не оказаться нужных люд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 с помощью сотруд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изкие издержки, высокая степень совместимости с организацией за счет тесных контактов с ее представител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ние этого метода может привести к развитию семейственности и кумовства – явлений, не способствующих прогрессу ни в одной орган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амопроявившиеся кандидаты (внешний кадровый резерв)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Практически любая компания получает резюме и звонки людей, занятых поиском работы. Не имея потребности в их труде сейчас, компания не должна отказываться от таких предложений – необходимо поддерживать базу данных таких людей, из знания и квалификация могут пригодиться в дальнейше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ъявления в СМИ – на телевидении, радио, в пресс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широкий охват населения. С успехом используется при подборе массовых профессий, например, строительных рабочи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вероятность большого количества «не тех» кандидатов. Для привлечения специалистов лучше использовать специализированную литературу: так, бухгалтеров искать можно, публикуя объявления в финансовых или бухгалтерских изданиях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6676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90756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гентства по подбору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целенаправленный поиск нужного специалиста по выданной заявке, как правило, имеется база кандидатов, которые не в активном поиске рабо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сокая стоимость услуг, чаще работают на количество, а не на качество (важно продать кандидата), частое невыполнение постпродажных гарант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регионе действуют свои ставки за подбор сотрудника. Часто это ставка от 1 оклада специалиста в месяц до 25% годового дохода. При подборе руководителей высшего звена, гонорар Агентству доходит до 40% годового доход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Агентствами можно и нужно работать, предлагая компромиссные решения по тем или иным пунктам. Вы смотрите, что для Вас приемлемо, а что нет и в какой степени. Как правило, Агентства идут на уступки, предлагают реше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овет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йдите «своего» рекрутера в Агентстве. Никогда не обманывайте Агентство! Это опасно для репутации компании. Если результаты Вас впечатлили, не забудьте отправить благодарственное письмо  - этого требуют элементарные правила делового этик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Arial"/>
              </a:rPr>
              <a:t>Интерне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Самый распространенный на сегодня способ поиска кандидатов.  Среди самых популярных федеральных сайтов: hh.ru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abo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list.ru, zarpla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super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Преимущества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скорость и широчайший охват, возможность ведения диалога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достатки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не все специалисты имеют возможность пользоваться Интернетом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Хэдхантинг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Дословно переводится «охота за головами»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У каждого человека есть слабости, если их распознать и предложить решение – кандидат готов думать над вашим предложением.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Вывод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 существует одного, оптимального метода. Нужно владеть всеми методами и использовать их  в зависимости от конкретной задачи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Алгоритм отбор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49" name="Содержимое 7" descr=""/>
          <p:cNvPicPr/>
          <p:nvPr/>
        </p:nvPicPr>
        <p:blipFill>
          <a:blip r:embed="rId1"/>
          <a:stretch/>
        </p:blipFill>
        <p:spPr>
          <a:xfrm>
            <a:off x="907920" y="1023840"/>
            <a:ext cx="7785360" cy="5658120"/>
          </a:xfrm>
          <a:prstGeom prst="rect">
            <a:avLst/>
          </a:prstGeom>
          <a:ln w="0">
            <a:noFill/>
          </a:ln>
        </p:spPr>
      </p:pic>
      <p:sp>
        <p:nvSpPr>
          <p:cNvPr id="450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2024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- анализ резюм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зюме можно сделать много вывод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нужно обращать внима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табельность (структурированность)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аккуратность, удобство чтения, распределение информации структурно, по блокам, желательный объем: 1-2 страниц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грамматических ошиб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на ли цель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нет, а опыт предполагает возможность для нескольких позиций, работодатель совершенно не обязан думать за кандидата, чем ему хочется в этой жизни заниматься. Иногда в цели указывают три, четыре должности, мало родственных друг другу. Это означает, чаще всего, что кандидат сам не определен, ему все равно, чем заниматься – а это плохой признак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опыта работы предполагаем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заявленных требо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кандидату фактически имеющимся по резюм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Эволюция подходов и концепций управления персоналом в организации</a:t>
            </a:r>
            <a:r>
              <a:rPr b="1" lang="ru-RU" sz="18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4000" y="1052640"/>
          <a:ext cx="8569080" cy="5868720"/>
        </p:xfrm>
        <a:graphic>
          <a:graphicData uri="http://schemas.openxmlformats.org/drawingml/2006/table">
            <a:tbl>
              <a:tblPr/>
              <a:tblGrid>
                <a:gridCol w="1584000"/>
                <a:gridCol w="3745080"/>
                <a:gridCol w="3240000"/>
              </a:tblGrid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нцеп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свод принципов, которыми руководствуемся в практик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ботник рассматривается как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40-е 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кадрами (У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ние трудов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эконом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экономически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дры, масса, толп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нитель, вспомогательная функц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носитель трудовой функции, «живой придаток маш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персоналом (УП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зационны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административны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субъект трудовых   отношений, личность. (персона, требующая вним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служивающе-функцион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ческими ресурсами (УЧР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имание к социально-психологическим метод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ключевой, стратегический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по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гуманист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 методы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ъект  организацион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ная организацион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85152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– телефонное интервью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ое интервью – метод предварительной оценки кандидата для принятия решения о целесообразности очной встреч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у функцию выполняют и резюме, но  здесь вы имеете дополнительные возможности для оценки кандида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меет смысл проводить, есл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юме недостаточно информации, есть вопросы, от которых зависит, есть ли смысл встречатьс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нера  разговаривать  является решающим фактором при принятии человека на работ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территориально живет далеко (в другом городе) и требуются значительные усилия для преодоления расстояния. Есть смысл убедиться, хотя бы первоначально, что человек едет не совсем зр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Arial"/>
              </a:rPr>
              <a:t>Базовые идеи :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«хороших» или «плохих» кандидатов – есть те, кто ПОДХОДИТ для этой компании и этой работы, и те, кто НЕ ПОДХОДИТ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методов интервьюирования нет однозначно правильных ответов, есть ПОДХОДЯЩИЕ и НЕ ПОДХОДЯЩИЕ для данной вакансии и корпоративной культуры. Исключения составляют методики, оценивающие конкретные навы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делать какой-то категорический оценочный вывод на основании интервью, надо проверить его минимум ТРИ раза, причем лучше чередовать различные подходы в разные моменты интервью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не существует ИДЕАЛЬНЫХ КАНДИДАТОВ, поэтому очень важно уметь расставлять приоритеты в требованиях к кандидату и выбирать наиболее подходящего для вашей компании и этой вакан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и НАВЫК – принципиально разные вещ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определить стратегические и тактические задачи компании и понять, какие именно люди будут оптимально подходить для данной работы в данной организации и коллективе. При неправильном определении целей и приоритетов, существует огромный риск двигаться в неверном направлен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06752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4000" y="907920"/>
            <a:ext cx="8640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любым переговорам надо готовить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: 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контакта с человеком таким образом, чтобы его реакции были максимально адекватны, он максимально раскрылся и мы могли бы получить полную, необходимую нам информацию с одной стороны, мотивировать на дальнейшее взаимодействие и заинтересовать работой в компании с другой сторон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интервью в форме допроса (этические соображения, демотивация сильных игроков рынка, репутация компании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79280" y="1483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елатель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 – прод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кандидат сильный, стоит выше, чем мы можем предложить, есть искушение сильно «приукрасить» действительность, выдавая желаемое за действительно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интервью-перегов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ст возможность обеим сторонам понять, подходят ли они друг другу. Переговоры предполагают равные права сторон во взаимной оценке на соответствие  кандидата и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гораздо выгоднее  выявить несоответствие кандидата, чем сделать предложение кандидату, который нам не подходит или которому не подходим м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13916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контак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интерв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ткий рассказ о компа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кандида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обратной связ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2330280" y="3782520"/>
            <a:ext cx="46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77880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1476360" y="1824120"/>
            <a:ext cx="5291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образие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ка предпо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дование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 и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и кон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70716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05264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тодики должны быть разнообразными, каждое предположение стоит проверять 3-4 раза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меет смысл чередовать темы вопросов, это позволяет снизить вероятность получения социально-желаемых ответ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просы лучше задавать в быстром темпе, устанавливать темп должен интервьюер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певайте делать записи схематично, графически, не делайте паузы между вопро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задавать много биографических вопросов – все это есть в резюме, и к ним кандидат очень хорошо подготовился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полностью планировать сценарий интервью, лучше варьировать темы и виды вопросов в зависимости от ответов и поведения кандидат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Правил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4360" y="141264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интервью - рассказать об организации. Степень подробности этого рассказа будет зависеть от того, насколько кандидат является подходящим, от уровня позиции, от тех сведений, которые мы почерпнули из собеседования: теперь мы знаем, чего кандидат хочет, какая компания является максимально привлекательной для него, чем мотивируется и т.д. Есть смысл делать упоры на значимые для кандидата момен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возможность кандидату задать вопрос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обозначить  способ взаимодействия  в дальнейш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оценки потенциала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биографические вопро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тервью, или ситуационное интервью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вные методи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чи, или психолингвистика (определение метапрограмм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оведение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достоверност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иды оценки персонал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ая оценка (осуществляется руководителем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еская комплексная оценка персонала (аттестация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7067520" cy="1584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2. Основные 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УП- деятельности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179280" y="2276640"/>
            <a:ext cx="208908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2484360" y="220500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крутм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оиск  и проф. отб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4932360" y="2276640"/>
            <a:ext cx="208764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ф. и со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7164360" y="2276640"/>
            <a:ext cx="180036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7093080" y="5013360"/>
            <a:ext cx="1908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ла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мул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4572000" y="501336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2268360" y="5013360"/>
            <a:ext cx="2160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учение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ел.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0" y="5084640"/>
            <a:ext cx="205092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250920" y="4005360"/>
            <a:ext cx="3313080" cy="936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е «сокращени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226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464328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694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8028000" y="38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 flipH="1">
            <a:off x="6803640" y="54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 flipH="1">
            <a:off x="4427280" y="551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 flipH="1">
            <a:off x="442728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1"/>
          <p:cNvSpPr/>
          <p:nvPr/>
        </p:nvSpPr>
        <p:spPr>
          <a:xfrm flipH="1">
            <a:off x="2050920" y="5516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2"/>
          <p:cNvSpPr/>
          <p:nvPr/>
        </p:nvSpPr>
        <p:spPr>
          <a:xfrm flipV="1">
            <a:off x="1042920" y="486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2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Алгоритм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стандартов деятельности (модель компетенций, профиль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методики и критериев оценк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остава оценщ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я о проведении аттестации и информирование персонал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процедура аттест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е итогов аттестации с работник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й по итогам аттестации (полностью соответствует, частично соответствует, не соответствует занимаемой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рректировка стандартов, критериев; контроль за реализацией рекомендац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Цели оценки (аттестации) персонал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е воздействие на мотивацию сотрудник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рофессионального обуч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индивидуальных траекторий развития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ункции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(обратной связ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 (принятия решений о вознагражден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тивная (принятие решений о перемещениях, назначениях и т.п.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Методы оценки при аттестац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сательный метод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заданного выбо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по целя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оценки в форме «школьного табеля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попарного сравн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60 градус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Основные ошибки при проведении аттестац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400" y="191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дготовленность менеджеров к оценке работни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четкость функциональных обязанностей, размытость должностных инструкц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бъективизм в оценк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туативный характер оценки (не по вкладу, а по конкретной ситуац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изм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крытость информации об итогах аттест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Адаптация и профориентац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новых работ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040" y="1447920"/>
            <a:ext cx="7186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взаимного приспособления работника и организации, основывающееся на постепенной включаемости в работу сотрудника в новые профессиональные, социальные и организационно-экономические условия труд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Цел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ьшение стартовых издержек, так как пока новый сотрудник плохо знает свое рабочее место, он работает менее эффективно и требует дополнительных затрат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озабоченности и неопределенности у новых работн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ение кадровой текучести, так как если новички чувствуют себя неуютно на новой работе и ненужными, то они могут отреагировать на это увольнение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ономия времени руководителя и сотрудников, так как проводимая по программе работа помогает экономить время каждого из них в итог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позитивного отношения к работе и компании, удовлетворенности труд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Факторы, влияющие на адаптацию новых сотруд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395280" y="1600200"/>
            <a:ext cx="8291160" cy="4667400"/>
            <a:chOff x="395280" y="1600200"/>
            <a:chExt cx="8291160" cy="4667400"/>
          </a:xfrm>
        </p:grpSpPr>
        <p:sp>
          <p:nvSpPr>
            <p:cNvPr id="509" name="AutoShape 5"/>
            <p:cNvSpPr/>
            <p:nvPr/>
          </p:nvSpPr>
          <p:spPr>
            <a:xfrm>
              <a:off x="45684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"/>
            <p:cNvSpPr/>
            <p:nvPr/>
          </p:nvSpPr>
          <p:spPr>
            <a:xfrm>
              <a:off x="3598920" y="3383280"/>
              <a:ext cx="21967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даптация новых сотруд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>
              <a:off x="1653480" y="1874520"/>
              <a:ext cx="22446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рганизационная сре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>
              <a:off x="4645800" y="1874520"/>
              <a:ext cx="29934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грамма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>
              <a:off x="6441840" y="3520440"/>
              <a:ext cx="1795680" cy="95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ультура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5244840" y="5166360"/>
              <a:ext cx="2094840" cy="82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коллекти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051280" y="5445360"/>
              <a:ext cx="254304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руководите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755280" y="3069000"/>
              <a:ext cx="239328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ложность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395280" y="4077000"/>
              <a:ext cx="2455920" cy="122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фессионально-личностные качества нового сотруд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3449160" y="2697120"/>
              <a:ext cx="59868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 flipH="1">
              <a:off x="4945320" y="2697120"/>
              <a:ext cx="44892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5544360" y="4068360"/>
              <a:ext cx="89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 flipV="1">
              <a:off x="5244480" y="4754520"/>
              <a:ext cx="44892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V="1">
              <a:off x="3491640" y="4868640"/>
              <a:ext cx="43164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V="1">
              <a:off x="2851200" y="4343040"/>
              <a:ext cx="74736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>
              <a:off x="3149640" y="3520440"/>
              <a:ext cx="44892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ади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знаком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способ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дентификация (отождествление с компанией)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знаком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способ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дентификация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-6 мес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1 год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2-3 лет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3-х лет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Line 4"/>
          <p:cNvSpPr/>
          <p:nvPr/>
        </p:nvSpPr>
        <p:spPr>
          <a:xfrm flipV="1">
            <a:off x="755640" y="3284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755640" y="5084280"/>
            <a:ext cx="792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2124000" y="357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 flipV="1">
            <a:off x="3780000" y="357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8"/>
          <p:cNvSpPr/>
          <p:nvPr/>
        </p:nvSpPr>
        <p:spPr>
          <a:xfrm flipV="1">
            <a:off x="5651640" y="3499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9"/>
          <p:cNvSpPr/>
          <p:nvPr/>
        </p:nvSpPr>
        <p:spPr>
          <a:xfrm>
            <a:off x="755640" y="2349360"/>
            <a:ext cx="8209080" cy="2797200"/>
          </a:xfrm>
          <a:custGeom>
            <a:avLst/>
            <a:gdLst>
              <a:gd name="textAreaLeft" fmla="*/ 0 w 8209080"/>
              <a:gd name="textAreaRight" fmla="*/ 8209440 w 820908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5171" h="1762">
                <a:moveTo>
                  <a:pt x="0" y="1762"/>
                </a:moveTo>
                <a:cubicBezTo>
                  <a:pt x="1814" y="1146"/>
                  <a:pt x="3629" y="530"/>
                  <a:pt x="4400" y="265"/>
                </a:cubicBezTo>
                <a:cubicBezTo>
                  <a:pt x="5171" y="0"/>
                  <a:pt x="4574" y="197"/>
                  <a:pt x="4627" y="174"/>
                </a:cubicBezTo>
                <a:cubicBezTo>
                  <a:pt x="4680" y="151"/>
                  <a:pt x="4702" y="136"/>
                  <a:pt x="4717" y="1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0"/>
          <p:cNvSpPr/>
          <p:nvPr/>
        </p:nvSpPr>
        <p:spPr>
          <a:xfrm>
            <a:off x="5580000" y="3368520"/>
            <a:ext cx="3071880" cy="5763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35" h="363">
                <a:moveTo>
                  <a:pt x="0" y="83"/>
                </a:moveTo>
                <a:cubicBezTo>
                  <a:pt x="283" y="41"/>
                  <a:pt x="567" y="0"/>
                  <a:pt x="862" y="38"/>
                </a:cubicBezTo>
                <a:cubicBezTo>
                  <a:pt x="1157" y="76"/>
                  <a:pt x="1603" y="257"/>
                  <a:pt x="1769" y="310"/>
                </a:cubicBezTo>
                <a:cubicBezTo>
                  <a:pt x="1935" y="363"/>
                  <a:pt x="1897" y="359"/>
                  <a:pt x="1860" y="3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Результаты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914040" y="1447920"/>
            <a:ext cx="725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издержек по поиску нового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количества увольнений сотрудников, проходящих испытательный срок, как по инициативе администрации, так и по собственному желанию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кадрового резерва (наставничество – это возможность для опытного сотрудника приобрести опыт руководства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времени выхода на точку рентабельности для новых сотрудник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адровой политики компании, соответствующей этапу ее развития и рыночной ситу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 кадрового потенциала компании, текущее и перспективное планирование кадров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штатной структуры организации, изучение и совершенствование должностных позиций, определение функциональных обязанностей сотрудников и требований к специалист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слеживание рынка труда, определение уровня оплаты труда для разных должностных позиций по параметру «цена – качество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ое комплектование организации, подбор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и поддержка системы расстановки кадров, планирование карьеры, оценка и аттестация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4. Основные составляющие развития персонал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персонал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одготов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карьер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ка карьерных предпочтений (виды карьеры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карьерных перемеще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Модель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3" name="Прямоугольник 3"/>
          <p:cNvSpPr/>
          <p:nvPr/>
        </p:nvSpPr>
        <p:spPr>
          <a:xfrm>
            <a:off x="285840" y="2286000"/>
            <a:ext cx="17859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нализ потре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484360" y="2286000"/>
            <a:ext cx="19447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тановка целей (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MART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"/>
          <p:cNvSpPr/>
          <p:nvPr/>
        </p:nvSpPr>
        <p:spPr>
          <a:xfrm>
            <a:off x="7143840" y="2205000"/>
            <a:ext cx="2000160" cy="1438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Оценка результатов (модель Килпатри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7"/>
          <p:cNvSpPr/>
          <p:nvPr/>
        </p:nvSpPr>
        <p:spPr>
          <a:xfrm>
            <a:off x="4857840" y="2286000"/>
            <a:ext cx="17143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рганизация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8"/>
          <p:cNvSpPr/>
          <p:nvPr/>
        </p:nvSpPr>
        <p:spPr>
          <a:xfrm>
            <a:off x="3357720" y="4500720"/>
            <a:ext cx="24285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рансферт получен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трелка вправо 13"/>
          <p:cNvSpPr/>
          <p:nvPr/>
        </p:nvSpPr>
        <p:spPr>
          <a:xfrm>
            <a:off x="207180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трелка вправо 14"/>
          <p:cNvSpPr/>
          <p:nvPr/>
        </p:nvSpPr>
        <p:spPr>
          <a:xfrm>
            <a:off x="6643800" y="2714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трелка вправо 15"/>
          <p:cNvSpPr/>
          <p:nvPr/>
        </p:nvSpPr>
        <p:spPr>
          <a:xfrm>
            <a:off x="442908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углом 16"/>
          <p:cNvSpPr/>
          <p:nvPr/>
        </p:nvSpPr>
        <p:spPr>
          <a:xfrm rot="10800000">
            <a:off x="5785920" y="3714480"/>
            <a:ext cx="2428920" cy="2235240"/>
          </a:xfrm>
          <a:custGeom>
            <a:avLst/>
            <a:gdLst/>
            <a:ahLst/>
            <a:rect l="l" t="t" r="r" b="b"/>
            <a:pathLst>
              <a:path w="2428875" h="2235200">
                <a:moveTo>
                  <a:pt x="0" y="2235200"/>
                </a:moveTo>
                <a:lnTo>
                  <a:pt x="0" y="1257300"/>
                </a:lnTo>
                <a:lnTo>
                  <a:pt x="0" y="1257300"/>
                </a:lnTo>
                <a:arcTo wR="977900" hR="977900" stAng="-10799996" swAng="5400004"/>
                <a:lnTo>
                  <a:pt x="1870075" y="279400"/>
                </a:lnTo>
                <a:lnTo>
                  <a:pt x="1870075" y="0"/>
                </a:lnTo>
                <a:lnTo>
                  <a:pt x="2428875" y="558800"/>
                </a:lnTo>
                <a:lnTo>
                  <a:pt x="1870075" y="1117600"/>
                </a:lnTo>
                <a:lnTo>
                  <a:pt x="1870075" y="838200"/>
                </a:lnTo>
                <a:lnTo>
                  <a:pt x="977900" y="838200"/>
                </a:lnTo>
                <a:lnTo>
                  <a:pt x="977900" y="838200"/>
                </a:lnTo>
                <a:arcTo wR="419100" hR="419100" stAng="-5400000" swAng="-5400000"/>
                <a:lnTo>
                  <a:pt x="558800" y="223520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трелка углом 17"/>
          <p:cNvSpPr/>
          <p:nvPr/>
        </p:nvSpPr>
        <p:spPr>
          <a:xfrm rot="16200000">
            <a:off x="714240" y="3357360"/>
            <a:ext cx="2286000" cy="2714760"/>
          </a:xfrm>
          <a:custGeom>
            <a:avLst/>
            <a:gdLst/>
            <a:ahLst/>
            <a:rect l="l" t="t" r="r" b="b"/>
            <a:pathLst>
              <a:path w="2286000" h="2714625">
                <a:moveTo>
                  <a:pt x="0" y="2714625"/>
                </a:moveTo>
                <a:lnTo>
                  <a:pt x="0" y="1285875"/>
                </a:lnTo>
                <a:lnTo>
                  <a:pt x="0" y="1285875"/>
                </a:lnTo>
                <a:arcTo wR="1000125" hR="1000125" stAng="-10799997" swAng="5400003"/>
                <a:lnTo>
                  <a:pt x="1714500" y="285750"/>
                </a:lnTo>
                <a:lnTo>
                  <a:pt x="1714500" y="0"/>
                </a:lnTo>
                <a:lnTo>
                  <a:pt x="2286000" y="571500"/>
                </a:lnTo>
                <a:lnTo>
                  <a:pt x="1714500" y="1143000"/>
                </a:lnTo>
                <a:lnTo>
                  <a:pt x="1714500" y="857250"/>
                </a:lnTo>
                <a:lnTo>
                  <a:pt x="1000125" y="857250"/>
                </a:lnTo>
                <a:lnTo>
                  <a:pt x="1000125" y="857250"/>
                </a:lnTo>
                <a:arcTo wR="428625" hR="428625" stAng="-5400000" swAng="-5400000"/>
                <a:lnTo>
                  <a:pt x="571500" y="2714625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44756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рабочем мес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в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структаж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ублирова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не рабочего мест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и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ехнологии обучения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екции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мина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 небольших группах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тер-класс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-групп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кейс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ект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ругие упражнения и методы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ценка результатов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одель Килпатрика по оценке результатов обуч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знаний через тестирование и собеседован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удовлетворенности слушателей семинара, курс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оведе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роизводительност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рансферт полученных знан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ы трансфер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ступление обученного сотрудника перед коллега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еседования с руководителем по трансферту (планирование мероприятий, сроков, показателей внедрения, ресурсов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и самоконтроль результатов внедрения полученных знани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Планирование деловой карьеры, перемещения, работа с кадровым резервом</a:t>
            </a: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 базируется на предположении, что фирма принимает на себя обязательства наиболее полно использовать возможности работников и предоставлять каждому из них шанс расти и продвигаться по служебной лестниц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но связано с обучением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грает большую роль в процессе управления карьерой и перемещениям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акторы, влияющие на выбор карье</a:t>
            </a: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р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стадий цикла карьеры личности (роста, исследования, формирования, сохранения, снижени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е ориентации по Голанду (реалистическая, исследовательская, артистическая, социальная, инициативная, обыкновенна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навыков (компетенций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ключевых моментов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рамплин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естниц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путь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Прямая соединительная линия 4"/>
          <p:cNvSpPr/>
          <p:nvPr/>
        </p:nvSpPr>
        <p:spPr>
          <a:xfrm>
            <a:off x="3059280" y="2421000"/>
            <a:ext cx="433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6"/>
          <p:cNvSpPr/>
          <p:nvPr/>
        </p:nvSpPr>
        <p:spPr>
          <a:xfrm flipV="1">
            <a:off x="3492360" y="206028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8"/>
          <p:cNvSpPr/>
          <p:nvPr/>
        </p:nvSpPr>
        <p:spPr>
          <a:xfrm>
            <a:off x="3492360" y="1989000"/>
            <a:ext cx="432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10"/>
          <p:cNvSpPr/>
          <p:nvPr/>
        </p:nvSpPr>
        <p:spPr>
          <a:xfrm flipV="1">
            <a:off x="3995640" y="1773000"/>
            <a:ext cx="0" cy="21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12"/>
          <p:cNvSpPr/>
          <p:nvPr/>
        </p:nvSpPr>
        <p:spPr>
          <a:xfrm>
            <a:off x="3995640" y="1700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14"/>
          <p:cNvSpPr/>
          <p:nvPr/>
        </p:nvSpPr>
        <p:spPr>
          <a:xfrm flipV="1">
            <a:off x="4427640" y="148428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16"/>
          <p:cNvSpPr/>
          <p:nvPr/>
        </p:nvSpPr>
        <p:spPr>
          <a:xfrm>
            <a:off x="4427640" y="1484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ая соединительная линия 18"/>
          <p:cNvSpPr/>
          <p:nvPr/>
        </p:nvSpPr>
        <p:spPr>
          <a:xfrm>
            <a:off x="4858560" y="1484280"/>
            <a:ext cx="792360" cy="936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25"/>
          <p:cNvSpPr/>
          <p:nvPr/>
        </p:nvSpPr>
        <p:spPr>
          <a:xfrm>
            <a:off x="2987640" y="328464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ая соединительная линия 27"/>
          <p:cNvSpPr/>
          <p:nvPr/>
        </p:nvSpPr>
        <p:spPr>
          <a:xfrm flipV="1">
            <a:off x="3348000" y="3141360"/>
            <a:ext cx="0" cy="142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29"/>
          <p:cNvSpPr/>
          <p:nvPr/>
        </p:nvSpPr>
        <p:spPr>
          <a:xfrm>
            <a:off x="3348000" y="306864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31"/>
          <p:cNvSpPr/>
          <p:nvPr/>
        </p:nvSpPr>
        <p:spPr>
          <a:xfrm flipV="1">
            <a:off x="3564000" y="2781360"/>
            <a:ext cx="0" cy="2872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35"/>
          <p:cNvSpPr/>
          <p:nvPr/>
        </p:nvSpPr>
        <p:spPr>
          <a:xfrm>
            <a:off x="3564000" y="278136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37"/>
          <p:cNvSpPr/>
          <p:nvPr/>
        </p:nvSpPr>
        <p:spPr>
          <a:xfrm flipV="1">
            <a:off x="378000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39"/>
          <p:cNvSpPr/>
          <p:nvPr/>
        </p:nvSpPr>
        <p:spPr>
          <a:xfrm>
            <a:off x="3780000" y="256536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ая соединительная линия 41"/>
          <p:cNvSpPr/>
          <p:nvPr/>
        </p:nvSpPr>
        <p:spPr>
          <a:xfrm>
            <a:off x="406728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ая соединительная линия 43"/>
          <p:cNvSpPr/>
          <p:nvPr/>
        </p:nvSpPr>
        <p:spPr>
          <a:xfrm>
            <a:off x="4067280" y="2781360"/>
            <a:ext cx="2174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45"/>
          <p:cNvSpPr/>
          <p:nvPr/>
        </p:nvSpPr>
        <p:spPr>
          <a:xfrm>
            <a:off x="4284720" y="2852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ая соединительная линия 47"/>
          <p:cNvSpPr/>
          <p:nvPr/>
        </p:nvSpPr>
        <p:spPr>
          <a:xfrm>
            <a:off x="4284720" y="306864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49"/>
          <p:cNvSpPr/>
          <p:nvPr/>
        </p:nvSpPr>
        <p:spPr>
          <a:xfrm>
            <a:off x="4572000" y="3068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2"/>
          <p:cNvSpPr/>
          <p:nvPr/>
        </p:nvSpPr>
        <p:spPr>
          <a:xfrm>
            <a:off x="3132000" y="3645000"/>
            <a:ext cx="64800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57"/>
          <p:cNvSpPr/>
          <p:nvPr/>
        </p:nvSpPr>
        <p:spPr>
          <a:xfrm>
            <a:off x="4500720" y="3645000"/>
            <a:ext cx="64764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ая соединительная линия 61"/>
          <p:cNvSpPr/>
          <p:nvPr/>
        </p:nvSpPr>
        <p:spPr>
          <a:xfrm>
            <a:off x="2556000" y="378936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63"/>
          <p:cNvSpPr/>
          <p:nvPr/>
        </p:nvSpPr>
        <p:spPr>
          <a:xfrm>
            <a:off x="5580000" y="378936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4"/>
          <p:cNvSpPr/>
          <p:nvPr/>
        </p:nvSpPr>
        <p:spPr>
          <a:xfrm>
            <a:off x="4572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5"/>
          <p:cNvSpPr/>
          <p:nvPr/>
        </p:nvSpPr>
        <p:spPr>
          <a:xfrm>
            <a:off x="3564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7"/>
          <p:cNvSpPr/>
          <p:nvPr/>
        </p:nvSpPr>
        <p:spPr>
          <a:xfrm flipH="1">
            <a:off x="2627280" y="4149720"/>
            <a:ext cx="295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69"/>
          <p:cNvSpPr/>
          <p:nvPr/>
        </p:nvSpPr>
        <p:spPr>
          <a:xfrm>
            <a:off x="2627280" y="4149720"/>
            <a:ext cx="0" cy="358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70"/>
          <p:cNvSpPr/>
          <p:nvPr/>
        </p:nvSpPr>
        <p:spPr>
          <a:xfrm>
            <a:off x="2916360" y="4508640"/>
            <a:ext cx="57600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72"/>
          <p:cNvSpPr/>
          <p:nvPr/>
        </p:nvSpPr>
        <p:spPr>
          <a:xfrm>
            <a:off x="4356000" y="4508640"/>
            <a:ext cx="64764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Прямая со стрелкой 78"/>
          <p:cNvCxnSpPr/>
          <p:nvPr/>
        </p:nvCxnSpPr>
        <p:spPr>
          <a:xfrm flipH="1" flipV="1">
            <a:off x="2626560" y="4580640"/>
            <a:ext cx="3025080" cy="2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605" name="Прямая соединительная линия 82"/>
          <p:cNvSpPr/>
          <p:nvPr/>
        </p:nvSpPr>
        <p:spPr>
          <a:xfrm>
            <a:off x="3780000" y="5013360"/>
            <a:ext cx="0" cy="1008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84"/>
          <p:cNvSpPr/>
          <p:nvPr/>
        </p:nvSpPr>
        <p:spPr>
          <a:xfrm>
            <a:off x="3059280" y="5589720"/>
            <a:ext cx="151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85"/>
          <p:cNvSpPr/>
          <p:nvPr/>
        </p:nvSpPr>
        <p:spPr>
          <a:xfrm>
            <a:off x="3635280" y="5373720"/>
            <a:ext cx="360360" cy="358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ижний колонтитул 3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ип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етар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ризонт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тикальна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дровый аудит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легитимности отношений фирмы с наемными работниками и разрешение трудовых спор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едение кадрового делопроизводства и документооборота. Информационное обеспечение управления персоналом: ведение внутренней системы учета и баз данных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обучения и повышения квалификации сотрудник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благоприятного организационного климата в компании и в отдельных подразделениях. Проведение мероприятий нацеленных на повышение моральной сплоченности и лояльности персонала организац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системы мотивации, вознаграждения, социального пакета, гарантий и компенсаций для персонала, помощь сотрудникам в решении социально-бытовых вопрос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надежности персонала с точки зрения внутренней безопасности бизнес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ирование руководителей разных звеньев по вопросам управления человеческими ресур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Связь карьеры и повышения квалифик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карьерные перемещения должны быть обеспечены необходимыми компетенциями через программы обучения и повышения квалифик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управленческой карьеры кандидат зачисляется в резерв управленческих кадров и проходит обучение по программе резерв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зервистов необходимо готовить к возможному карьерному перемещению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стоит сводить систему управления карьерой к  реализации вертикальных перемещений, т.к. уровней в системе управления значительно меньше, чем решаемых задач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5 ключевых моментов успеха развития исполнителе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36480" y="1052640"/>
            <a:ext cx="8183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ирокое видимое участие первого лиц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системы стратегического управления организацией, бизнесо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руководителей, имеющих четкое представление о политике развития внутреннего менеджмента (целях, стратегии, философия организации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пешные программы развития менеджмента, включающи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назнач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е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юджет развития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 линейных руководителей за уровень компетенций подчиненных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Нижний колонтитул 3"/>
          <p:cNvSpPr/>
          <p:nvPr/>
        </p:nvSpPr>
        <p:spPr>
          <a:xfrm>
            <a:off x="900000" y="6172200"/>
            <a:ext cx="712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адемия МУБиНТ Институт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Тема 5. Мотивация поведения в трудовой деятельности</a:t>
            </a: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уда рассматривается как сложнейшая функция управления, заключающаяся в побуждении работников к результативной деятельности с помощью внешних и внутренних факторов для достижения целей организации и удовлетворении личн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утренняя 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зируется на формировании внутреннего стремления человека к достижению результата, развитию, самореал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ешней 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буждение к труду вызывается извне с помощью внешних рычагов (стимулов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Цели управления мотиваци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 эффективности и конкурентоспособ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производительности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текуче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ивержен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управляемо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трудовой жизн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Модель мотивации трудового повед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539640" y="2205000"/>
            <a:ext cx="2160720" cy="17287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едостаток в чем-либ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3203640" y="2205000"/>
            <a:ext cx="230328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буждения или мо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"/>
          <p:cNvSpPr/>
          <p:nvPr/>
        </p:nvSpPr>
        <p:spPr>
          <a:xfrm>
            <a:off x="5940360" y="2205000"/>
            <a:ext cx="223200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4932360" y="371628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826920" y="4365720"/>
            <a:ext cx="4608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– результат удовлетворения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2"/>
          <p:cNvSpPr/>
          <p:nvPr/>
        </p:nvSpPr>
        <p:spPr>
          <a:xfrm>
            <a:off x="277164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3"/>
          <p:cNvSpPr/>
          <p:nvPr/>
        </p:nvSpPr>
        <p:spPr>
          <a:xfrm>
            <a:off x="5580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Механизм управления трудовой мотивацией</a:t>
            </a: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стика потребностей, мотивов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целей и финансовых возможностей компании в области инвестирования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а и внедрение корпоративной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ценка эффективности (коррекции) системы стимулирова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139160" cy="70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Принципы мотивационной систем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р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тим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0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78920" y="90972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правленческой науке предлагается следующая типология мотивации (Герчиков)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мент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трудник ценит не саму работу – она ему нужна лишь как источник (инструмент) материальных бла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стимулирующим фактором становится заработок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обоснованность цены, не желает «подачек»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способность обеспечить свою жизнь самостоятельно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типичные представители этого типа мотивации – продавцы любого уровн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труднику важно содержание работы, возможность проявить себя, самореализоваться как специалис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гласен на неинтересные для него работы, сколько бы за них не платил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уют трудные задания – возможность самовыраж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 важной свободу в оперативных решения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профессиональное признание, как лучшего в профес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е представители – HR, финансисты, юрист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5056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триотическ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снована на убеждении работника в своей необходимости организации, больше всего ценит результативность общего дела и коллективное признание своего успех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а идея, которая будет им двигать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ая награда – всеобщее признание незаменимости в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озяй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выражается в том, что сотрудник добровольно берет на себя полную ответственность за работу. «Хозяин» нуждается в самостоятельности и не терпит приказов и указаний. Не терпит контроля. Обостренное требование свободы действий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юмпенизированна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– свойственна работнику со слабым стремлением к эффективному труду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 него низкая квалификация, и нет желания ее повышать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арается избегать любой деятельности, связанной с личной ответственностью; не проявляет инициативы и негативно относится к активности других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ремится к минимизации усилий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гласен на низкую оплату при условии, чтобы другие не получали больше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ждый человек «имеет» в себе, как правило, все 5 (или 4) типов мотивации. Разница состоит лишь в соотношении степеней выраженности в поведении человека каждого из 5-ти описанных типов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96464"/>
                </a:solidFill>
                <a:latin typeface="Arial"/>
              </a:rPr>
              <a:t>Каждой позиции в орг.структуре соответствует свой тип мотивации: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работ с измеримым результатом – инструмент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автономной работе – хозяйская,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простых работах – инструментальная, люмпенизирован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функционального подразделения –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подразделения – хозяйская, патриотическ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-менеджер – хозяй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успешным топ-менеджерам свойственны следующие типы мотивации: 30-40% - профессиональная, 30% - хозяйская, 20-30% - патриотиче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тика - это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licy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линия поведения, установка»        (словарь Мюллер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правила, определяющие  наши конкретные действи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концентрированное выражение экономики»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основные принципы, определяющие наши конкретные действия в экономике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6635880" cy="41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Виды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неджменте всегда есть выбор метода мотивации. Менеджеру надо знать, из какого разнообразия надо делать выбор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страхом и опас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стойчивое мотивирование, ориентированное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образованный и низкоквалифицирова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.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итивное, неразвитое управл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доверием и вознагражд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ирование при высоком уровне созна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ственности и заинтересов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на основе доверия и справедлив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награжд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50920" y="69192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систем оплаты труд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радицион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ознаграждение складывается из 2-х элементов – основного (заработной платы или оклада) и дополнительного (льгот) и остается постоянным в течении длительного времени. Яркий пример – тарифная система оплаты труда и ее разновид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бки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зависимость заработка, во-первых, от индивидуальных качеств и результатов труда работника, во-вторых, от результатов деятельности компании. Заработная плата разделяется на 2 части: постоянная и переменная. Постоянная часть выплачивается  за отработанное время и является социально гарантируемым минимумом платы за то, что работник выполняет работу на конкретном рабочем месте. Переменная часть зарплаты выплачивается за индивидуальный вклад в общие результаты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истемы платы за знания и квалификац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зарплата в соответствии с квалификацией (основана на уровне знаний) определяется уровнем знаний сотрудников о том, как следует выполнять различные рабочие задания, широтой, глубиной, разнообразием их профессиональных навык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надбавок к должностному окладу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таж работ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овмещение профессий и должносте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особые условия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ополнительные обяз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ы доплат к окладу (носят временный характе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выходные и праздничные дни (в полуторной размере в первые 2 часа, в двойном размере в последующие часы сверхурочной работы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ночное врем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ыполнение обязанностей временно отсутствующего работ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6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Системы премирован</a:t>
            </a: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ель – стимулирование трудовой активности работников по снижению организационных издержек и увеличению прибыли компан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ывают :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днофакторным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предусматривают выплату премии в зависимости от какого-то одного показателя, например, числа отработанных дней в месяц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Многофакторны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по результатам оценки нескольких показателей. Оценивается роль каждого фактора в достижении ожидаемого эффекта и размер премии определяется в зависимости от уровня достижения установленных показателей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зависимость премии не от одного или нескольких  частных показателей, а от одного комплексного показателя, который позволяет обеспечить наилучшее использование всех производственных ресурсов, например, общая производительность компании как соотношение объема реализованной продукции к совокупным затратам на ее выпуск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</a:t>
            </a:r>
            <a:r>
              <a:rPr b="1" lang="ru-RU" sz="22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50560" y="1412640"/>
            <a:ext cx="86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ка существующей системы. Выявить положительные и отрицательные аспекты, а также изучить трудовую мотивацию персонала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инципов и правил политики вознагражден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рабочих мест. Цель – получить представление о характере работы на каждом конкретном месте. Метод – составление должностных инструкций (стандартизованных описаний должностных функци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(группировка рабочих мест). Цель – определить относительную ценность каждого рабочего места для данной организации (иерархизация должносте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ынка труда. Цель – получить представление о среднем уровне зарплаты по различным профессиональным групп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базовой зарплаты должности. Цель – определить «вилку» по конкретной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зарплаты конкретному работнику. Цель – дифференцировать зарплату в зависимости от индивидуальных характеристик работни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оотношения постоянной и переменной части зарплаты и механизма формирования переменной заработной платы. Цель – определить оптимальное соотношение между переменной и постоянной частями в зависимости от степени влияния данной должности на результаты компании, разработать оценочные показатели и механизм их увязки с размером переменной заработной пла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премирования (участия в прибылях). Цель – стимулировать трудовую активность работников по снижению организационных издержек и увеличению прибыли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распределения социальных льгот. Цель – формирование лояльности работников и удержание лучших работников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сколько правил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размер вознаграждения должен определяться на основе объективной оценки результатов 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сказуем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ботник должен знать, какое вознаграждение он получит в зависимости от результатов сво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декват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адекватно трудовому вкладу работника в результат деятельности всего коллектива, его опыту, уровню квалификации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воевремен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следовать за достижением результата как можно быстрее (если не в форме прямого вознаграждения, то хотя бы в виде учета для последующего вознаграждения)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для сотрудника значимым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праведлив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вознаграждение должно быть понятно каждому сотруднику и справедливым, в том числе с его точки зре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компенсаций должна быть, с одной стороны, хорошо понятна каждому сотруднику (в противном случае она может вызвать неадекватную реакцию персонала и повлечь за собой не те действия, которые она была призвана стимулировать). А с другой стороны – проста для администрирования, то есть не требовать значительных материальных и трудовых ресурсов для обеспечения ее функционирова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635880" cy="431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которые из возможных факторов демотивации, которые оказывают ключевое влияние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ушение негласного контрак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использование каких-либо навыков сотрудника, которые он сам ценит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норирование идей и инициативы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чувства причастности к компании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признания достижений и результатов со стороны руководства и коллег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изменений в статусе сотрудника.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Нарушение негласного "контракта"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ая "среда обитания", в которую кандидату предстоит войти, обсуждается очень м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частую компания расписывается в «розовом» свете. В "среду обитания" может входить множество факторов, начиная от внешнего вида офиса и графика работы, до специфики коллектива и поручаемых сотруднику задач. В результате у потенциального сотрудника формируются серьезно завышенные ожидания, которые расходятся с действительным положением вещей в компании. Вскоре после начала работы сотрудник обнаруживает, что обучение формально, перспектив для роста никаких, коллектив представляет собой закрытые группки сотрудников, не пускающие аутсайдеро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 тот же - внутренняя мотивация испарила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энергичного и полного энтузиазма кандидата не осталось и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а, теперь это вялый сотрудник с потухшими глазам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: максимум реалистичной информации в процессе отбора. Формирование реалистичных ожида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464"/>
                </a:solidFill>
                <a:latin typeface="Arial"/>
              </a:rPr>
              <a:t>2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Неиспользование каких-либо навыков сотрудника, которые он сам ценит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ным руководителям известно, как опасно брать на работу специалиста, слишком квалифицированного для предлагаемой ему позиции. Даже если он вдруг согласится на эту работу сам по каким-то личным причинам (например, из финансовых соображений), через несколько месяцев он заскучает и начнет искать применение своим нереализованным талантам и навыкам в другой организации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смотрительное отбрасывание таких навыков со временем чревато серьезнейшей демотив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если туда попадают навыки, которыми сам сотрудник дорожит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 из решений заключается в том, что многообразие задач и ситуаций, с которыми сталкивается организация, часто предоставляет возможность "протирать пыль" с неключевых навыков и знаний сотрудников. Пусть это будут временные, проектные задачи, пусть отнимающие немного времени (а порой - и вовсе решаемые во внеурочное время), но они дадут вашему сотруднику понять, что вы цените все его многогранные умения, и что вы не позволите ему забыть то полезное, что он знал раньш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–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определяющие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е действия в управлении человеческими ресурса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Игнорирование идей и инициативы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новой работе, сотрудники обычно "фонтанируют" новыми идеями - от совершенствования методов работы до перестановки мебели в офисе для произведения наиболее благоприятного впечатления на клиента. И чаще всего от этих идей просто отмахиваются - частично от недоверия новичкам, частично - от нежелания расстаться с привычной рабочей рутиной, даже если она не эффектив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слушивайтесь к идеям и предложениям. Даже если они не настолько гениальны, чтобы стоило их воплощать в "первозданном" виде, из них часто можно что-то почерпнуть. И всегда объясняйте, почему, на Ваш взгляд, та или иная идея не подходить для реализации в Вашей компании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чувства причастности к компан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демотиватор  наиболее актуален для сотрудников, работающих  для вспомогательного персона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аких работников нередко складывается впечатление, что для  руководителей организации они вообще являются людьми второго сорта, которые работают на компанию исключительно из-за дене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увство причастности к общему делу и командный дух являются очень сильным стимулом. Сотрудники, жертвуя своими личными интересами и временем, готовы работать на достижение целей компании. Поэтому привлекайте таких сотрудников к общекорпоративным мероприятиям, регулярно информируйте их о происходящем в компании. И помните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роблема может касаться не только вспомогательного персонала, но иногда - и целых подразделе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8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утинная однообразная работа через определенное время нейтрализует внутреннюю мотивацию большинства сотрудников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же тех, которые не любят разнообразия. Особенно болезненно переживают отсутствие интересной, "вызывающей" работы люди творческих профессий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другом случае, демотивирующей оказывается работа, которая структурирована таким образом, что конечный результат виден только в конце длинного отрезка времени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Может пройти несколько лет до того момента, когда сотрудник увидит свои результаты. Не у каждого хватит терпения и настойчивости работать без результатов в течение такого длительного срока. Человек может сойти с дистанции на половине пути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сотрудников "рутинной" сферы создавайте время от времени проекты - краткосрочные задачи, часто в смежных со специализацией сотрудника областях. Для долгосрочных проектов - всегда разделяйте их на "ощутимые" этапы, активно артикулируйте промежуточные результаты, и, конечно, поощряйте их.</a:t>
            </a:r>
            <a:r>
              <a:rPr b="0" lang="ru-RU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признания достижений и результатов со стороны руководства и коллег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, в организации не принято замечать достижений сотрудников или  руководство сильно завышает критерии оценки результатов работы сотрудник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дуйтесь "победам" Ваших сотрудников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яйте 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же за малые достижения, возможно, не всегда финансово, но зато всегд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м одобрением и поддержкой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тсутствие изменений в статусе сотрудник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24000" y="1628280"/>
            <a:ext cx="849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е ограничения являются наиболее распространенной причиной замедления и остановки карьерного рост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очнее сказать, изменения статуса сотрудника в организации, дающего полномочия, власть, возможность решать новые задачи и расти.  Это усугубляется ситуацией, когда на привлекательные позиции приглашают «варягов» 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этом случае целесообразно использовать различные приемы изменения статуса без изменения должности, например, руководство временным проектом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832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Советы  по нефинансовому поощрени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50560" y="549000"/>
            <a:ext cx="8569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лыб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свободного от работы времен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ресный проект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рс (программа) обучени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рытк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град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чок (брошь, галстук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ниг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илеты в теат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мплимен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ая оценка эффективности и качества рабо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щение за консультацией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работы с высокой степенью ответственност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над личным проекто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уск ко всем видам оборудования (техники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ровести презентацию работы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осетить семинар (конференцию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6. Кадровый аудит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 на анализ и оценку эффективности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оводится руководителем с использованием определенных методов и инструмент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озволяет выявить сильные и слабые места в управлении людьми в организац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Методы кадрового аудит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человеческих ресурс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ос персонала (анкетирование, интервью, собеседование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блюд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а результатов деятельности (аттестация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 процессов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Calibri"/>
              </a:rPr>
              <a:t>Структура занятых 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446868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1332000" y="1628640"/>
          <a:ext cx="6788160" cy="4386240"/>
        </p:xfrm>
        <a:graphic>
          <a:graphicData uri="http://schemas.openxmlformats.org/drawingml/2006/table">
            <a:tbl>
              <a:tblPr/>
              <a:tblGrid>
                <a:gridCol w="2232000"/>
                <a:gridCol w="885600"/>
                <a:gridCol w="917640"/>
                <a:gridCol w="917640"/>
                <a:gridCol w="917640"/>
                <a:gridCol w="917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тегория занят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персонал – педагоги (производствен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й персонал (непроизводственный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34"/>
          <p:cNvSpPr/>
          <p:nvPr/>
        </p:nvSpPr>
        <p:spPr>
          <a:xfrm>
            <a:off x="493560" y="69120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ная структура (в % к численност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57200" y="1700280"/>
          <a:ext cx="8229600" cy="4392720"/>
        </p:xfrm>
        <a:graphic>
          <a:graphicData uri="http://schemas.openxmlformats.org/drawingml/2006/table">
            <a:tbl>
              <a:tblPr/>
              <a:tblGrid>
                <a:gridCol w="2878200"/>
                <a:gridCol w="1069920"/>
                <a:gridCol w="1069920"/>
                <a:gridCol w="1071720"/>
                <a:gridCol w="1069920"/>
                <a:gridCol w="106992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ж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-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Нижний колонтитул 3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описывает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ми компания видит (или хочет видеть) своих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тношении организационных стандартов и личностного характер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ознагражде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найм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бласти развития персонала и карье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стабильности кадрового состав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оценки достижен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21"/>
          <p:cNvSpPr/>
          <p:nvPr/>
        </p:nvSpPr>
        <p:spPr>
          <a:xfrm>
            <a:off x="-146160" y="6096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39"/>
          <p:cNvSpPr/>
          <p:nvPr/>
        </p:nvSpPr>
        <p:spPr>
          <a:xfrm>
            <a:off x="1749960" y="685800"/>
            <a:ext cx="5729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ая структур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971640" y="1628640"/>
          <a:ext cx="7200720" cy="4033800"/>
        </p:xfrm>
        <a:graphic>
          <a:graphicData uri="http://schemas.openxmlformats.org/drawingml/2006/table">
            <a:tbl>
              <a:tblPr/>
              <a:tblGrid>
                <a:gridCol w="3060720"/>
                <a:gridCol w="828720"/>
                <a:gridCol w="826920"/>
                <a:gridCol w="828720"/>
                <a:gridCol w="826920"/>
                <a:gridCol w="8287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ое 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ченное 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или доктор на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5"/>
          <p:cNvSpPr/>
          <p:nvPr/>
        </p:nvSpPr>
        <p:spPr>
          <a:xfrm>
            <a:off x="2239920" y="103932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персонал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57200" y="1916280"/>
          <a:ext cx="8229600" cy="420984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аж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1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Нижний колонтитул 3"/>
          <p:cNvSpPr/>
          <p:nvPr/>
        </p:nvSpPr>
        <p:spPr>
          <a:xfrm>
            <a:off x="3124080" y="6245280"/>
            <a:ext cx="418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26"/>
          <p:cNvSpPr/>
          <p:nvPr/>
        </p:nvSpPr>
        <p:spPr>
          <a:xfrm>
            <a:off x="2537640" y="764280"/>
            <a:ext cx="395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причин текучест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457200" y="1484280"/>
          <a:ext cx="8229600" cy="468000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чина уволь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ие условия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терес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перспектив ро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ая компен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езд в другое мес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490"/>
          <p:cNvSpPr/>
          <p:nvPr/>
        </p:nvSpPr>
        <p:spPr>
          <a:xfrm>
            <a:off x="1980360" y="829080"/>
            <a:ext cx="5241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честь кадров, абсентеиз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организационная мобильность (в 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57200" y="2060640"/>
          <a:ext cx="8229600" cy="343368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честь кад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енте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организационная моби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2" name="Нижний колонтитул 3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15"/>
          <p:cNvSpPr/>
          <p:nvPr/>
        </p:nvSpPr>
        <p:spPr>
          <a:xfrm>
            <a:off x="684360" y="476280"/>
            <a:ext cx="777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ержки на профессиональ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одная табл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457200" y="1413000"/>
          <a:ext cx="8229600" cy="4609800"/>
        </p:xfrm>
        <a:graphic>
          <a:graphicData uri="http://schemas.openxmlformats.org/drawingml/2006/table">
            <a:tbl>
              <a:tblPr/>
              <a:tblGrid>
                <a:gridCol w="3449520"/>
                <a:gridCol w="954360"/>
                <a:gridCol w="957240"/>
                <a:gridCol w="955440"/>
                <a:gridCol w="957240"/>
                <a:gridCol w="95580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бучение (в руб.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издержек в объеме реализации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ин час обучения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ного сотрудника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сотрудников, прошедших обучение (в 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число часов обучения на одного сотрудника (час за пери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Нижний колонтитул 3"/>
          <p:cNvSpPr/>
          <p:nvPr/>
        </p:nvSpPr>
        <p:spPr>
          <a:xfrm>
            <a:off x="3124080" y="6245280"/>
            <a:ext cx="4832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7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900000" y="1557360"/>
          <a:ext cx="7559640" cy="462132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20720">
                <a:tc>
                  <a:txBody>
                    <a:bodyPr lIns="25560" rIns="25560" tIns="0" bIns="0" anchor="t">
                      <a:noAutofit/>
                    </a:bodyPr>
                    <a:p>
                      <a:pPr marL="14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ывающая миссия/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Может ли ваша компания (организация) определить свою миссию/цель)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Является ли некоммерческая часть вашей миссии открыто сформулированн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зволяется ли персоналу в рабочее время заниматься деятельностью, связанной с этой особой миссией компан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344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ценивают ли менеджеров компании по достижениям, связанным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ожет ли ваша организация открыто связывать свой коммерческий успех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900000" y="1557360"/>
          <a:ext cx="7559640" cy="486900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82640">
                <a:tc>
                  <a:txBody>
                    <a:bodyPr lIns="25560" rIns="2556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еделение лидерства и влияния</a:t>
                      </a:r>
                      <a:r>
                        <a:rPr b="1" lang="ru-RU" sz="2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уют ли ваши сотрудники в определении стратегий своих подразделен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иветствуется ли и обеспечивается ли фондами и поддержкой новые идеи сотрудников организации всех уровн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уществуют ли программы или возможности для консультирования сотрудников их руководителями в вопросах предпринимательства 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89200"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ли ли вы какую-либо организационную единицу, поддерживающую эти инициативы, например, группы внутреннего венчурного капитала или лаборатори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становили ли вы ротационное лидерство в каком-либо из ваших подразделений, проектов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50920" y="1557360"/>
          <a:ext cx="8208720" cy="4968720"/>
        </p:xfrm>
        <a:graphic>
          <a:graphicData uri="http://schemas.openxmlformats.org/drawingml/2006/table">
            <a:tbl>
              <a:tblPr/>
              <a:tblGrid>
                <a:gridCol w="6861240"/>
                <a:gridCol w="1347480"/>
              </a:tblGrid>
              <a:tr h="45720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Разделение успе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85680">
                <a:tc>
                  <a:txBody>
                    <a:bodyPr lIns="25560" rIns="25560" tIns="0" bIns="0" anchor="t">
                      <a:noAutofit/>
                    </a:bodyPr>
                    <a:p>
                      <a:pPr marL="47772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т ли вознаграждение ваших сотрудников от результатов работы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772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4168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Позволяете ли вы сотрудникам исследовать возможности заработать за пределами вашей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92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Если сотрудник уйдет, чтобы использовать другие возможности заработать, а потом захочет вернуться, примет ли его ваша компа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5240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едоставляет ли ваша организация финансовую поддержку, например венчурный капитал, сотрудникам, которые хотят начать новый бизне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9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зрешается ли сотрудникам участвовать в дополнительных видах деятельности, позволяющих им добиваться индивидуального признания и вознагражд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 за  внимание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7:07:15Z</dcterms:created>
  <dc:creator>Кафедра менеджмента</dc:creator>
  <dc:description/>
  <dc:language>en-US</dc:language>
  <cp:lastModifiedBy>Дир.ин-та Гайнутдинова</cp:lastModifiedBy>
  <dcterms:modified xsi:type="dcterms:W3CDTF">2011-06-23T12:00:46Z</dcterms:modified>
  <cp:revision>95</cp:revision>
  <dc:subject/>
  <dc:title>Управление персонал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Гайнутдинова Людмила Ивановна</vt:lpwstr>
  </property>
  <property fmtid="{D5CDD505-2E9C-101B-9397-08002B2CF9AE}" pid="5" name="display_urn:schemas-microsoft-com:office:office#Editor">
    <vt:lpwstr>Гайнутдинова Людмила Ивановна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