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262D-DA34-4CC6-9444-4C94B37B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4788-7A7E-4E96-894B-D6909FA1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F2F0-E0F3-4B22-993D-801C595C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BB96-B0F5-47D2-BB4E-C3729D29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45BD-9874-432F-B686-1B51E24E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8DBA-7D3E-4874-91C9-E2DFCF8C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9F92-11D0-4F0E-8825-BA145B2E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87E5-011D-4170-A5F3-02340192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86B2-95D2-42D1-8A14-0C6D7639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E0A3-A372-4AE9-A60C-BCAC145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65AE-4538-4841-9F3F-BCD2F44C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A560-1E57-47E4-A3F7-356EAF1D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4929-038A-48AA-985A-18A14644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9789-FB6C-48DA-B5A1-01AA256F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7723-F102-4982-9BE5-556D4064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7DFC-263B-40CD-8805-87593F06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4E1E-ED3D-4B74-B8E1-613D17CC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C096-49C6-4101-8A85-09845C5F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5191-A473-4649-842B-02285CD3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232B4-4D88-4F26-9C9D-5BA852E5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AED7-FF4E-4BC9-8A0A-D8ACDC19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9519-AA36-4EB3-AEBA-3ED9C0CD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3298-B037-4812-8A85-6C513577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D2AE-D999-4B69-BDA2-487C7244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AA8A-40E9-412E-A14D-90868D0DC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C96A-DE6C-4270-A92C-9270984A3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ФУНКЦИИ УПРАВЛЕНИЯ И ИХ ВЗАИМОСВЯЗЬ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866920" y="4266720"/>
            <a:ext cx="3124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енко Е.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урс «Основы менеджмент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гноз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это взгляд в будущее, оценка возможных путей развития, последствий тех или иных решений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лан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же - это разработка последовательности действий, позволяющей достигнуть желаемого. В работе менеджера они тесно связ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чему прогнозировать слож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огда прогноз основан на хорошо изученных закономерностях и осуществляется наверня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ако встающие перед менеджером проблемы прогнозирования обычно не позволяют дать однозначный обоснованный прогноз. Почему же остается неопределен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недостаточными знаниями о природе (например, нам неизвестен точный объем полезных ископаемых в конкретном месторождении, а потому мы не можем точно предсказать развитие добывающей промышленности и объем налоговых поступлений от ее предприят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 природных явлений, таких, как погода, влияющая на урожайность, на затраты на отопление, на туризм, на загрузку транспортных путей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ределенности, связанные с осуществлением действующих (неожиданные аварии) и проектируемых (возможные ошибки разработчиков или физическая невозможность осуществления процесса, которую заранее не удалось предсказать) технологически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возможные неопределенности связаны с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ближайшим окружением фир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менеджер которой занимается прогнозирова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деятельностью участников экономической жизни (прежде всего партнеров и конкурентов нашей фирмы), в частности, с их деловой активностью, финансовым положением, соблюдением обязательст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социальными и административными факторами в конкретных регионах, в которых наша фирма имеет деловые интере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ое значение имеют и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определенности на уровн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 час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ь будущей рыночной ситуации в стране, в том числе отсутствие достоверной информации о будущих действиях поставщиков в связи с меняющимися предпочтениями потреби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связанные с колебаниями цен (динамикой инфляции), нормы процента, валютных курсов и других макроэкономических показате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неопределенности, порожденные нестабильностью законодательства и текущей экономической политики (т.е. с деятельностью руководства страны, министерств и ведомств), связанные с политической ситуацией, действиями партий, профсоюзов, экологических и других организаций в масштабе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рименении метода сценариев необходимо осуществить два этапа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строение исчерпывающего, но обозримого набора сценари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гнозирование в рамках каждого конкретного сценария с целью получения ответов на интересующие менеджер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 сценарного под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просыпаясь утром, ленивый и недобросовестный менеджер может рассмотреть несколько сценариев своего поведения (шутка 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йти на раб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 без всяких объяс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статься дома, сославшись на болез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звонить вышестоящему менеджеру и сообщить о том, что надо отправляться на переговоры, а самому остаться дома,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огнозировать развитие событий в каждом из этих сценариев предоставляем В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Ю.Ор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ология планирования хорошо разработана и постоянно используется. Исходя из миссии и основных принципов фирмы, отвечающих на вопрос "Зачем?", формулируютс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ратегические 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казывающие, что делать в целом. Затем они конкретизируются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да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те - до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нкретных зад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Далее подсчитываются необходимы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сур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материальные, финансовые, кадровые, временные - и при необходимости пересматриваются задания, задачи и цели. В результате получают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ально осуществимый п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Очень важно, что необходимы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зер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лучай непредвиденных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еполаган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формулировка целе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го именно вы (или ваша фирма) хотите достичь? Это - самый трудный этап. Его нельзя формализовать. Личность менеджера проявляется именно в том, какие цели он став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2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бор, анализ и оценка способов достижения поставленных целей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можно действовать разными способами. Какой из них представляется наилучшим? Какие можно сразу отбросить как нецелесообразн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еречня необходимых действи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конкретно нужно сделать, чтобы осуществить выбранный на предыдущем этапе вариант достижения поставленных целе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тап 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ление программы работ (плана мероприятий)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м порядке лучше всего выполнять намеченные на предыдущем этапе действия, учитывая, что многие из них связаны между собой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емь этапов в процессе планирован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5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есурсо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материальные, финансовые, информационные, кадровые ресурсы понадобятся для реализации плана? Сколько времени уйдет на его выполн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6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нализ разработанного варианта план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шает ли разработанный план поставленные на этапе 1 задачи? Являются ли затраты ресурсов приемлемыми? Есть ли соображения по улучшению плана, возникшие в ходе его разработки при движении от этапа 2 к этапу 5? Возможно, целесообразно вернуться к этапу 2 или 3, или даже к этапу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7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дготовка детального плана действ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еобходимо детализировать разработанный на предыдущих этапах план, выбрать согласованные между собой сроки выполнения отдельных работ, рассчитать необходимые ресурсы. Кто будет отвечать за отдельные участки раб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тап 8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троль за выполнением плана, внесение необходимых изменений в случае необходим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ь как функцию менеджмента обсудим в одном из дальнейших разделов настоящей гл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здание организационных структур как функция менедж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у функцию менеджмента превосходно выразил великий полководец А.В.Суворов: "Каждый солдат должен знать свой маневр". Не надо удивляться, что мы цитируем генерала. Эффективность управления в армии выявляется самым жестким образом - в борьбе с врагом. Если офицер не сумел организовать своих подчиненных в согласованно действующую боевую единицу - он погибает вместе со своей командой. Для обычного менеджера ситуация лучше - в крайнем случае разорится его фир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каждый сотрудник фирмы должен знать, что ему надо делать в той или иной ситуации. Лишь в очень маленьких организациях менеджер может сам рассказать каждому об его обязанност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ные функции управ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Управлять - значи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зировать и планировать, организовывать, руководить командой, координировать и контролировать"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ри Фай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Виды оргструкт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Жест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шта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нейно-функц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визион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ап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о-цел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л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е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сорсинг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коммуник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оцесс обмена информацией между двумя и более людьми. Благодаря коммуникациям руководители (аппарат управления) получает информацию, необходимую для принятия решений, и доводит принятые решения до работников предприятия. Если коммуникации на предприятии налажены плохо, решения могут быть ошибоч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принятия реш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выбор альтерна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выполнения функций управления менеджерам приходится принимать большое количество реш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ланировании: постановка целей, определение необходимых ресурсов, выбор способов достижения целей и задач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существлении функции организовывания: структура производства, структура управления, организация производственного процесса, вспомогательных служб и обслуживающего производства, организация труда рабочих и специалис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 мотивации включает установление и оценку неудовлетворенных потребностей, формирование целей удовлетворения потребностей, определение стимулирующих воздействий (ме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ункция контроля связана с принятием решений о том, что, когда и как контролировать, какие виды и формы контроля использовать, как анализировать полученную информацию, а также решения по осуществлению корректирующ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намизм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мизм функций выражается в необходимости их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стройки на все возрастающие изменения во внешней сред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того требуется освоение существующих методов и способов выполнения функций, использование нестандартных решений, творческого подхода к решению проб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но кибернетическому принципу Эшби, который гласит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только разнообразие может уничтожить разнообразие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ожно утверждать, что только применение разнообразных методов функционирования системы может сделать ее поведение предсказуемым, т. е. можно утверждать, что для поддержания интереса, чувства удовлетворенности сотрудников процессом и результатом труда, которые являются основой мотивации, при применении методов воздействия на поведение сотрудников необходимы новизна (для того, на кого направлено воздействие) с элементами приятной неожиданности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Чем большим диапазоном инструментов управления владеет менеджер, чем выше его понимание среды, тем эффективность функционирования предприятия выш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ункциональная структура менеджмен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2309760"/>
          <a:ext cx="748800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09760"/>
                    <a:ext cx="74880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функции у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981080"/>
            <a:ext cx="56880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функция менеджмента предполагает решение о том, какие должны быть ЦЕЛИ организации и ЧТО должны делать члены организации для достижения этих целей. По сути, это ответы на следующи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мы находимся в настоящее врем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трезво оценивать сильные  и слабые стороны организации в таких областях как финансы, маркетинг, производство, научные исследования и разработки, трудовые ресур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да мы хотим двига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при выборе направлений развития организации должны оценивать возможности и угрозы в окружающей среде (конкуренция, клиенты, законодательство, политика, экономика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        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мы собираемся это сдел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уководители должны решить как в целом, так и в частностях, что делать для достижения поставленных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труктуризация внутренних элементов организации с целью выполнения планов и достижения целей.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Создание структуры управления организацией (подбор исполнителей, делегирование заданий, наделение их полномочиями в использовании ресур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          Организация совместного выполнения установлен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создание в среде исполнителей внутренних побуждений к действиям, направленным на эффективное достижение целей орган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тро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процесс обеспечения того, что организация действительно достигает своих целей. Существуют три аспекта управленческого контроля. Первое – это установление стандартов – точное определение целей, которые должны быть достигнуты в установленный отрезок времени. Второе – это измерение того, что было действительно достигнуто в установленном отрезке времени и сравнение с ожидаемыми результатами. Третье – это принятие решений для корректировки 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язующи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нятие реш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мун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287964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2664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1:09:59Z</dcterms:created>
  <dc:creator>Елена</dc:creator>
  <dc:description/>
  <dc:language>en-US</dc:language>
  <cp:lastModifiedBy>Елена</cp:lastModifiedBy>
  <dcterms:modified xsi:type="dcterms:W3CDTF">2008-06-30T12:24:11Z</dcterms:modified>
  <cp:revision>3</cp:revision>
  <dc:subject/>
  <dc:title>ФУНКЦИИ УПРАВЛЕНИЯ И ИХ ВЗАИМОСВЯЗЬ</dc:title>
</cp:coreProperties>
</file>